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9186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9186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186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067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91860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534160" cy="23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067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3200" spc="-1" strike="noStrike">
                <a:solidFill>
                  <a:srgbClr val="0238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524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524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9520" indent="-222120">
              <a:spcBef>
                <a:spcPts val="524"/>
              </a:spcBef>
              <a:buClr>
                <a:srgbClr val="063de8"/>
              </a:buClr>
              <a:buSzPct val="55000"/>
              <a:buFont typeface="Wingdings" charset="2"/>
              <a:buChar char="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554120" indent="-2221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-2224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998720" indent="-2224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998720" indent="-2224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39400" y="6400800"/>
            <a:ext cx="86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fld id="{68ECE761-5B91-4F31-8C55-4627284F347B}" type="slidenum">
              <a:rPr b="1" lang="en-US" sz="1200" spc="-1" strike="noStrike">
                <a:solidFill>
                  <a:srgbClr val="035fd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275520"/>
            <a:ext cx="1981080" cy="582480"/>
          </a:xfrm>
          <a:prstGeom prst="rect">
            <a:avLst/>
          </a:prstGeom>
          <a:ln w="0">
            <a:noFill/>
          </a:ln>
        </p:spPr>
      </p:pic>
      <p:pic>
        <p:nvPicPr>
          <p:cNvPr id="4" name="Cnes" descr=""/>
          <p:cNvPicPr/>
          <p:nvPr/>
        </p:nvPicPr>
        <p:blipFill>
          <a:blip r:embed="rId3"/>
          <a:stretch/>
        </p:blipFill>
        <p:spPr>
          <a:xfrm>
            <a:off x="7981920" y="5994360"/>
            <a:ext cx="1162080" cy="863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0" y="640080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5f5f5f"/>
                </a:solidFill>
                <a:latin typeface="Comic Sans MS"/>
              </a:rPr>
              <a:t>Global Land Cover 2000 - Workshop  JRC - Ispra, 28-29 March 2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600" spc="-1" strike="noStrike">
                <a:solidFill>
                  <a:srgbClr val="0238c0"/>
                </a:solidFill>
                <a:latin typeface="Arial"/>
              </a:rPr>
              <a:t>VEGA 2000 :</a:t>
            </a:r>
            <a:br>
              <a:rPr sz="3600"/>
            </a:br>
            <a:r>
              <a:rPr b="1" lang="en-GB" sz="3600" spc="-1" strike="noStrike">
                <a:solidFill>
                  <a:srgbClr val="0238c0"/>
                </a:solidFill>
                <a:latin typeface="Arial"/>
              </a:rPr>
              <a:t>VEGETATION data for the </a:t>
            </a:r>
            <a:br>
              <a:rPr sz="3600"/>
            </a:br>
            <a:r>
              <a:rPr b="1" lang="en-GB" sz="3600" spc="-1" strike="noStrike">
                <a:solidFill>
                  <a:srgbClr val="0238c0"/>
                </a:solidFill>
                <a:latin typeface="Arial"/>
              </a:rPr>
              <a:t>Millennium Ecosystem Assessment Initiative</a:t>
            </a:r>
            <a:endParaRPr b="1" lang="en-US" sz="36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6480" y="56800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. Jeanjean, C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Broad context of VEGA 2000 and relationships between initiatives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3276720"/>
            <a:ext cx="3352680" cy="642600"/>
          </a:xfrm>
          <a:prstGeom prst="rect">
            <a:avLst/>
          </a:prstGeom>
          <a:noFill/>
          <a:ln w="1260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238c0"/>
                </a:solidFill>
                <a:latin typeface="Comic Sans MS"/>
              </a:rPr>
              <a:t>Millennium Ecosystem Assessment (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4419720"/>
            <a:ext cx="335268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Global Land Co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(GLC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6737040" y="4006800"/>
            <a:ext cx="1828800" cy="368280"/>
          </a:xfrm>
          <a:prstGeom prst="rect">
            <a:avLst/>
          </a:prstGeom>
          <a:noFill/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cc"/>
                </a:solidFill>
                <a:latin typeface="Comic Sans MS"/>
              </a:rPr>
              <a:t>VEGA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81280" y="1905120"/>
            <a:ext cx="3353040" cy="914400"/>
            <a:chOff x="3581280" y="1905120"/>
            <a:chExt cx="3353040" cy="914400"/>
          </a:xfrm>
        </p:grpSpPr>
        <p:sp>
          <p:nvSpPr>
            <p:cNvPr id="49" name=""/>
            <p:cNvSpPr/>
            <p:nvPr/>
          </p:nvSpPr>
          <p:spPr>
            <a:xfrm>
              <a:off x="3581280" y="2057400"/>
              <a:ext cx="335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238c0"/>
                  </a:solidFill>
                  <a:latin typeface="Comic Sans MS"/>
                </a:rPr>
                <a:t>International initi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238c0"/>
                  </a:solidFill>
                  <a:latin typeface="Comic Sans MS"/>
                </a:rPr>
                <a:t>(WRI, FAO, WCMC, UNEP…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33920" y="1905120"/>
              <a:ext cx="3124080" cy="91440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029200" y="28195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4812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1120" y="5562720"/>
            <a:ext cx="2361960" cy="685800"/>
            <a:chOff x="4191120" y="5562720"/>
            <a:chExt cx="2361960" cy="685800"/>
          </a:xfrm>
        </p:grpSpPr>
        <p:sp>
          <p:nvSpPr>
            <p:cNvPr id="54" name=""/>
            <p:cNvSpPr/>
            <p:nvPr/>
          </p:nvSpPr>
          <p:spPr>
            <a:xfrm>
              <a:off x="4343400" y="57913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Comic Sans MS"/>
                </a:rPr>
                <a:t>JRC initi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1120" y="5562720"/>
              <a:ext cx="2361960" cy="68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181480" y="518148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066680"/>
            <a:ext cx="2971800" cy="155412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Comic Sans MS"/>
              </a:rPr>
              <a:t>Human development relies on ecosystem </a:t>
            </a:r>
            <a:r>
              <a:rPr b="0" lang="en-GB" sz="1600" spc="-1" strike="noStrike" u="sng">
                <a:solidFill>
                  <a:srgbClr val="00ae00"/>
                </a:solidFill>
                <a:uFillTx/>
                <a:latin typeface="Comic Sans MS"/>
              </a:rPr>
              <a:t>goods</a:t>
            </a:r>
            <a:r>
              <a:rPr b="0" lang="en-GB" sz="1600" spc="-1" strike="noStrike">
                <a:solidFill>
                  <a:srgbClr val="00ae00"/>
                </a:solidFill>
                <a:latin typeface="Comic Sans MS"/>
              </a:rPr>
              <a:t> (food, timber, genetic resources…) and </a:t>
            </a:r>
            <a:r>
              <a:rPr b="0" lang="en-GB" sz="1600" spc="-1" strike="noStrike" u="sng">
                <a:solidFill>
                  <a:srgbClr val="00ae00"/>
                </a:solidFill>
                <a:uFillTx/>
                <a:latin typeface="Comic Sans MS"/>
              </a:rPr>
              <a:t>services</a:t>
            </a:r>
            <a:r>
              <a:rPr b="0" lang="en-GB" sz="1600" spc="-1" strike="noStrike">
                <a:solidFill>
                  <a:srgbClr val="00ae00"/>
                </a:solidFill>
                <a:latin typeface="Comic Sans MS"/>
              </a:rPr>
              <a:t> (water purification, biodiversity conservation, flood control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343400"/>
            <a:ext cx="2590920" cy="1797480"/>
          </a:xfrm>
          <a:prstGeom prst="rect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Comic Sans MS"/>
              </a:rPr>
              <a:t>Capacity of ecosystems to produce goods and services threatened by human-induced changes (CO² concentration, global mean T°, changes of land cover…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2666880"/>
            <a:ext cx="2590920" cy="1676160"/>
            <a:chOff x="457200" y="2666880"/>
            <a:chExt cx="2590920" cy="1676160"/>
          </a:xfrm>
        </p:grpSpPr>
        <p:sp>
          <p:nvSpPr>
            <p:cNvPr id="60" name=""/>
            <p:cNvSpPr/>
            <p:nvPr/>
          </p:nvSpPr>
          <p:spPr>
            <a:xfrm>
              <a:off x="457200" y="2971440"/>
              <a:ext cx="2590920" cy="106740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ae00"/>
                  </a:solidFill>
                  <a:latin typeface="Comic Sans MS"/>
                </a:rPr>
                <a:t>International awareness: implementation of conventions such as FCCC, CCD, 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7920" y="2666880"/>
              <a:ext cx="38088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523880" y="4038480"/>
              <a:ext cx="38124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05520" y="39625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7048440" y="453384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rot="5400000">
            <a:off x="7048440" y="339084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810560" y="392436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G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8358800">
            <a:off x="7124760" y="2019240"/>
            <a:ext cx="914400" cy="380880"/>
          </a:xfrm>
          <a:prstGeom prst="leftRightArrow">
            <a:avLst>
              <a:gd name="adj1" fmla="val 50000"/>
              <a:gd name="adj2" fmla="val 47793"/>
            </a:avLst>
          </a:prstGeom>
          <a:solidFill>
            <a:srgbClr val="f4ff1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229600" y="3047760"/>
            <a:ext cx="685800" cy="2361960"/>
            <a:chOff x="8229600" y="3047760"/>
            <a:chExt cx="685800" cy="2361960"/>
          </a:xfrm>
        </p:grpSpPr>
        <p:sp>
          <p:nvSpPr>
            <p:cNvPr id="70" name=""/>
            <p:cNvSpPr/>
            <p:nvPr/>
          </p:nvSpPr>
          <p:spPr>
            <a:xfrm rot="16200000">
              <a:off x="7524360" y="39560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00cc"/>
                  </a:solidFill>
                  <a:latin typeface="Comic Sans MS"/>
                </a:rPr>
                <a:t>VGT Programme initi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7391520" y="3885840"/>
              <a:ext cx="2361960" cy="685800"/>
            </a:xfrm>
            <a:prstGeom prst="ellipse">
              <a:avLst/>
            </a:prstGeom>
            <a:noFill/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Closely linked objectives and activities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VEGA 2000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ibution of the VEGETATION programme to the MA and to the GLC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Arial"/>
              </a:rPr>
              <a:t>offering the scientific community the opportunity to make use of VG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c0128"/>
                </a:solidFill>
                <a:latin typeface="Arial"/>
              </a:rPr>
              <a:t>through a free access to global VEGETATION daily composites (S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lobal Land Cover 2000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ibution to the Millennium Ecosystem Assessment (MA) initiative and to the international con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tion of a VEGETATION-derived global land cover map for year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illennium Ecosystem Assessment (MA)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ng the needs of international con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ssment of the ecosystem extent, trends, pressures, conditions and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of scenarios on ecosystem change and trade-off between good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position of response op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2133720"/>
            <a:ext cx="457200" cy="1143000"/>
          </a:xfrm>
          <a:custGeom>
            <a:avLst/>
            <a:gdLst>
              <a:gd name="textAreaLeft" fmla="*/ 61200 w 457200"/>
              <a:gd name="textAreaRight" fmla="*/ 396000 w 4572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05920" y="3505320"/>
            <a:ext cx="457200" cy="1066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The VEGA 2000 dataset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ataset description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 daily global data at full resolution (1 Km) for the period November 1st, 1999 - December 31st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ion : only in “plate carrée” (lat / long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are delivered either as global dataset or as pre-defined regional windows, either for the entire period of by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5345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The procedure for implementing VEGA 2000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cessibility of the datas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are provided on CD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have been purchased by the partners of the VEGETATION programme and are charged only the cost for media and expedition to the scientific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nnouncement of opportun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s opened from June to September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sibility for a second opportunity in 2001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clusively open for scientific teams and equivalent non-profit organisations that should be in compliance with a number of criteria (objectives of the project, global perspective, peer-reviewed project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ata use agre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cientific teams must accept the conditions by signing the agreement on the terms and conditions to use VEGETATION data within the VEGA 2000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Status of VEGA 2000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7 proposals from 15 European teams, 6 African and Middle East, 3 American, 2 Canadian and 1 Chine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0 proposals selected by the evaluation Committe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2 confirm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5 in progr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 no ne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476"/>
              </a:spcBef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476"/>
              </a:spcBef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ore than 13 000 CD ROM to b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476"/>
              </a:spcBef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elivered 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14800" y="3171960"/>
            <a:ext cx="47782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3200" spc="-1" strike="noStrike">
                <a:solidFill>
                  <a:srgbClr val="0238c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xpected outcomes of VEGA 2000 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ion of global map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i.e. land cover and burnt area maps, with specific reference to the implementation and control of the international conventions (UNFCCC, CCD, C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ther research resul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e.g. on a comparison procedure between VEGETATION-2000 data and historical AVHRR data (IGBP map 199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blicatio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appropriate jou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engthened partnersh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tween international programmes and fora such as IGBP, GOFC, LUCC…for the use of VEGET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476"/>
              </a:spcBef>
              <a:buClr>
                <a:srgbClr val="ef9100"/>
              </a:buClr>
              <a:buFont typeface="Wingdings" charset="2"/>
              <a:buChar char="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nother initiative that can be helpful for GLC 2000 : IS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OT data at low cost : 100 EUR/scene (500 EUR/programming requ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European scientific research and GMES demonstration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400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e at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</a:rPr>
              <a:t>http://medias.obs-mip.fr/isi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dalities, licence agreement, request form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8T20:40:05Z</dcterms:created>
  <dc:creator>CNES</dc:creator>
  <dc:description/>
  <dc:language>en-US</dc:language>
  <cp:lastModifiedBy>etienne</cp:lastModifiedBy>
  <cp:lastPrinted>1999-07-06T10:50:06Z</cp:lastPrinted>
  <dcterms:modified xsi:type="dcterms:W3CDTF">2001-05-07T13:24:33Z</dcterms:modified>
  <cp:revision>68</cp:revision>
  <dc:subject/>
  <dc:title>L’observation spatiale de la Terre</dc:title>
</cp:coreProperties>
</file>