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6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B86-F386-4BB6-87EE-87B0156D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480" y="4033080"/>
            <a:ext cx="857700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720-6D14-4BE8-A94B-616D547F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360" y="127764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480" y="403308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360" y="403308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CD1-D0AF-4811-890D-3DA7A728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27615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640" y="1277640"/>
            <a:ext cx="27615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5440" y="1277640"/>
            <a:ext cx="27615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480" y="4033080"/>
            <a:ext cx="27615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640" y="4033080"/>
            <a:ext cx="27615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5440" y="4033080"/>
            <a:ext cx="27615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3F6-1F1A-428B-8F7C-34AA36E0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1B1-041F-46F8-8767-2D46202E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133-257F-48EA-9D52-9D7B521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418536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360" y="1277640"/>
            <a:ext cx="418536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547-2727-4995-83DB-8AFD0D57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339-13D2-4D26-9A87-B78C007C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01720" y="37800"/>
            <a:ext cx="6260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8BD-C424-4ACD-9CE0-6D5E73F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360" y="1277640"/>
            <a:ext cx="418536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480" y="403308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A24-80D7-45FC-98F8-F5BE9B35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418536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360" y="127764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360" y="403308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266-2E87-4B13-89D4-42C1258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360" y="1277640"/>
            <a:ext cx="418536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480" y="4033080"/>
            <a:ext cx="8577000" cy="251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0F9-DE19-4442-BE94-3C0CDF1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63de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63de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63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63de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63de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893741-BA63-43D8-A6F4-CA165BE0F1FC}" type="slidenum">
              <a:rPr b="0" lang="fr-FR" sz="1400" spc="-1" strike="noStrike">
                <a:solidFill>
                  <a:srgbClr val="063de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1" marL="639720" indent="-26496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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2" marL="1028880" indent="-2494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3" marL="130824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4" marL="163656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.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5" marL="163656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.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6" marL="1636560" indent="-1396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.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" name="logogs" descr=""/>
          <p:cNvPicPr/>
          <p:nvPr/>
        </p:nvPicPr>
        <p:blipFill>
          <a:blip r:embed="rId2"/>
          <a:stretch/>
        </p:blipFill>
        <p:spPr>
          <a:xfrm>
            <a:off x="192240" y="171360"/>
            <a:ext cx="210168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sz="2900" spc="-1" strike="noStrike">
                <a:solidFill>
                  <a:srgbClr val="063de8"/>
                </a:solidFill>
                <a:latin typeface="Arial"/>
              </a:rPr>
              <a:t>WP 1 : Improvements of products and services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Autofit/>
          </a:bodyPr>
          <a:p>
            <a:pPr indent="0" algn="ct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sz="1900" spc="-1" strike="noStrike">
                <a:solidFill>
                  <a:srgbClr val="063de8"/>
                </a:solidFill>
                <a:latin typeface="Arial"/>
              </a:rPr>
              <a:t>Cloud and cloud shadow detection : VITO</a:t>
            </a:r>
            <a:br>
              <a:rPr sz="1900"/>
            </a:br>
            <a:br>
              <a:rPr sz="1900"/>
            </a:br>
            <a:r>
              <a:rPr b="1" sz="1900" spc="-1" strike="noStrike">
                <a:solidFill>
                  <a:srgbClr val="063de8"/>
                </a:solidFill>
                <a:latin typeface="Arial"/>
              </a:rPr>
              <a:t>Atmospheric correction : CESBIO</a:t>
            </a:r>
            <a:br>
              <a:rPr sz="1900"/>
            </a:br>
            <a:br>
              <a:rPr sz="1900"/>
            </a:br>
            <a:r>
              <a:rPr b="1" sz="1900" spc="-1" strike="noStrike">
                <a:solidFill>
                  <a:srgbClr val="063de8"/>
                </a:solidFill>
                <a:latin typeface="Arial"/>
              </a:rPr>
              <a:t>Bidirectional effects correction : CESBIO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4120" y="593892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63de8"/>
                </a:solidFill>
                <a:latin typeface="Arial"/>
              </a:rPr>
              <a:t>All material extracted from presentations in Belgirate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2760" y="636264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Times New Roman"/>
              </a:rPr>
              <a:t>G. Saint, CNES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53160" y="577584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Three Level Cloud Mask (Future)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8660" t="0" r="13438" b="2735"/>
          <a:stretch/>
        </p:blipFill>
        <p:spPr>
          <a:xfrm>
            <a:off x="5029200" y="1752480"/>
            <a:ext cx="320040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9398" t="0" r="12700" b="2735"/>
          <a:stretch/>
        </p:blipFill>
        <p:spPr>
          <a:xfrm>
            <a:off x="914400" y="1752480"/>
            <a:ext cx="3200400" cy="350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2280" y="5653440"/>
            <a:ext cx="40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B3 channel of SPOT4-VEGETATION image of the Amazon, Venezuela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2280" y="1202400"/>
            <a:ext cx="81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Evolution of the cloud mask (3)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6680" y="1219320"/>
            <a:ext cx="6259680" cy="1371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0600" y="3428640"/>
            <a:ext cx="837108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-2332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P1.1.2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Improvement of  atmospheric corrections through a better evaluation of the aerosol content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31" name="cesbio2" descr=""/>
          <p:cNvPicPr/>
          <p:nvPr/>
        </p:nvPicPr>
        <p:blipFill>
          <a:blip r:embed="rId1"/>
          <a:stretch/>
        </p:blipFill>
        <p:spPr>
          <a:xfrm>
            <a:off x="8018640" y="6019920"/>
            <a:ext cx="844200" cy="5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25000" y="1752120"/>
            <a:ext cx="752652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063de8"/>
              </a:buClr>
              <a:buFont typeface="symbol" charset="2"/>
              <a:buChar char=""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63de8"/>
                </a:solidFill>
                <a:latin typeface="Arial"/>
              </a:rPr>
              <a:t>toa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= t</a:t>
            </a:r>
            <a:r>
              <a:rPr b="0" i="1" lang="en-US" sz="2000" spc="-1" strike="noStrike" baseline="-25000">
                <a:solidFill>
                  <a:srgbClr val="063de8"/>
                </a:solidFill>
                <a:latin typeface="Arial"/>
              </a:rPr>
              <a:t>g *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[ 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63de8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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)+ T(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,</a:t>
            </a:r>
            <a:r>
              <a:rPr b="1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)*T(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v,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)*</a:t>
            </a:r>
            <a:r>
              <a:rPr b="1" i="1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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63de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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)/(1 - </a:t>
            </a:r>
            <a:r>
              <a:rPr b="1" i="1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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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)*s)]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14520" indent="-216000">
              <a:lnSpc>
                <a:spcPct val="110000"/>
              </a:lnSpc>
              <a:spcBef>
                <a:spcPts val="901"/>
              </a:spcBef>
              <a:buClr>
                <a:srgbClr val="063de8"/>
              </a:buClr>
              <a:buFont typeface="ZapfDingbats" charset="2"/>
              <a:buChar char=""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800" spc="-1" strike="noStrike">
                <a:solidFill>
                  <a:srgbClr val="063de8"/>
                </a:solidFill>
                <a:latin typeface="Arial"/>
              </a:rPr>
              <a:t>H2O outputs of a meteorological Model (ARPEGE)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614520" indent="-216000">
              <a:lnSpc>
                <a:spcPct val="100000"/>
              </a:lnSpc>
              <a:spcBef>
                <a:spcPts val="901"/>
              </a:spcBef>
              <a:buClr>
                <a:srgbClr val="063de8"/>
              </a:buClr>
              <a:buFont typeface="ZapfDingbats" charset="2"/>
              <a:buChar char=""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800" spc="-1" strike="noStrike">
                <a:solidFill>
                  <a:srgbClr val="063de8"/>
                </a:solidFill>
                <a:latin typeface="Arial"/>
              </a:rPr>
              <a:t>O3 Climatology (TOMS)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614520" indent="-216000">
              <a:lnSpc>
                <a:spcPct val="100000"/>
              </a:lnSpc>
              <a:spcBef>
                <a:spcPts val="901"/>
              </a:spcBef>
              <a:buClr>
                <a:srgbClr val="063de8"/>
              </a:buClr>
              <a:buFont typeface="ZapfDingbats" charset="2"/>
              <a:buChar char=""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800" spc="-1" strike="noStrike">
                <a:solidFill>
                  <a:srgbClr val="063de8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063de8"/>
                </a:solidFill>
                <a:latin typeface="Arial"/>
              </a:rPr>
              <a:t>p latitudinal climatology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28404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950"/>
              </a:spcBef>
              <a:buClr>
                <a:srgbClr val="063de8"/>
              </a:buClr>
              <a:buFont typeface="Arial"/>
              <a:buChar char="•"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900" spc="-1" strike="noStrike">
                <a:solidFill>
                  <a:srgbClr val="063de8"/>
                </a:solidFill>
                <a:latin typeface="Arial"/>
              </a:rPr>
              <a:t>One equation by chann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950"/>
              </a:spcBef>
              <a:buClr>
                <a:srgbClr val="063de8"/>
              </a:buClr>
              <a:buFont typeface="Arial"/>
              <a:buChar char="•"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900" spc="-1" strike="noStrike">
                <a:solidFill>
                  <a:srgbClr val="063de8"/>
                </a:solidFill>
                <a:latin typeface="Arial"/>
              </a:rPr>
              <a:t>Two unknowns by equation : </a:t>
            </a:r>
            <a:r>
              <a:rPr b="1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63de8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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19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br>
              <a:rPr sz="1900"/>
            </a:br>
            <a:r>
              <a:rPr b="0" i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950"/>
              </a:spcBef>
              <a:buClr>
                <a:srgbClr val="063de8"/>
              </a:buClr>
              <a:buFont typeface="Arial"/>
              <a:buChar char="•"/>
              <a:tabLst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900" spc="-1" strike="noStrike">
                <a:solidFill>
                  <a:srgbClr val="063de8"/>
                </a:solidFill>
                <a:latin typeface="Arial"/>
              </a:rPr>
              <a:t>SOLUTION : interspectral relationship</a:t>
            </a:r>
            <a:r>
              <a:rPr b="0" i="1" lang="fr-FR" sz="1900" spc="-1" strike="noStrike">
                <a:solidFill>
                  <a:srgbClr val="063de8"/>
                </a:solidFill>
                <a:latin typeface="Arial"/>
              </a:rPr>
              <a:t> :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840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2079720"/>
                <a:tab algn="l" pos="4102200"/>
                <a:tab algn="l" pos="4673520"/>
                <a:tab algn="l" pos="657864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i="1" lang="fr-FR" sz="1900" spc="-1" strike="noStrike">
                <a:solidFill>
                  <a:srgbClr val="fc0128"/>
                </a:solidFill>
                <a:latin typeface="Arial"/>
              </a:rPr>
              <a:t>SWIR/BLUE RATIO </a:t>
            </a:r>
            <a:r>
              <a:rPr b="0" i="1" lang="fr-FR" sz="1900" spc="-1" strike="noStrike">
                <a:solidFill>
                  <a:srgbClr val="fc0128"/>
                </a:solidFill>
                <a:latin typeface="Arial"/>
              </a:rPr>
              <a:t>at the surface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4" name="cesbio2" descr=""/>
          <p:cNvPicPr/>
          <p:nvPr/>
        </p:nvPicPr>
        <p:blipFill>
          <a:blip r:embed="rId1"/>
          <a:stretch/>
        </p:blipFill>
        <p:spPr>
          <a:xfrm>
            <a:off x="8018640" y="6019920"/>
            <a:ext cx="844200" cy="530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Arial"/>
              </a:rPr>
              <a:t>A Simple Method for Atmospheric Correction </a:t>
            </a: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SMAC </a:t>
            </a: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(Rahman and Dedieu, 1994)</a:t>
            </a: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81160" y="1371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73280" y="3733920"/>
            <a:ext cx="7103880" cy="2849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400800" y="2133720"/>
            <a:ext cx="24620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63de8"/>
                </a:solidFill>
                <a:latin typeface="Arial"/>
              </a:rPr>
              <a:t>15 test sites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63de8"/>
                </a:solidFill>
                <a:latin typeface="Arial"/>
              </a:rPr>
              <a:t>(various biomes)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1160" y="1143000"/>
            <a:ext cx="5275080" cy="2560320"/>
            <a:chOff x="281160" y="1143000"/>
            <a:chExt cx="5275080" cy="2560320"/>
          </a:xfrm>
        </p:grpSpPr>
        <p:pic>
          <p:nvPicPr>
            <p:cNvPr id="140" name="s50" descr=""/>
            <p:cNvPicPr/>
            <p:nvPr/>
          </p:nvPicPr>
          <p:blipFill>
            <a:blip r:embed="rId2"/>
            <a:stretch/>
          </p:blipFill>
          <p:spPr>
            <a:xfrm>
              <a:off x="281160" y="1143000"/>
              <a:ext cx="5275080" cy="2560320"/>
            </a:xfrm>
            <a:prstGeom prst="rect">
              <a:avLst/>
            </a:prstGeom>
            <a:ln w="9360">
              <a:solidFill>
                <a:srgbClr val="063de8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>
              <a:off x="2015280" y="292536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26560" y="2196000"/>
              <a:ext cx="7200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82520" y="195300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20400" y="170964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3960" y="2925360"/>
              <a:ext cx="7200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9240" y="203400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26560" y="2115000"/>
              <a:ext cx="72000" cy="8064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54880" y="1872000"/>
              <a:ext cx="72360" cy="8064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27240" y="2034000"/>
              <a:ext cx="7200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54880" y="203400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3280" y="3006360"/>
              <a:ext cx="7200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0400" y="219600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88320" y="227700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4880" y="1953000"/>
              <a:ext cx="72360" cy="81000"/>
            </a:xfrm>
            <a:prstGeom prst="ellipse">
              <a:avLst/>
            </a:prstGeom>
            <a:solidFill>
              <a:srgbClr val="063de8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‘ </a:t>
            </a: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Actual ’ SWIR/Blue values using </a:t>
            </a:r>
            <a:br>
              <a:rPr sz="2600"/>
            </a:br>
            <a:r>
              <a:rPr b="1" lang="fr-FR" sz="2600" spc="-1" strike="noStrike">
                <a:solidFill>
                  <a:srgbClr val="063de8"/>
                </a:solidFill>
                <a:latin typeface="Arial"/>
              </a:rPr>
              <a:t>AERONET AOTs measurements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900" spc="-1" strike="noStrike">
                <a:solidFill>
                  <a:srgbClr val="063de8"/>
                </a:solidFill>
                <a:latin typeface="Arial"/>
              </a:rPr>
              <a:t>The ‘ Actual ’ SWIR/Blue relationship 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6680" y="6248520"/>
            <a:ext cx="7245360" cy="457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ratio looks NDVI dependent over green targe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320920" y="1143000"/>
            <a:ext cx="5275440" cy="4800600"/>
            <a:chOff x="2320920" y="1143000"/>
            <a:chExt cx="5275440" cy="4800600"/>
          </a:xfrm>
        </p:grpSpPr>
        <p:sp>
          <p:nvSpPr>
            <p:cNvPr id="159" name=""/>
            <p:cNvSpPr/>
            <p:nvPr/>
          </p:nvSpPr>
          <p:spPr>
            <a:xfrm>
              <a:off x="2320920" y="1143000"/>
              <a:ext cx="5275440" cy="480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390040" y="1212120"/>
              <a:ext cx="5136480" cy="4647960"/>
              <a:chOff x="2390040" y="1212120"/>
              <a:chExt cx="5136480" cy="4647960"/>
            </a:xfrm>
          </p:grpSpPr>
          <p:pic>
            <p:nvPicPr>
              <p:cNvPr id="161" name="rviccc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0040" y="1212120"/>
                <a:ext cx="2561040" cy="22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rviisp" descr=""/>
              <p:cNvPicPr/>
              <p:nvPr/>
            </p:nvPicPr>
            <p:blipFill>
              <a:blip r:embed="rId2"/>
              <a:stretch/>
            </p:blipFill>
            <p:spPr>
              <a:xfrm>
                <a:off x="4888800" y="1212120"/>
                <a:ext cx="2637720" cy="230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rvimex" descr=""/>
              <p:cNvPicPr/>
              <p:nvPr/>
            </p:nvPicPr>
            <p:blipFill>
              <a:blip r:embed="rId3"/>
              <a:stretch/>
            </p:blipFill>
            <p:spPr>
              <a:xfrm>
                <a:off x="2390040" y="3577680"/>
                <a:ext cx="263772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rvipal" descr=""/>
              <p:cNvPicPr/>
              <p:nvPr/>
            </p:nvPicPr>
            <p:blipFill>
              <a:blip r:embed="rId4"/>
              <a:stretch/>
            </p:blipFill>
            <p:spPr>
              <a:xfrm>
                <a:off x="4958280" y="3647160"/>
                <a:ext cx="2429280" cy="221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"/>
          <p:cNvSpPr/>
          <p:nvPr/>
        </p:nvSpPr>
        <p:spPr>
          <a:xfrm>
            <a:off x="4219560" y="5943600"/>
            <a:ext cx="112572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Arial"/>
              </a:rPr>
              <a:t>TOA NDVI        </a:t>
            </a:r>
            <a:endParaRPr b="0" lang="en-US" sz="16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44480" y="1277640"/>
            <a:ext cx="6431040" cy="312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bfffbf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600" spc="-1" strike="noStrike">
                <a:solidFill>
                  <a:srgbClr val="bfffbf"/>
                </a:solidFill>
                <a:latin typeface="Arial"/>
              </a:rPr>
              <a:t>RATIO=1</a:t>
            </a: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600" spc="-1" strike="noStrike">
                <a:solidFill>
                  <a:srgbClr val="bfffbf"/>
                </a:solidFill>
                <a:latin typeface="Arial"/>
              </a:rPr>
              <a:t>For NB_ITER=1 to NB_ITER=NB_ITERMAX</a:t>
            </a: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200" spc="-1" strike="noStrike">
                <a:solidFill>
                  <a:srgbClr val="bfffbf"/>
                </a:solidFill>
                <a:latin typeface="symbol"/>
                <a:ea typeface="symbol"/>
              </a:rPr>
              <a:t></a:t>
            </a:r>
            <a:r>
              <a:rPr b="1" lang="fr-FR" sz="1200" spc="-1" strike="noStrike">
                <a:solidFill>
                  <a:srgbClr val="bfffbf"/>
                </a:solidFill>
                <a:latin typeface="Arial"/>
              </a:rPr>
              <a:t>RATIO=0</a:t>
            </a: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For date=1 to date = NBDATES</a:t>
            </a:r>
            <a:endParaRPr b="1" lang="en-US" sz="1400" spc="-1" strike="noStrike">
              <a:solidFill>
                <a:srgbClr val="063de8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FIND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p_MIN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 such as [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blue_surf(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p) -  RATIO*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swir_surf(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p)] is 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minimum</a:t>
            </a: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blue_surf=SMAC(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blue_toa)</a:t>
            </a: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swir_surf=SMAC(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swir_toa)</a:t>
            </a: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ratio(date)=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swir_surf/ </a:t>
            </a: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blue_surf</a:t>
            </a: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RATIO+=ratio(date)</a:t>
            </a: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200" spc="-1" strike="noStrike">
                <a:solidFill>
                  <a:srgbClr val="bfffbf"/>
                </a:solidFill>
                <a:latin typeface="Arial"/>
              </a:rPr>
              <a:t>RATIO=</a:t>
            </a:r>
            <a:r>
              <a:rPr b="1" lang="fr-FR" sz="1200" spc="-1" strike="noStrike">
                <a:solidFill>
                  <a:srgbClr val="bfffbf"/>
                </a:solidFill>
                <a:latin typeface="symbol"/>
                <a:ea typeface="symbol"/>
              </a:rPr>
              <a:t></a:t>
            </a:r>
            <a:r>
              <a:rPr b="1" lang="fr-FR" sz="1200" spc="-1" strike="noStrike">
                <a:solidFill>
                  <a:srgbClr val="bfffbf"/>
                </a:solidFill>
                <a:latin typeface="Arial"/>
              </a:rPr>
              <a:t>RATIO / NBDATES</a:t>
            </a: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2440" y="1905120"/>
            <a:ext cx="0" cy="2438280"/>
          </a:xfrm>
          <a:prstGeom prst="line">
            <a:avLst/>
          </a:prstGeom>
          <a:ln w="38160">
            <a:solidFill>
              <a:srgbClr val="bff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2120" y="4727520"/>
            <a:ext cx="844092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ssumes a constant ratio during a time period (NBDATE)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inds the AOT time profile to fit the MEAN RATIO to the assumption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-iterates with the new ratio value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onvergent (monotonic and bounded correction of blue reflectances)</a:t>
            </a:r>
            <a:endParaRPr b="0" lang="en-US" sz="1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900" spc="-1" strike="noStrike">
                <a:solidFill>
                  <a:srgbClr val="063de8"/>
                </a:solidFill>
                <a:latin typeface="Arial"/>
              </a:rPr>
              <a:t>The iterative method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900" spc="-1" strike="noStrike">
                <a:solidFill>
                  <a:srgbClr val="063de8"/>
                </a:solidFill>
                <a:latin typeface="Arial"/>
              </a:rPr>
              <a:t>The iterative retrieval of</a:t>
            </a:r>
            <a:br>
              <a:rPr sz="2900"/>
            </a:br>
            <a:r>
              <a:rPr b="1" lang="fr-FR" sz="2900" spc="-1" strike="noStrike">
                <a:solidFill>
                  <a:srgbClr val="063de8"/>
                </a:solidFill>
                <a:latin typeface="Arial"/>
              </a:rPr>
              <a:t>the SWIR/BLUE ratio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An efficient method but computationally too expensive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ZapfDingbats" charset="2"/>
              <a:buChar char="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ZapfDingbats"/>
                <a:ea typeface="ZapfDingbats"/>
              </a:rPr>
              <a:t></a:t>
            </a: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not suitable to be implemented in the VEGETATION production line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Can be used as reference in order to calibrate another approach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Histogram analysis on the ratio distribution versus TOA NDVI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44560" y="1219320"/>
            <a:ext cx="7525440" cy="5258880"/>
            <a:chOff x="844560" y="1219320"/>
            <a:chExt cx="7525440" cy="5258880"/>
          </a:xfrm>
        </p:grpSpPr>
        <p:grpSp>
          <p:nvGrpSpPr>
            <p:cNvPr id="174" name=""/>
            <p:cNvGrpSpPr/>
            <p:nvPr/>
          </p:nvGrpSpPr>
          <p:grpSpPr>
            <a:xfrm>
              <a:off x="844560" y="1219320"/>
              <a:ext cx="7525440" cy="5258880"/>
              <a:chOff x="844560" y="1219320"/>
              <a:chExt cx="7525440" cy="5258880"/>
            </a:xfrm>
          </p:grpSpPr>
          <p:sp>
            <p:nvSpPr>
              <p:cNvPr id="175" name=""/>
              <p:cNvSpPr/>
              <p:nvPr/>
            </p:nvSpPr>
            <p:spPr>
              <a:xfrm>
                <a:off x="844560" y="1219320"/>
                <a:ext cx="7525440" cy="5257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pic>
            <p:nvPicPr>
              <p:cNvPr id="176" name="Risp04" descr=""/>
              <p:cNvPicPr/>
              <p:nvPr/>
            </p:nvPicPr>
            <p:blipFill>
              <a:blip r:embed="rId1"/>
              <a:stretch/>
            </p:blipFill>
            <p:spPr>
              <a:xfrm>
                <a:off x="844560" y="1295280"/>
                <a:ext cx="3679200" cy="265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MeNR06_isprc" descr=""/>
              <p:cNvPicPr/>
              <p:nvPr/>
            </p:nvPicPr>
            <p:blipFill>
              <a:blip r:embed="rId2"/>
              <a:stretch/>
            </p:blipFill>
            <p:spPr>
              <a:xfrm>
                <a:off x="4523760" y="1295280"/>
                <a:ext cx="3845880" cy="26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MeNR0408_isprc" descr=""/>
              <p:cNvPicPr/>
              <p:nvPr/>
            </p:nvPicPr>
            <p:blipFill>
              <a:blip r:embed="rId3"/>
              <a:stretch/>
            </p:blipFill>
            <p:spPr>
              <a:xfrm>
                <a:off x="844560" y="3962160"/>
                <a:ext cx="3684600" cy="25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M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23760" y="3962160"/>
                <a:ext cx="3845880" cy="2516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"/>
            <p:cNvSpPr/>
            <p:nvPr/>
          </p:nvSpPr>
          <p:spPr>
            <a:xfrm>
              <a:off x="1262520" y="4191120"/>
              <a:ext cx="1839600" cy="1828800"/>
            </a:xfrm>
            <a:custGeom>
              <a:avLst/>
              <a:gdLst/>
              <a:ahLst/>
              <a:rect l="l" t="t" r="r" b="b"/>
              <a:pathLst>
                <a:path w="1056" h="1152">
                  <a:moveTo>
                    <a:pt x="0" y="1152"/>
                  </a:moveTo>
                  <a:cubicBezTo>
                    <a:pt x="97" y="1117"/>
                    <a:pt x="429" y="1055"/>
                    <a:pt x="584" y="944"/>
                  </a:cubicBezTo>
                  <a:cubicBezTo>
                    <a:pt x="739" y="833"/>
                    <a:pt x="849" y="645"/>
                    <a:pt x="928" y="488"/>
                  </a:cubicBezTo>
                  <a:cubicBezTo>
                    <a:pt x="1007" y="331"/>
                    <a:pt x="1029" y="102"/>
                    <a:pt x="1056" y="0"/>
                  </a:cubicBezTo>
                </a:path>
              </a:pathLst>
            </a:custGeom>
            <a:noFill/>
            <a:ln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62520" y="1524240"/>
              <a:ext cx="1839600" cy="1904760"/>
            </a:xfrm>
            <a:custGeom>
              <a:avLst/>
              <a:gdLst/>
              <a:ahLst/>
              <a:rect l="l" t="t" r="r" b="b"/>
              <a:pathLst>
                <a:path w="1056" h="1152">
                  <a:moveTo>
                    <a:pt x="0" y="1152"/>
                  </a:moveTo>
                  <a:cubicBezTo>
                    <a:pt x="97" y="1117"/>
                    <a:pt x="429" y="1055"/>
                    <a:pt x="584" y="944"/>
                  </a:cubicBezTo>
                  <a:cubicBezTo>
                    <a:pt x="739" y="833"/>
                    <a:pt x="849" y="645"/>
                    <a:pt x="928" y="488"/>
                  </a:cubicBezTo>
                  <a:cubicBezTo>
                    <a:pt x="1007" y="331"/>
                    <a:pt x="1029" y="102"/>
                    <a:pt x="1056" y="0"/>
                  </a:cubicBezTo>
                </a:path>
              </a:pathLst>
            </a:custGeom>
            <a:noFill/>
            <a:ln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5600" y="1524240"/>
              <a:ext cx="1839600" cy="1981080"/>
            </a:xfrm>
            <a:custGeom>
              <a:avLst/>
              <a:gdLst/>
              <a:ahLst/>
              <a:rect l="l" t="t" r="r" b="b"/>
              <a:pathLst>
                <a:path w="1056" h="1152">
                  <a:moveTo>
                    <a:pt x="0" y="1152"/>
                  </a:moveTo>
                  <a:cubicBezTo>
                    <a:pt x="97" y="1117"/>
                    <a:pt x="429" y="1055"/>
                    <a:pt x="584" y="944"/>
                  </a:cubicBezTo>
                  <a:cubicBezTo>
                    <a:pt x="739" y="833"/>
                    <a:pt x="849" y="645"/>
                    <a:pt x="928" y="488"/>
                  </a:cubicBezTo>
                  <a:cubicBezTo>
                    <a:pt x="1007" y="331"/>
                    <a:pt x="1029" y="102"/>
                    <a:pt x="1056" y="0"/>
                  </a:cubicBezTo>
                </a:path>
              </a:pathLst>
            </a:custGeom>
            <a:noFill/>
            <a:ln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5600" y="4114800"/>
              <a:ext cx="1839600" cy="1905120"/>
            </a:xfrm>
            <a:custGeom>
              <a:avLst/>
              <a:gdLst/>
              <a:ahLst/>
              <a:rect l="l" t="t" r="r" b="b"/>
              <a:pathLst>
                <a:path w="1056" h="1152">
                  <a:moveTo>
                    <a:pt x="0" y="1152"/>
                  </a:moveTo>
                  <a:cubicBezTo>
                    <a:pt x="97" y="1117"/>
                    <a:pt x="429" y="1055"/>
                    <a:pt x="584" y="944"/>
                  </a:cubicBezTo>
                  <a:cubicBezTo>
                    <a:pt x="739" y="833"/>
                    <a:pt x="849" y="645"/>
                    <a:pt x="928" y="488"/>
                  </a:cubicBezTo>
                  <a:cubicBezTo>
                    <a:pt x="1007" y="331"/>
                    <a:pt x="1029" y="102"/>
                    <a:pt x="1056" y="0"/>
                  </a:cubicBezTo>
                </a:path>
              </a:pathLst>
            </a:custGeom>
            <a:noFill/>
            <a:ln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AOTiter2006" descr=""/>
          <p:cNvPicPr/>
          <p:nvPr/>
        </p:nvPicPr>
        <p:blipFill>
          <a:blip r:embed="rId1"/>
          <a:stretch/>
        </p:blipFill>
        <p:spPr>
          <a:xfrm>
            <a:off x="4219560" y="2286000"/>
            <a:ext cx="4854600" cy="3352680"/>
          </a:xfrm>
          <a:prstGeom prst="rect">
            <a:avLst/>
          </a:prstGeom>
          <a:ln w="0">
            <a:noFill/>
          </a:ln>
        </p:spPr>
      </p:pic>
      <p:pic>
        <p:nvPicPr>
          <p:cNvPr id="185" name="AOTVI2006.jpg" descr=""/>
          <p:cNvPicPr/>
          <p:nvPr/>
        </p:nvPicPr>
        <p:blipFill>
          <a:blip r:embed="rId2"/>
          <a:stretch/>
        </p:blipFill>
        <p:spPr>
          <a:xfrm>
            <a:off x="69840" y="2286000"/>
            <a:ext cx="4149720" cy="3362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omparison of AOT retrievals</a:t>
            </a:r>
            <a:br>
              <a:rPr sz="2900"/>
            </a:b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 ratio(NDVI) AND ratio_iter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6840" y="18288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ATIO(NDVI)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38840" y="182880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ATIO_iter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54160" y="228240"/>
            <a:ext cx="513432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omparison between </a:t>
            </a:r>
            <a:br>
              <a:rPr sz="2900"/>
            </a:b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SURFACE reflectances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09960" y="1828800"/>
            <a:ext cx="4852440" cy="4876560"/>
            <a:chOff x="2109960" y="1828800"/>
            <a:chExt cx="4852440" cy="4876560"/>
          </a:xfrm>
        </p:grpSpPr>
        <p:pic>
          <p:nvPicPr>
            <p:cNvPr id="191" name="hb2_2006" descr=""/>
            <p:cNvPicPr/>
            <p:nvPr/>
          </p:nvPicPr>
          <p:blipFill>
            <a:blip r:embed="rId1"/>
            <a:stretch/>
          </p:blipFill>
          <p:spPr>
            <a:xfrm>
              <a:off x="2109960" y="1828800"/>
              <a:ext cx="4852440" cy="487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4393440" y="2165040"/>
              <a:ext cx="2364480" cy="3531960"/>
              <a:chOff x="4393440" y="2165040"/>
              <a:chExt cx="2364480" cy="3531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393440" y="2165040"/>
                <a:ext cx="228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2000" spc="-1" strike="noStrike">
                    <a:solidFill>
                      <a:srgbClr val="063de8"/>
                    </a:solidFill>
                    <a:latin typeface="Arial"/>
                  </a:rPr>
                  <a:t>CLIMATOLOGY</a:t>
                </a:r>
                <a:endParaRPr b="0" lang="en-US" sz="20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93440" y="3678120"/>
                <a:ext cx="228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2000" spc="-1" strike="noStrike">
                    <a:solidFill>
                      <a:srgbClr val="063de8"/>
                    </a:solidFill>
                    <a:latin typeface="Arial"/>
                  </a:rPr>
                  <a:t>ITERATIVE</a:t>
                </a:r>
                <a:endParaRPr b="0" lang="en-US" sz="20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73000" y="5274000"/>
                <a:ext cx="228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2400" spc="-1" strike="noStrike">
                    <a:solidFill>
                      <a:srgbClr val="063de8"/>
                    </a:solidFill>
                    <a:latin typeface="Arial"/>
                  </a:rPr>
                  <a:t>ratio(NDVI)</a:t>
                </a:r>
                <a:r>
                  <a:rPr b="1" lang="fr-FR" sz="2400" spc="-1" strike="noStrike">
                    <a:solidFill>
                      <a:srgbClr val="063de8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3798720" y="14479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 CHANNEL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 u="sng">
                <a:solidFill>
                  <a:srgbClr val="063de8"/>
                </a:solidFill>
                <a:uFillTx/>
                <a:latin typeface="Arial"/>
              </a:rPr>
              <a:t>OPERATIONAL CONSTRAINTS FOR THE ALGORITHM</a:t>
            </a: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Must work in near real time : SPEED (simplicity) REQUIRED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Must be ACCEPTABLE to the user community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Must work on the VEGETATION instrument (no TIR bands)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Must be GLOBAL and CONSISTENT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Must have three levels CLOUD-UNCERTAIN-CLEAR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900" spc="-1" strike="noStrike">
                <a:solidFill>
                  <a:srgbClr val="063de8"/>
                </a:solidFill>
                <a:latin typeface="Arial"/>
              </a:rPr>
              <a:t>CONCLUSIONS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1160" y="1371600"/>
            <a:ext cx="8440560" cy="51055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THE SWIR/BLUE RELATIONSHIP AT THE SURFACE IS TIME AND LOCATION DEPENDENT: Greeness = Prime driver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AN EFFICIENT AND ORIGINAL ITERATIVE METHOD WAS USED AS REFERENCE TO CALIBRATE A SIMPLE RELATIONSHIP BETWEEN SWIR/BLUE (surface) AND NDVI (TOA)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THE RESULTING METHOD IS NOT EFFICIENT ON ARID TARGETS (Bright reflectances) WHERE THE CLIMATOLOGY SHOULD BE KEPT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1900" spc="-1" strike="noStrike">
                <a:solidFill>
                  <a:srgbClr val="063de8"/>
                </a:solidFill>
                <a:latin typeface="Arial"/>
              </a:rPr>
              <a:t>OTHER CASES SHOW LARGE IMPROVEMENTS WITH REGARD TO THE CURRENT CLIMATOLOGY (semi-transparent clouds are processed)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10600" y="3428640"/>
            <a:ext cx="837108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-2332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P1.1.3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Introduction of directional model in compositing techniqu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200" name="cesbio2" descr=""/>
          <p:cNvPicPr/>
          <p:nvPr/>
        </p:nvPicPr>
        <p:blipFill>
          <a:blip r:embed="rId1"/>
          <a:stretch/>
        </p:blipFill>
        <p:spPr>
          <a:xfrm>
            <a:off x="8018640" y="6019920"/>
            <a:ext cx="844200" cy="530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80800" y="1294920"/>
            <a:ext cx="6195960" cy="35816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 fontScale="95000"/>
          </a:bodyPr>
          <a:p>
            <a:pPr marL="221400" indent="-221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Normalisation = correction of  Top of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Canopy (TOC) reflectance (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s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v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along  the shape of the Bidirectional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Reflectance Distribution Function (BRDF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to a reference geometry (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) :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21400"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Garamond"/>
              </a:rPr>
              <a:t>NORM 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=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Garamond"/>
              </a:rPr>
              <a:t>OBS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Garamond"/>
              </a:rPr>
              <a:t>MOD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) /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Garamond"/>
              </a:rPr>
              <a:t>MOD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s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v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221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( Gutman 1995 /  Wu et al. 1995  )</a:t>
            </a: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marL="221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800" spc="-1" strike="noStrike">
              <a:solidFill>
                <a:srgbClr val="063de8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BRDF model of </a:t>
            </a:r>
            <a:r>
              <a:rPr b="1" i="1" lang="en-GB" sz="2000" spc="-1" strike="noStrike">
                <a:solidFill>
                  <a:srgbClr val="000000"/>
                </a:solidFill>
                <a:latin typeface="Garamond"/>
              </a:rPr>
              <a:t>Roujean et al. (1992)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: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2140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Garamond"/>
              </a:rPr>
              <a:t>MOD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s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v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) = k0 + k1 f1 (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s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v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) + k2 f2 (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s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v,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26080" y="1371600"/>
            <a:ext cx="3517920" cy="2682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2440" y="4800600"/>
            <a:ext cx="82296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99"/>
              </a:buClr>
              <a:buSzPct val="150000"/>
              <a:buFont typeface="ZapfDingba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Common approach : three-step process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lvl="1" marL="57168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Garamond"/>
              </a:rPr>
              <a:t>1. 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collect the data along a sliding time window of constant length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lvl="1" marL="57168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Garamond"/>
              </a:rPr>
              <a:t>2.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fit a BRDF model   </a:t>
            </a:r>
            <a:r>
              <a:rPr b="0" lang="en-GB" sz="2200" spc="-1" strike="noStrike">
                <a:solidFill>
                  <a:srgbClr val="000099"/>
                </a:solidFill>
                <a:latin typeface="Garamond"/>
              </a:rPr>
              <a:t>3.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normalise &amp; compose a subset of data.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NORMALISATION OF        BIDIRECTIONAL EFFECTS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10600" y="1828800"/>
            <a:ext cx="8651880" cy="40384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-233280">
              <a:lnSpc>
                <a:spcPct val="120000"/>
              </a:lnSpc>
              <a:spcAft>
                <a:spcPts val="1250"/>
              </a:spcAft>
              <a:buClr>
                <a:srgbClr val="000000"/>
              </a:buClr>
              <a:buSzPct val="6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VEGETATION Acquisition Geometr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Aft>
                <a:spcPts val="1250"/>
              </a:spcAft>
              <a:buClr>
                <a:srgbClr val="000000"/>
              </a:buClr>
              <a:buSzPct val="6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Cloud Cover Temporal Evolu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6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Top of Canopy Reflectance from the BRDF                                                    POLDER Data Base </a:t>
            </a: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( Bicheron et al. 2000 )</a:t>
            </a: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Aft>
                <a:spcPts val="1250"/>
              </a:spcAft>
              <a:buClr>
                <a:srgbClr val="000000"/>
              </a:buClr>
              <a:buSzPct val="6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Gaussian’ Atmospheric Nois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944640" indent="-520920">
              <a:lnSpc>
                <a:spcPct val="130000"/>
              </a:lnSpc>
              <a:spcAft>
                <a:spcPts val="1250"/>
              </a:spcAft>
              <a:buClr>
                <a:srgbClr val="000099"/>
              </a:buClr>
              <a:buSzPct val="130000"/>
              <a:buFont typeface="ZapfDingbats" charset="2"/>
              <a:buChar char="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DATA BASE OF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TOP OF CANOPY (TOC) 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Garamond"/>
              </a:rPr>
              <a:t>REFLECTANCES TIME SERIES</a:t>
            </a:r>
            <a:r>
              <a:rPr b="1" lang="en-GB" sz="2400" spc="-1" strike="noStrike">
                <a:solidFill>
                  <a:srgbClr val="ff5008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5008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ff5008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63de8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63de8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63de8"/>
                </a:solidFill>
                <a:latin typeface="Garamond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9446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207" name="figure1" descr=""/>
          <p:cNvPicPr/>
          <p:nvPr/>
        </p:nvPicPr>
        <p:blipFill>
          <a:blip r:embed="rId1"/>
          <a:stretch/>
        </p:blipFill>
        <p:spPr>
          <a:xfrm>
            <a:off x="4994280" y="1676520"/>
            <a:ext cx="3727440" cy="30319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SIMULATION OF VEGETATION DATA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6019920" cy="4038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 fontScale="88000"/>
          </a:bodyPr>
          <a:p>
            <a:pPr lvl="1" marL="625680" indent="-458280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fc0128"/>
              </a:buClr>
              <a:buFont typeface="symbol" charset="2"/>
              <a:buChar char="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 u="sng">
                <a:solidFill>
                  <a:srgbClr val="fc0128"/>
                </a:solidFill>
                <a:uFillTx/>
                <a:latin typeface="Garamond"/>
              </a:rPr>
              <a:t>MVC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 = maximum NDVI </a:t>
            </a: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( Holben 1986 )</a:t>
            </a: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625680" indent="-458280">
              <a:lnSpc>
                <a:spcPct val="140000"/>
              </a:lnSpc>
              <a:spcBef>
                <a:spcPts val="751"/>
              </a:spcBef>
              <a:spcAft>
                <a:spcPts val="300"/>
              </a:spcAft>
              <a:buClr>
                <a:srgbClr val="cc00cc"/>
              </a:buClr>
              <a:buFont typeface="symbol" charset="2"/>
              <a:buChar char="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 u="sng">
                <a:solidFill>
                  <a:srgbClr val="cc00cc"/>
                </a:solidFill>
                <a:uFillTx/>
                <a:latin typeface="Garamond"/>
              </a:rPr>
              <a:t>BRDF-MVC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= MVC normalised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corrected along the BRDF shape to (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) geometry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25680" indent="-458280">
              <a:lnSpc>
                <a:spcPct val="130000"/>
              </a:lnSpc>
              <a:spcBef>
                <a:spcPts val="751"/>
              </a:spcBef>
              <a:spcAft>
                <a:spcPts val="300"/>
              </a:spcAft>
              <a:buClr>
                <a:srgbClr val="3365fb"/>
              </a:buClr>
              <a:buFont typeface="symbol" charset="2"/>
              <a:buChar char="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 u="sng">
                <a:solidFill>
                  <a:srgbClr val="3365fb"/>
                </a:solidFill>
                <a:uFillTx/>
                <a:latin typeface="Garamond"/>
              </a:rPr>
              <a:t>BRDF-1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= Average of last 10-days cloud-free reflectances after normalisation in (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25680" indent="0">
              <a:lnSpc>
                <a:spcPct val="130000"/>
              </a:lnSpc>
              <a:spcBef>
                <a:spcPts val="711"/>
              </a:spcBef>
              <a:spcAft>
                <a:spcPts val="300"/>
              </a:spcAft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aramond"/>
              </a:rPr>
              <a:t>2 &amp; 3 with </a:t>
            </a:r>
            <a:r>
              <a:rPr b="1" lang="en-GB" sz="1900" spc="-1" strike="noStrike" u="sng">
                <a:solidFill>
                  <a:srgbClr val="000000"/>
                </a:solidFill>
                <a:uFillTx/>
                <a:latin typeface="Garamond"/>
              </a:rPr>
              <a:t>BRDF is retrieved on 30-days time window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lvl="1" marL="625680" indent="0">
              <a:lnSpc>
                <a:spcPct val="2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800" spc="-1" strike="noStrike">
              <a:solidFill>
                <a:srgbClr val="063de8"/>
              </a:solidFill>
              <a:latin typeface="Arial"/>
            </a:endParaRPr>
          </a:p>
          <a:p>
            <a:pPr lvl="1" marL="625680" indent="0">
              <a:lnSpc>
                <a:spcPct val="13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Simulation </a:t>
            </a:r>
            <a:r>
              <a:rPr b="1" lang="en-GB" sz="22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Reference level : </a:t>
            </a:r>
            <a:r>
              <a:rPr b="1" lang="en-GB" sz="2200" spc="-1" strike="noStrike">
                <a:solidFill>
                  <a:srgbClr val="000099"/>
                </a:solidFill>
                <a:latin typeface="symbol"/>
                <a:ea typeface="symbol"/>
              </a:rPr>
              <a:t>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( </a:t>
            </a:r>
            <a:r>
              <a:rPr b="1" lang="en-GB" sz="2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v</a:t>
            </a:r>
            <a:r>
              <a:rPr b="1" lang="en-GB" sz="2200" spc="-1" strike="noStrike" baseline="-25000">
                <a:solidFill>
                  <a:srgbClr val="000099"/>
                </a:solidFill>
                <a:latin typeface="Garamond"/>
              </a:rPr>
              <a:t>0 , </a:t>
            </a:r>
            <a:r>
              <a:rPr b="1" lang="en-GB" sz="2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s</a:t>
            </a:r>
            <a:r>
              <a:rPr b="1" lang="en-GB" sz="2200" spc="-1" strike="noStrike" baseline="-25000">
                <a:solidFill>
                  <a:srgbClr val="000099"/>
                </a:solidFill>
                <a:latin typeface="Garamond"/>
              </a:rPr>
              <a:t>0 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)</a:t>
            </a:r>
            <a:endParaRPr b="1" lang="en-US" sz="2200" spc="-1" strike="noStrike">
              <a:solidFill>
                <a:srgbClr val="063de8"/>
              </a:solidFill>
              <a:latin typeface="Arial"/>
            </a:endParaRPr>
          </a:p>
          <a:p>
            <a:pPr lvl="1" marL="625680" indent="0">
              <a:lnSpc>
                <a:spcPct val="5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= mean (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s ) ;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v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= 0°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961240" y="1268280"/>
            <a:ext cx="2320920" cy="5345280"/>
            <a:chOff x="5961240" y="1268280"/>
            <a:chExt cx="2320920" cy="53452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5961240" y="1649520"/>
              <a:ext cx="2294280" cy="15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5961240" y="3173400"/>
              <a:ext cx="2320920" cy="15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564240" y="6300720"/>
              <a:ext cx="12963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ay of Year</a:t>
              </a:r>
              <a:endParaRPr b="0" lang="en-US" sz="16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61240" y="1268280"/>
              <a:ext cx="232092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TOC red reflectance</a:t>
              </a:r>
              <a:endParaRPr b="0" lang="en-US" sz="16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978520" y="4724280"/>
              <a:ext cx="2295720" cy="15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600" spc="-1" strike="noStrike">
                <a:solidFill>
                  <a:srgbClr val="000099"/>
                </a:solidFill>
                <a:latin typeface="Arial"/>
              </a:rPr>
              <a:t>TESTING COMPOSITING METHODS USING SIMULATED DATA (1)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1920" y="1447920"/>
            <a:ext cx="4219560" cy="40384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 fontScale="83000"/>
          </a:bodyPr>
          <a:p>
            <a:pPr lvl="1" marL="590400" indent="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Noise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( </a:t>
            </a:r>
            <a:r>
              <a:rPr b="1" lang="en-GB" sz="1800" spc="-1" strike="noStrike">
                <a:solidFill>
                  <a:srgbClr val="fc0128"/>
                </a:solidFill>
                <a:latin typeface="Garamond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1" lang="en-GB" sz="1800" spc="-1" strike="noStrike">
                <a:solidFill>
                  <a:srgbClr val="cc00cc"/>
                </a:solidFill>
                <a:latin typeface="Garamond"/>
              </a:rPr>
              <a:t>2 </a:t>
            </a: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1" lang="en-GB" sz="1800" spc="-1" strike="noStrike">
                <a:solidFill>
                  <a:srgbClr val="cc00cc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3365fb"/>
                </a:solidFill>
                <a:latin typeface="Garamond"/>
              </a:rPr>
              <a:t>3</a:t>
            </a:r>
            <a:r>
              <a:rPr b="1" lang="en-GB" sz="2000" spc="-1" strike="noStrike">
                <a:solidFill>
                  <a:srgbClr val="063de8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) - 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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(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v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Garamond"/>
              </a:rPr>
              <a:t>0 , 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s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Garamond"/>
              </a:rPr>
              <a:t>0 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0400" indent="-432360">
              <a:lnSpc>
                <a:spcPct val="110000"/>
              </a:lnSpc>
              <a:spcBef>
                <a:spcPts val="751"/>
              </a:spcBef>
              <a:spcAft>
                <a:spcPts val="300"/>
              </a:spcAft>
              <a:buClr>
                <a:srgbClr val="000000"/>
              </a:buClr>
              <a:buFont typeface="ZapfDingbats" charset="2"/>
              <a:buChar char="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Garamond"/>
              </a:rPr>
              <a:t>MVC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selects particular view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0400" indent="-432360">
              <a:lnSpc>
                <a:spcPct val="110000"/>
              </a:lnSpc>
              <a:spcBef>
                <a:spcPts val="7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ZapfDingbats" charset="2"/>
              <a:buChar char="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Noise is maximum, non-consistent with cloud coverage (and depends on BRDF shape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0400" indent="-43236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000000"/>
              </a:buClr>
              <a:buFont typeface="ZapfDingbats" charset="2"/>
              <a:buChar char="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3365fb"/>
                </a:solidFill>
                <a:latin typeface="Garamond"/>
              </a:rPr>
              <a:t>BRDF-10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&amp;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cc00cc"/>
                </a:solidFill>
                <a:latin typeface="Garamond"/>
              </a:rPr>
              <a:t>-MVC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comparison  :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0400" indent="-43236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ZapfDingbats" charset="2"/>
              <a:buChar char="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Averaging is better than   choosing one particular dat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04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800" spc="-1" strike="noStrike">
              <a:solidFill>
                <a:srgbClr val="063de8"/>
              </a:solidFill>
              <a:latin typeface="Arial"/>
            </a:endParaRPr>
          </a:p>
          <a:p>
            <a:pPr lvl="1" marL="590400" indent="-432360">
              <a:lnSpc>
                <a:spcPct val="100000"/>
              </a:lnSpc>
              <a:spcBef>
                <a:spcPts val="825"/>
              </a:spcBef>
              <a:spcAft>
                <a:spcPts val="300"/>
              </a:spcAft>
              <a:buClr>
                <a:srgbClr val="000099"/>
              </a:buClr>
              <a:buSzPct val="130000"/>
              <a:buFont typeface="ZapfDingbats" charset="2"/>
              <a:buChar char=""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Noise is minimum for </a:t>
            </a:r>
            <a:r>
              <a:rPr b="1" lang="en-GB" sz="2200" spc="-1" strike="noStrike">
                <a:solidFill>
                  <a:srgbClr val="3365fb"/>
                </a:solidFill>
                <a:latin typeface="Garamond"/>
              </a:rPr>
              <a:t>BRDF-10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and input atmospheric  noise is reduced by a factor 2</a:t>
            </a:r>
            <a:endParaRPr b="1" lang="en-US" sz="2200" spc="-1" strike="noStrike">
              <a:solidFill>
                <a:srgbClr val="063de8"/>
              </a:solidFill>
              <a:latin typeface="Arial"/>
            </a:endParaRPr>
          </a:p>
          <a:p>
            <a:pPr lvl="1" marL="590400" indent="0">
              <a:lnSpc>
                <a:spcPct val="10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2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4280" y="1371600"/>
            <a:ext cx="330516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NOISE on 10-days reflectance</a:t>
            </a:r>
            <a:endParaRPr b="0" lang="en-US" sz="16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94280" y="4038480"/>
            <a:ext cx="3305160" cy="2227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94280" y="1752480"/>
            <a:ext cx="3305160" cy="2227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fr-FR" sz="2600" spc="-1" strike="noStrike">
                <a:solidFill>
                  <a:srgbClr val="000099"/>
                </a:solidFill>
                <a:latin typeface="Arial"/>
              </a:rPr>
              <a:t>TESTING COMPOSITING METHODS USING SIMULATED DATA (2)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32880" y="1676520"/>
            <a:ext cx="4712040" cy="30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0960" y="1295280"/>
            <a:ext cx="865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8160" bIns="38160" anchor="t">
            <a:normAutofit fontScale="91000"/>
          </a:bodyPr>
          <a:p>
            <a:pPr marL="351000" indent="-212400">
              <a:lnSpc>
                <a:spcPct val="120000"/>
              </a:lnSpc>
              <a:spcAft>
                <a:spcPts val="1437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Garamond"/>
              </a:rPr>
              <a:t>MAIN IDEA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 :</a:t>
            </a: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 COLLECT A CONSTANT NUMBER OF DATA TO FIT THE BRDF, REGARDLESS TO THE DATE OF ACQUISITION</a:t>
            </a:r>
            <a:endParaRPr b="0" lang="en-US" sz="2300" spc="-1" strike="noStrike">
              <a:solidFill>
                <a:srgbClr val="063de8"/>
              </a:solidFill>
              <a:latin typeface="Times New Roman"/>
            </a:endParaRPr>
          </a:p>
          <a:p>
            <a:pPr marL="351000" indent="-212400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marL="351000" indent="-212400">
              <a:lnSpc>
                <a:spcPct val="120000"/>
              </a:lnSpc>
              <a:spcAft>
                <a:spcPts val="1375"/>
              </a:spcAft>
              <a:buClr>
                <a:srgbClr val="000000"/>
              </a:buClr>
              <a:buSzPct val="6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marL="351000" indent="-212400">
              <a:lnSpc>
                <a:spcPct val="120000"/>
              </a:lnSpc>
              <a:spcAft>
                <a:spcPts val="1375"/>
              </a:spcAft>
              <a:buClr>
                <a:srgbClr val="000000"/>
              </a:buClr>
              <a:buSzPct val="6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marL="351000" indent="-212400">
              <a:lnSpc>
                <a:spcPct val="120000"/>
              </a:lnSpc>
              <a:spcAft>
                <a:spcPts val="1375"/>
              </a:spcAft>
              <a:buClr>
                <a:srgbClr val="000000"/>
              </a:buClr>
              <a:buSzPct val="65000"/>
              <a:buFont typeface="ZapfDingbats" charset="2"/>
              <a:buChar char="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marL="351000" indent="-212400">
              <a:lnSpc>
                <a:spcPct val="120000"/>
              </a:lnSpc>
              <a:spcAft>
                <a:spcPts val="1375"/>
              </a:spcAft>
              <a:buClr>
                <a:srgbClr val="000000"/>
              </a:buClr>
              <a:buSzPct val="130000"/>
              <a:buFont typeface="ZapfDingbats" charset="2"/>
              <a:buChar char="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BRDF shapes supposed - and believed - to slowly vary (on cloudy areas)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marL="351000" indent="-212400">
              <a:lnSpc>
                <a:spcPct val="120000"/>
              </a:lnSpc>
              <a:spcAft>
                <a:spcPts val="1375"/>
              </a:spcAft>
              <a:buClr>
                <a:srgbClr val="000000"/>
              </a:buClr>
              <a:buSzPct val="130000"/>
              <a:buFont typeface="ZapfDingbats" charset="2"/>
              <a:buChar char="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But reflectance levels vary at a 10-days step, due to compositing method 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2440" y="2666880"/>
            <a:ext cx="2882520" cy="1752480"/>
            <a:chOff x="352440" y="2666880"/>
            <a:chExt cx="2882520" cy="1752480"/>
          </a:xfrm>
        </p:grpSpPr>
        <p:sp>
          <p:nvSpPr>
            <p:cNvPr id="225" name=""/>
            <p:cNvSpPr/>
            <p:nvPr/>
          </p:nvSpPr>
          <p:spPr>
            <a:xfrm>
              <a:off x="352440" y="2666880"/>
              <a:ext cx="2882520" cy="1752480"/>
            </a:xfrm>
            <a:prstGeom prst="rightArrowCallout">
              <a:avLst>
                <a:gd name="adj1" fmla="val 25002"/>
                <a:gd name="adj2" fmla="val 25000"/>
                <a:gd name="adj3" fmla="val 27414"/>
                <a:gd name="adj4" fmla="val 66667"/>
              </a:avLst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000" y="2776320"/>
              <a:ext cx="176184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COLLECT THE N (12)  LAST CLOUD-FREE DATA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235320" y="2666880"/>
            <a:ext cx="2392200" cy="1752480"/>
            <a:chOff x="3235320" y="2666880"/>
            <a:chExt cx="2392200" cy="1752480"/>
          </a:xfrm>
        </p:grpSpPr>
        <p:sp>
          <p:nvSpPr>
            <p:cNvPr id="228" name=""/>
            <p:cNvSpPr/>
            <p:nvPr/>
          </p:nvSpPr>
          <p:spPr>
            <a:xfrm>
              <a:off x="3235320" y="2666880"/>
              <a:ext cx="2392200" cy="1752480"/>
            </a:xfrm>
            <a:prstGeom prst="rightArrowCallout">
              <a:avLst>
                <a:gd name="adj1" fmla="val 25002"/>
                <a:gd name="adj2" fmla="val 25000"/>
                <a:gd name="adj3" fmla="val 22751"/>
                <a:gd name="adj4" fmla="val 66667"/>
              </a:avLst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01560" y="2776320"/>
              <a:ext cx="1461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FIT THE BRDF MODEL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638680" y="2819520"/>
            <a:ext cx="281304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USE </a:t>
            </a:r>
            <a:r>
              <a:rPr b="1" lang="en-GB" sz="2000" spc="-1" strike="noStrike">
                <a:solidFill>
                  <a:srgbClr val="3365fb"/>
                </a:solidFill>
                <a:latin typeface="Garamond"/>
              </a:rPr>
              <a:t>BRDF-10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TO NORMALISE AND COMPOSE DATA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NEW ALGORITHM</a:t>
            </a:r>
            <a:br>
              <a:rPr sz="2600"/>
            </a:b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BDC : Bi-Directional Compositing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32880" y="1676520"/>
            <a:ext cx="4712040" cy="30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RESULTS ON VEGETATION IMAGES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2280" y="1295280"/>
            <a:ext cx="8229600" cy="5458680"/>
            <a:chOff x="422280" y="1295280"/>
            <a:chExt cx="8229600" cy="5458680"/>
          </a:xfrm>
        </p:grpSpPr>
        <p:sp>
          <p:nvSpPr>
            <p:cNvPr id="235" name=""/>
            <p:cNvSpPr/>
            <p:nvPr/>
          </p:nvSpPr>
          <p:spPr>
            <a:xfrm>
              <a:off x="422280" y="129528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c0128"/>
                  </a:solidFill>
                  <a:latin typeface="Garamond"/>
                </a:rPr>
                <a:t> </a:t>
              </a:r>
              <a:r>
                <a:rPr b="1" lang="en-GB" sz="2000" spc="-1" strike="noStrike">
                  <a:solidFill>
                    <a:srgbClr val="fc0128"/>
                  </a:solidFill>
                  <a:latin typeface="Garamond"/>
                </a:rPr>
                <a:t>MVC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 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	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	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  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Europe -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  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10/09/98  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       </a:t>
              </a:r>
              <a:r>
                <a:rPr b="1" lang="en-GB" sz="2000" spc="-1" strike="noStrike">
                  <a:solidFill>
                    <a:srgbClr val="3365fb"/>
                  </a:solidFill>
                  <a:latin typeface="Garamond"/>
                </a:rPr>
                <a:t>BDC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22280" y="1676520"/>
              <a:ext cx="8229240" cy="5077440"/>
              <a:chOff x="422280" y="1676520"/>
              <a:chExt cx="8229240" cy="5077440"/>
            </a:xfrm>
          </p:grpSpPr>
          <p:pic>
            <p:nvPicPr>
              <p:cNvPr id="237" name="brdfita250ref2" descr=""/>
              <p:cNvPicPr/>
              <p:nvPr/>
            </p:nvPicPr>
            <p:blipFill>
              <a:blip r:embed="rId1"/>
              <a:srcRect l="0" t="0" r="241" b="337"/>
              <a:stretch/>
            </p:blipFill>
            <p:spPr>
              <a:xfrm>
                <a:off x="4782960" y="1676520"/>
                <a:ext cx="3723480" cy="287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mvcita250ref2" descr=""/>
              <p:cNvPicPr/>
              <p:nvPr/>
            </p:nvPicPr>
            <p:blipFill>
              <a:blip r:embed="rId2"/>
              <a:srcRect l="0" t="0" r="241" b="337"/>
              <a:stretch/>
            </p:blipFill>
            <p:spPr>
              <a:xfrm>
                <a:off x="562680" y="1676520"/>
                <a:ext cx="3723480" cy="28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422280" y="4876920"/>
                <a:ext cx="386856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Aft>
                    <a:spcPts val="1375"/>
                  </a:spcAft>
                  <a:buClr>
                    <a:srgbClr val="000000"/>
                  </a:buClr>
                  <a:buSzPct val="130000"/>
                  <a:buFont typeface="ZapfDingbats" charset="2"/>
                  <a:buChar char="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MVC selects off-nadir views in forward scattering</a:t>
                </a:r>
                <a:endParaRPr b="0" lang="en-US" sz="2200" spc="-1" strike="noStrike">
                  <a:solidFill>
                    <a:srgbClr val="063de8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spcAft>
                    <a:spcPts val="1375"/>
                  </a:spcAft>
                  <a:buClr>
                    <a:srgbClr val="000000"/>
                  </a:buClr>
                  <a:buSzPct val="130000"/>
                  <a:buFont typeface="ZapfDingbats" charset="2"/>
                  <a:buChar char="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MVC is low contrasting</a:t>
                </a:r>
                <a:endParaRPr b="0" lang="en-US" sz="22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12760" y="4876920"/>
                <a:ext cx="393876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Aft>
                    <a:spcPts val="1375"/>
                  </a:spcAft>
                  <a:buClr>
                    <a:srgbClr val="000000"/>
                  </a:buClr>
                  <a:buSzPct val="130000"/>
                  <a:buFont typeface="ZapfDingbats" charset="2"/>
                  <a:buChar char="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BDC reflectances are higher than MVC</a:t>
                </a:r>
                <a:endParaRPr b="0" lang="en-US" sz="2200" spc="-1" strike="noStrike">
                  <a:solidFill>
                    <a:srgbClr val="063de8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spcAft>
                    <a:spcPts val="1375"/>
                  </a:spcAft>
                  <a:buClr>
                    <a:srgbClr val="000000"/>
                  </a:buClr>
                  <a:buSzPct val="130000"/>
                  <a:buFont typeface="ZapfDingbats" charset="2"/>
                  <a:buChar char="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Garamond"/>
                  </a:rPr>
                  <a:t>BDC is better cloud-filtered </a:t>
                </a:r>
                <a:endParaRPr b="0" lang="en-US" sz="22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2680" y="2743200"/>
                <a:ext cx="7948440" cy="6094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82960" y="3352680"/>
                <a:ext cx="562680" cy="304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2680" y="3352680"/>
                <a:ext cx="562680" cy="304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76440" y="4495680"/>
                <a:ext cx="23209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snow is not detected</a:t>
                </a:r>
                <a:endParaRPr b="0" lang="en-US" sz="1600" spc="-1" strike="noStrike">
                  <a:solidFill>
                    <a:srgbClr val="063de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4502160" y="31240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32880" y="1676520"/>
            <a:ext cx="4712040" cy="30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1371600"/>
            <a:ext cx="1125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Wingdings"/>
                <a:ea typeface="Wingdings"/>
              </a:rPr>
              <a:t>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BDC removes orbital tracks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(NDVI)and    bidi-rectional artefacts(NIR)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61960" y="1066680"/>
            <a:ext cx="6806880" cy="5334120"/>
            <a:chOff x="561960" y="1066680"/>
            <a:chExt cx="6806880" cy="5334120"/>
          </a:xfrm>
        </p:grpSpPr>
        <p:sp>
          <p:nvSpPr>
            <p:cNvPr id="249" name=""/>
            <p:cNvSpPr/>
            <p:nvPr/>
          </p:nvSpPr>
          <p:spPr>
            <a:xfrm>
              <a:off x="772920" y="1066680"/>
              <a:ext cx="654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c0128"/>
                  </a:solidFill>
                  <a:latin typeface="Garamond"/>
                </a:rPr>
                <a:t> </a:t>
              </a:r>
              <a:r>
                <a:rPr b="1" lang="en-GB" sz="2000" spc="-1" strike="noStrike">
                  <a:solidFill>
                    <a:srgbClr val="fc0128"/>
                  </a:solidFill>
                  <a:latin typeface="Garamond"/>
                </a:rPr>
                <a:t>MVC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 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	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Zambia -</a:t>
              </a:r>
              <a:r>
                <a:rPr b="1" lang="en-GB" sz="2000" spc="-1" strike="noStrike">
                  <a:solidFill>
                    <a:srgbClr val="063de8"/>
                  </a:solidFill>
                  <a:latin typeface="Garamond"/>
                </a:rPr>
                <a:t>  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30/04/98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en-GB" sz="2000" spc="-1" strike="noStrike">
                  <a:solidFill>
                    <a:srgbClr val="3365fb"/>
                  </a:solidFill>
                  <a:latin typeface="Garamond"/>
                </a:rPr>
                <a:t>BDC</a:t>
              </a:r>
              <a:endParaRPr b="0" lang="en-US" sz="20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pic>
          <p:nvPicPr>
            <p:cNvPr id="250" name="mon480mvc" descr=""/>
            <p:cNvPicPr/>
            <p:nvPr/>
          </p:nvPicPr>
          <p:blipFill>
            <a:blip r:embed="rId1"/>
            <a:srcRect l="7874" t="3600" r="4724" b="7199"/>
            <a:stretch/>
          </p:blipFill>
          <p:spPr>
            <a:xfrm>
              <a:off x="561960" y="1523880"/>
              <a:ext cx="336168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mon480brdf" descr=""/>
            <p:cNvPicPr/>
            <p:nvPr/>
          </p:nvPicPr>
          <p:blipFill>
            <a:blip r:embed="rId2"/>
            <a:srcRect l="7874" t="3600" r="4724" b="7199"/>
            <a:stretch/>
          </p:blipFill>
          <p:spPr>
            <a:xfrm>
              <a:off x="4008600" y="1523880"/>
              <a:ext cx="3360240" cy="48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2744640" y="61920"/>
            <a:ext cx="6189840" cy="852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RESULTS ON VEGETATION IMAGES</a:t>
            </a:r>
            <a:endParaRPr b="0" lang="en-US" sz="26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32880" y="1676520"/>
            <a:ext cx="4712040" cy="30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21160" y="1676520"/>
            <a:ext cx="2532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RESULTS ON TIME SERIES </a:t>
            </a:r>
            <a:br>
              <a:rPr sz="2600"/>
            </a:b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(RED &amp; NIR)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256" name="S6N12A2C2R3030E31can2" descr=""/>
          <p:cNvPicPr/>
          <p:nvPr/>
        </p:nvPicPr>
        <p:blipFill>
          <a:blip r:embed="rId1"/>
          <a:srcRect l="4094" t="2400" r="4724" b="4799"/>
          <a:stretch/>
        </p:blipFill>
        <p:spPr>
          <a:xfrm>
            <a:off x="5181480" y="1295280"/>
            <a:ext cx="3462480" cy="4267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2280" y="5715000"/>
            <a:ext cx="8369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312"/>
              </a:spcAft>
              <a:buClr>
                <a:srgbClr val="000000"/>
              </a:buClr>
              <a:buSzPct val="130000"/>
              <a:buFont typeface="ZapfDingba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BDC time series are smoother than MVC, due to nadir-like viewing </a:t>
            </a:r>
            <a:endParaRPr b="0" lang="en-US" sz="21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3186000"/>
            <a:ext cx="393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c0128"/>
                </a:solidFill>
                <a:latin typeface="Arial"/>
              </a:rPr>
              <a:t>MVC is in red</a:t>
            </a:r>
            <a:r>
              <a:rPr b="1" lang="en-US" sz="1100" spc="-1" strike="noStrike">
                <a:solidFill>
                  <a:srgbClr val="063de8"/>
                </a:solidFill>
                <a:latin typeface="Arial"/>
              </a:rPr>
              <a:t>, BDC in blue</a:t>
            </a:r>
            <a:endParaRPr b="0" lang="en-US" sz="11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33240" y="1295280"/>
            <a:ext cx="3938760" cy="4284720"/>
            <a:chOff x="633240" y="1295280"/>
            <a:chExt cx="3938760" cy="4284720"/>
          </a:xfrm>
        </p:grpSpPr>
        <p:pic>
          <p:nvPicPr>
            <p:cNvPr id="260" name="S6N12A2C2R3030E31can1" descr=""/>
            <p:cNvPicPr/>
            <p:nvPr/>
          </p:nvPicPr>
          <p:blipFill>
            <a:blip r:embed="rId2"/>
            <a:srcRect l="4094" t="2400" r="4724" b="4799"/>
            <a:stretch/>
          </p:blipFill>
          <p:spPr>
            <a:xfrm>
              <a:off x="914400" y="1295280"/>
              <a:ext cx="346392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33240" y="3276720"/>
              <a:ext cx="3938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c0128"/>
                  </a:solidFill>
                  <a:latin typeface="Arial"/>
                </a:rPr>
                <a:t>MVC is in red</a:t>
              </a:r>
              <a:r>
                <a:rPr b="1" lang="en-US" sz="1100" spc="-1" strike="noStrike">
                  <a:solidFill>
                    <a:srgbClr val="063de8"/>
                  </a:solidFill>
                  <a:latin typeface="Arial"/>
                </a:rPr>
                <a:t>, BDC in blue</a:t>
              </a:r>
              <a:endParaRPr b="0" lang="en-US" sz="11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63de8"/>
                </a:solidFill>
                <a:uFillTx/>
                <a:latin typeface="Arial"/>
              </a:rPr>
              <a:t>CRITERIA FOR CLOUD DETECTION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A pixel is declared cloudy if all spectral bands have higher values than the corresponding thresholds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Only two thresholds are ‘binding’ : B0 and SWIR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63de8"/>
                </a:solidFill>
                <a:uFillTx/>
                <a:latin typeface="Arial"/>
              </a:rPr>
              <a:t>OPTIMISATION ENGINE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pecially developed dedicated Genetic Algorithm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63de8"/>
                </a:solidFill>
                <a:uFillTx/>
                <a:latin typeface="Arial"/>
              </a:rPr>
              <a:t>RESULTS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Binary cloud mask (threshold on B0 and SWIR)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32880" y="1676520"/>
            <a:ext cx="4712040" cy="30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RESULTS ON TIME SERIES (NDVI)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94280" y="1371600"/>
            <a:ext cx="365760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Wingdings"/>
                <a:ea typeface="Wingdings"/>
              </a:rPr>
              <a:t></a:t>
            </a:r>
            <a:endParaRPr b="0" lang="en-US" sz="36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more quantitative method for analysing ‘high frequency time fluctuations’ </a:t>
            </a:r>
            <a:r>
              <a:rPr b="1" i="1" lang="en-GB" sz="1600" spc="-1" strike="noStrike">
                <a:solidFill>
                  <a:srgbClr val="000099"/>
                </a:solidFill>
                <a:latin typeface="Garamond"/>
              </a:rPr>
              <a:t>( Leroy et al. 1999 )</a:t>
            </a:r>
            <a:r>
              <a:rPr b="1" lang="en-GB" sz="2200" spc="-1" strike="noStrike">
                <a:solidFill>
                  <a:srgbClr val="000099"/>
                </a:solidFill>
                <a:latin typeface="Garamond"/>
              </a:rPr>
              <a:t> :</a:t>
            </a:r>
            <a:endParaRPr b="0" lang="en-US" sz="22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Wingdings"/>
                <a:ea typeface="Wingdings"/>
              </a:rPr>
              <a:t></a:t>
            </a:r>
            <a:endParaRPr b="0" lang="en-US" sz="36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27520" y="3581280"/>
            <a:ext cx="2954520" cy="19893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281160" y="1295280"/>
            <a:ext cx="4586040" cy="4996080"/>
            <a:chOff x="281160" y="1295280"/>
            <a:chExt cx="4586040" cy="4996080"/>
          </a:xfrm>
        </p:grpSpPr>
        <p:pic>
          <p:nvPicPr>
            <p:cNvPr id="267" name="S6N12A2C2R3030E31can4" descr=""/>
            <p:cNvPicPr/>
            <p:nvPr/>
          </p:nvPicPr>
          <p:blipFill>
            <a:blip r:embed="rId2"/>
            <a:srcRect l="3150" t="2400" r="5669" b="4799"/>
            <a:stretch/>
          </p:blipFill>
          <p:spPr>
            <a:xfrm>
              <a:off x="281160" y="1295280"/>
              <a:ext cx="4586040" cy="49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62320" y="3581280"/>
              <a:ext cx="3939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fc0128"/>
                  </a:solidFill>
                  <a:latin typeface="Arial"/>
                </a:rPr>
                <a:t>MVC is in red</a:t>
              </a:r>
              <a:r>
                <a:rPr b="1" lang="en-US" sz="1100" spc="-1" strike="noStrike">
                  <a:solidFill>
                    <a:srgbClr val="063de8"/>
                  </a:solidFill>
                  <a:latin typeface="Arial"/>
                </a:rPr>
                <a:t>, BDC in blue</a:t>
              </a:r>
              <a:endParaRPr b="0" lang="en-US" sz="11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32880" y="1676520"/>
            <a:ext cx="4712040" cy="30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638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7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0960" y="1371600"/>
            <a:ext cx="8651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8160" bIns="38160" anchor="t">
            <a:normAutofit fontScale="76000"/>
          </a:bodyPr>
          <a:p>
            <a:pPr marL="293040" indent="-177480"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aramond"/>
              </a:rPr>
              <a:t>MAIN OUTCOMES FROM SIMULATION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: 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250"/>
              </a:spcAft>
              <a:buClr>
                <a:srgbClr val="000000"/>
              </a:buClr>
              <a:buFont typeface="ZapfDingbats" charset="2"/>
              <a:buChar char="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Proves the limitations of  MVC, 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250"/>
              </a:spcAft>
              <a:buClr>
                <a:srgbClr val="000000"/>
              </a:buClr>
              <a:buFont typeface="ZapfDingbats" charset="2"/>
              <a:buChar char="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Quantifies the improvements of bidirectional normalisation and averaging of data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250"/>
              </a:spcAft>
              <a:buClr>
                <a:srgbClr val="000000"/>
              </a:buClr>
              <a:buFont typeface="ZapfDingbats" charset="2"/>
              <a:buChar char="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Shows that the common concept of sliding time window is not operational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499"/>
              </a:spcAft>
              <a:buClr>
                <a:srgbClr val="000000"/>
              </a:buClr>
              <a:buFont typeface="ZapfDingbats" charset="2"/>
              <a:buChar char="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8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499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8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250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Garamond"/>
              </a:rPr>
              <a:t>NEW CONCEPT</a:t>
            </a: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 : COLLECT A FIXED DATA SET TO RETRIEVE THE BRDF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 algn="ctr">
              <a:lnSpc>
                <a:spcPct val="70000"/>
              </a:lnSpc>
              <a:spcAft>
                <a:spcPts val="1250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BDC is self-consistent (no external information is required), 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 algn="ctr">
              <a:lnSpc>
                <a:spcPct val="70000"/>
              </a:lnSpc>
              <a:spcAft>
                <a:spcPts val="1250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homogeneous (no alternative method is used), 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 algn="ctr">
              <a:lnSpc>
                <a:spcPct val="70000"/>
              </a:lnSpc>
              <a:spcAft>
                <a:spcPts val="1250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Garamond"/>
              </a:rPr>
              <a:t>pertinent to qualify of data (cloud-filtering, statistics on the fit of BRDF)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001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16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250"/>
              </a:spcAft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aramond"/>
              </a:rPr>
              <a:t>FIRST RESULTS FROM ACTUAL VEGETATION DATA :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250"/>
              </a:spcAft>
              <a:buClr>
                <a:srgbClr val="000000"/>
              </a:buClr>
              <a:buFont typeface="ZapfDingbats" charset="2"/>
              <a:buChar char="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High contrasting and smoothness (for all spectral bands &amp; NDVI)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293040" indent="-177480">
              <a:lnSpc>
                <a:spcPct val="70000"/>
              </a:lnSpc>
              <a:spcAft>
                <a:spcPts val="1250"/>
              </a:spcAft>
              <a:buClr>
                <a:srgbClr val="000000"/>
              </a:buClr>
              <a:buFont typeface="ZapfDingbats" charset="2"/>
              <a:buChar char="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To be calibrated and validated at broad scales in space and time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 u="sng">
                <a:solidFill>
                  <a:srgbClr val="063de8"/>
                </a:solidFill>
                <a:uFillTx/>
                <a:latin typeface="Arial"/>
              </a:rPr>
              <a:t>THREE LEVEL CLOUD MASK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Apply binary mask to a large number of images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Make histograms of clear and cloudy pixels over all regions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elect a region of uncertainty around the thresholds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11"/>
              </a:spcBef>
              <a:buClr>
                <a:srgbClr val="063de8"/>
              </a:buClr>
              <a:buFont typeface="Arial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Label the corresponding values as the lower and upper thresholds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Resulting protocol for cloud detection: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A pixel is labeled CLEAR if : B0&lt;493 OR SWIR&lt;180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A pixel is labeled CLOUDY if : B0&gt;720 AND SWIR&gt;320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A pixel is labeled UNCERTAIN in all other cases.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(Thresholds are digital numbers of the VGT-P products)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Validation: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Cloud detection was validated by means of comparison to synoptic observations of cloud cover in stations over the world (data set courtesy of Météo-France)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Performance was satisfactory (average error of cloud cover &lt; 14%), especially considering all the differences between synoptic observations and satellite observations (measurement scale, FOV, time differences, mountains, subjectivity of human observer,…)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SHADOW DETECTION : GEOMETRIC MODEL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463480" y="3993840"/>
            <a:ext cx="4757040" cy="215640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011480" y="3023640"/>
            <a:ext cx="3245760" cy="2391120"/>
            <a:chOff x="4011480" y="3023640"/>
            <a:chExt cx="3245760" cy="2391120"/>
          </a:xfrm>
        </p:grpSpPr>
        <p:sp>
          <p:nvSpPr>
            <p:cNvPr id="58" name=""/>
            <p:cNvSpPr/>
            <p:nvPr/>
          </p:nvSpPr>
          <p:spPr>
            <a:xfrm flipV="1">
              <a:off x="4011480" y="3174840"/>
              <a:ext cx="3021480" cy="22399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48360" y="3023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flipV="1">
            <a:off x="4011480" y="2023920"/>
            <a:ext cx="1800" cy="3392640"/>
          </a:xfrm>
          <a:prstGeom prst="line">
            <a:avLst/>
          </a:prstGeom>
          <a:ln w="255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670120" y="4903920"/>
            <a:ext cx="1341360" cy="512640"/>
          </a:xfrm>
          <a:prstGeom prst="line">
            <a:avLst/>
          </a:prstGeom>
          <a:ln w="255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11480" y="5416560"/>
            <a:ext cx="4029120" cy="31896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8760" y="1511280"/>
            <a:ext cx="270000" cy="257040"/>
          </a:xfrm>
          <a:prstGeom prst="ellipse">
            <a:avLst/>
          </a:prstGeom>
          <a:noFill/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27320" y="1768320"/>
            <a:ext cx="6445080" cy="3938760"/>
          </a:xfrm>
          <a:prstGeom prst="line">
            <a:avLst/>
          </a:prstGeom>
          <a:ln w="2556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32360" y="1895040"/>
            <a:ext cx="1409760" cy="352116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70280" y="3808440"/>
            <a:ext cx="0" cy="1343160"/>
          </a:xfrm>
          <a:prstGeom prst="line">
            <a:avLst/>
          </a:prstGeom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59480" y="417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98200" y="570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hadow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52280" y="35607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cloud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4680" y="5159520"/>
            <a:ext cx="3087720" cy="5475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3120" y="5543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31400" y="2216160"/>
            <a:ext cx="240156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402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40236"/>
              </a:path>
            </a:pathLst>
          </a:custGeom>
          <a:noFill/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93080" y="2216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6960" y="3564000"/>
            <a:ext cx="937440" cy="10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3" y="6"/>
                </a:moveTo>
                <a:arcTo wR="10800" hR="10800" stAng="-5513773" swAng="4853599"/>
                <a:lnTo>
                  <a:pt x="10800" y="10800"/>
                </a:lnTo>
                <a:close/>
              </a:path>
              <a:path fill="none" w="21600" h="21600">
                <a:moveTo>
                  <a:pt x="10443" y="6"/>
                </a:moveTo>
                <a:arcTo wR="10800" hR="10800" stAng="-5513773" swAng="4853599"/>
              </a:path>
            </a:pathLst>
          </a:custGeom>
          <a:noFill/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7640" y="3397320"/>
            <a:ext cx="5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Times New Roman"/>
              </a:rPr>
              <a:t>av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772400" y="4519080"/>
            <a:ext cx="0" cy="1181160"/>
          </a:xfrm>
          <a:prstGeom prst="line">
            <a:avLst/>
          </a:prstGeom>
          <a:ln w="1260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101000" y="4903920"/>
            <a:ext cx="13420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94680" y="4903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59920" y="4712040"/>
            <a:ext cx="29131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485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48581"/>
              </a:path>
            </a:pathLst>
          </a:custGeom>
          <a:noFill/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10280" y="5549040"/>
            <a:ext cx="201240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7364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73648"/>
              </a:path>
            </a:pathLst>
          </a:custGeom>
          <a:noFill/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2400" y="57704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94520" y="5765760"/>
            <a:ext cx="45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600" y="1801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03960" y="18320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at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20760" y="532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08840" y="484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861800" y="1417680"/>
            <a:ext cx="1322640" cy="507960"/>
            <a:chOff x="4861800" y="1417680"/>
            <a:chExt cx="1322640" cy="507960"/>
          </a:xfrm>
        </p:grpSpPr>
        <p:sp>
          <p:nvSpPr>
            <p:cNvPr id="88" name=""/>
            <p:cNvSpPr/>
            <p:nvPr/>
          </p:nvSpPr>
          <p:spPr>
            <a:xfrm>
              <a:off x="5073120" y="1716120"/>
              <a:ext cx="840960" cy="0"/>
            </a:xfrm>
            <a:prstGeom prst="line">
              <a:avLst/>
            </a:prstGeom>
            <a:ln w="93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73360" y="1671840"/>
              <a:ext cx="180000" cy="133920"/>
            </a:xfrm>
            <a:prstGeom prst="rect">
              <a:avLst/>
            </a:prstGeom>
            <a:solidFill>
              <a:srgbClr val="51dc00"/>
            </a:solidFill>
            <a:ln w="93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74600">
              <a:off x="4952520" y="1447560"/>
              <a:ext cx="240120" cy="447480"/>
            </a:xfrm>
            <a:prstGeom prst="rect">
              <a:avLst/>
            </a:prstGeom>
            <a:solidFill>
              <a:srgbClr val="51dc00"/>
            </a:solidFill>
            <a:ln w="93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74600">
              <a:off x="5853600" y="1447560"/>
              <a:ext cx="240120" cy="447480"/>
            </a:xfrm>
            <a:prstGeom prst="rect">
              <a:avLst/>
            </a:prstGeom>
            <a:solidFill>
              <a:srgbClr val="51dc00"/>
            </a:solidFill>
            <a:ln w="93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63de8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413600" y="5257800"/>
            <a:ext cx="13572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4476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44761"/>
              </a:path>
            </a:pathLst>
          </a:custGeom>
          <a:noFill/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772400" y="5259240"/>
            <a:ext cx="566640" cy="447840"/>
          </a:xfrm>
          <a:prstGeom prst="line">
            <a:avLst/>
          </a:prstGeom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4680" y="5864400"/>
            <a:ext cx="48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3600" y="5060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19840" y="4680000"/>
            <a:ext cx="303120" cy="831960"/>
          </a:xfrm>
          <a:custGeom>
            <a:avLst/>
            <a:gdLst/>
            <a:ahLst/>
            <a:rect l="l" t="t" r="r" b="b"/>
            <a:pathLst>
              <a:path w="216" h="624">
                <a:moveTo>
                  <a:pt x="0" y="0"/>
                </a:moveTo>
                <a:cubicBezTo>
                  <a:pt x="84" y="116"/>
                  <a:pt x="168" y="232"/>
                  <a:pt x="192" y="336"/>
                </a:cubicBezTo>
                <a:cubicBezTo>
                  <a:pt x="216" y="440"/>
                  <a:pt x="176" y="576"/>
                  <a:pt x="144" y="624"/>
                </a:cubicBezTo>
              </a:path>
            </a:pathLst>
          </a:custGeom>
          <a:noFill/>
          <a:ln w="9360">
            <a:solidFill>
              <a:srgbClr val="063de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7032600" y="5143680"/>
            <a:ext cx="1258560" cy="104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5" y="16807"/>
                </a:moveTo>
                <a:arcTo wR="10800" hR="10800" stAng="8772293" swAng="13457932"/>
                <a:lnTo>
                  <a:pt x="10800" y="10800"/>
                </a:lnTo>
                <a:close/>
              </a:path>
              <a:path fill="none" w="21600" h="21600">
                <a:moveTo>
                  <a:pt x="1825" y="16807"/>
                </a:moveTo>
                <a:arcTo wR="10800" hR="10800" stAng="8772293" swAng="13457932"/>
              </a:path>
            </a:pathLst>
          </a:custGeom>
          <a:noFill/>
          <a:ln w="936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304920"/>
            <a:ext cx="7455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Example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981080"/>
          <a:ext cx="381024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8102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0" y="1981080"/>
          <a:ext cx="4186080" cy="324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418608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22280" y="5653440"/>
            <a:ext cx="40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B3 channel of SPOT4-VEGETATION image of the Sahara desert, Algeria.   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53160" y="5669280"/>
            <a:ext cx="40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cloud mask (light) and shadow mask (dark) calculated with the specified  algorithms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1277640"/>
            <a:ext cx="8577000" cy="5275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t">
            <a:normAutofit/>
          </a:bodyPr>
          <a:p>
            <a:pPr marL="2332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Evolution of the cloud mask (1)</a:t>
            </a:r>
            <a:endParaRPr b="1" lang="en-US" sz="1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9050" t="0" r="12866" b="3122"/>
          <a:stretch/>
        </p:blipFill>
        <p:spPr>
          <a:xfrm>
            <a:off x="4876920" y="1685880"/>
            <a:ext cx="3352680" cy="364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18569" t="0" r="13347" b="3122"/>
          <a:stretch/>
        </p:blipFill>
        <p:spPr>
          <a:xfrm>
            <a:off x="914400" y="1685880"/>
            <a:ext cx="3352680" cy="3648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2280" y="5653440"/>
            <a:ext cx="40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B3 channel of SPOT4-VEGETATION image of the Amazon, Venezuela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53160" y="577584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First Binary Cloud Mask (Before start of the project)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01720" y="37800"/>
            <a:ext cx="626076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en-US" sz="2900" spc="-1" strike="noStrike">
                <a:solidFill>
                  <a:srgbClr val="063de8"/>
                </a:solidFill>
                <a:latin typeface="Arial"/>
              </a:rPr>
              <a:t>CLOUD AND SHADOW DETECTION</a:t>
            </a:r>
            <a:endParaRPr b="1" lang="en-US" sz="29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6520" y="152280"/>
            <a:ext cx="745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3160" y="577584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Binary cloud mask (implemented now)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8793" t="0" r="13305" b="2770"/>
          <a:stretch/>
        </p:blipFill>
        <p:spPr>
          <a:xfrm>
            <a:off x="5105520" y="1828800"/>
            <a:ext cx="3200400" cy="350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19738" t="0" r="12849" b="3275"/>
          <a:stretch/>
        </p:blipFill>
        <p:spPr>
          <a:xfrm>
            <a:off x="914400" y="182880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2280" y="5653440"/>
            <a:ext cx="40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63de8"/>
                </a:solidFill>
                <a:latin typeface="Times New Roman"/>
              </a:rPr>
              <a:t>B3 channel of SPOT4-VEGETATION image of the Amazon, Venezuela</a:t>
            </a:r>
            <a:endParaRPr b="0" lang="en-US" sz="14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2280" y="1202400"/>
            <a:ext cx="81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Evolution of the cloud mask (2)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15:24:43Z</dcterms:created>
  <dc:creator>Gilbert SAINT</dc:creator>
  <dc:description/>
  <dc:language>en-US</dc:language>
  <cp:lastModifiedBy>etienne</cp:lastModifiedBy>
  <dcterms:modified xsi:type="dcterms:W3CDTF">2001-05-07T13:21:52Z</dcterms:modified>
  <cp:revision>4</cp:revision>
  <dc:subject/>
  <dc:title>WP 1 : Improvements of products and services</dc:title>
</cp:coreProperties>
</file>