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7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8.png" ContentType="image/png"/>
  <Override PartName="/ppt/media/image38.png" ContentType="image/png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CC5-5102-4348-84C1-2846A2C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3C2-BBED-4996-8ECC-A63B2FD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935-EB9C-45A7-812C-2B0A50D3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E28-6717-4BB1-A1B9-D202D9EC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52E-3399-4663-931D-5CD61EAC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2D3-A84B-4DEA-A693-7110E6C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231-2E41-488A-B503-E4C55368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A46-A3BC-43FC-BB9B-316DC2C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0666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8AE-5D02-452D-A8E3-6D3AB10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95E-DD4D-4832-B8CB-D51C18C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B89-08E6-4749-9EB0-82F5D1A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8BE-4A29-44B0-A52E-1075E1C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obo@ija.csi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228240"/>
            <a:ext cx="7848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. Lobo.  Time series of coarse-resolution satellite imag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ADB-6B48-405A-92F3-E0EA19BBC51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series of coarse resolution satellite imagery: some experiences and cavea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stín Lo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bo@ija.csic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0560" y="3732480"/>
            <a:ext cx="570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contribution to the GLOBAL LAND COVE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b1_16cl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400800" cy="404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17B-438F-4306-8756-218A22020EB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b1_corr1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931-F10F-46C1-80BE-F76B9B3D3EE2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065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date imagery would never produce such a result, no matter how many spectral bands would be consider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191-7075-4F7D-A228-C7A365ABCD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because time series of Vegetation Index are an estimate of the phenolgy of fPAR, which is a fundamental property of vege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EC7-D1D7-4BAF-B319-E09BBAD4B6F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15364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lgy of fPAR is shaped by climatic constraints (temperature and water availability) acting on the trade-offs of leaf maintenance,  which implies that time series of Vegetation Index respond to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2FB-EA9D-4C40-A139-00465FB723D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there are two important shortcomings to be consid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Phenology is also fine-tuned by meteorological conditions, which implies that there is significa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-annual var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, therefore, mean annual series should be preferred for land-cover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D86-6EA4-45D2-AA24-F83AF478B23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Mndvi_median_selectEUcl_big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248680" cy="36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C69-A8A8-4574-9AE2-7F2C6D9208C7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pn_anual2col" descr=""/>
          <p:cNvPicPr/>
          <p:nvPr/>
        </p:nvPicPr>
        <p:blipFill>
          <a:blip r:embed="rId2"/>
          <a:stretch/>
        </p:blipFill>
        <p:spPr>
          <a:xfrm>
            <a:off x="585720" y="609480"/>
            <a:ext cx="3986280" cy="5639040"/>
          </a:xfrm>
          <a:prstGeom prst="rect">
            <a:avLst/>
          </a:prstGeom>
          <a:ln w="0">
            <a:noFill/>
          </a:ln>
        </p:spPr>
      </p:pic>
      <p:pic>
        <p:nvPicPr>
          <p:cNvPr id="89" name="esp_tpn_anual2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9322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BAD-AB7B-45EA-B0AC-ABB104089A8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lthough an important property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enology of  fPAR is not en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iscriminate among some important land-cover types. Other properties should be measured from RS, such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A0F-2E81-43A2-A62C-F2DC2E97BA3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f/wood biomass ratio (“woodines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 type an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io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of dominant can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ing” (vertical profile of leaf biom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4CD-CCFA-45BF-A496-6AE6917826C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of time series of Vegetation Index have produced vegetation charts at regional to global scales that are in general agreement with charts produced by comp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567-A9D8-4A12-9CC2-1FCB979801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 type an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to estimate the relative abundance of coastal conifers (i.e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. halepen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evergreen oaks, because of their different behavior against fire. Note that vegetation changes due to increased aridity in the Mediterranean will be mediated through wildf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 Method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effec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io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of dominant can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ing” (vertical profile of leaf biom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 Methods: Perhaps with S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94D-D725-457A-962C-4C2E2BEE576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mportant properties for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ut not for land-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o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logy of photosynthetic activity (P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logy of evapotran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py rough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2F4-F999-4814-8B79-FFC6F1C6D65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/wood biomass rat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for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bud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o estima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l loa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land-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hods: SWI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333-27C7-488F-B505-1B6F829F40D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High resolution imagery, SWIR has been found to be important to discriminate fores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iscrimina_modpur_txt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343400" cy="3073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24280" y="2895480"/>
            <a:ext cx="388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-1   (%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CAN-2 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en  0.0435 (16.4)     - 0.0448 (14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      0.0915 (34.5)       0.0190 (  6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r     -0.0447 (16.8)     - 0.2027 (64.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r    0.0855 (32.2)       0.0472 (15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057-7FA2-44AE-A64A-10ED08CB2EC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VEGETATION imagery, SWIR has been found also to be important to discriminate land cover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isc1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276720" cy="2316240"/>
          </a:xfrm>
          <a:prstGeom prst="rect">
            <a:avLst/>
          </a:prstGeom>
          <a:ln w="0">
            <a:noFill/>
          </a:ln>
        </p:spPr>
      </p:pic>
      <p:pic>
        <p:nvPicPr>
          <p:cNvPr id="100" name="ndv0401_0821_1001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18320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E24_3d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2705040" cy="2354400"/>
          </a:xfrm>
          <a:prstGeom prst="rect">
            <a:avLst/>
          </a:prstGeom>
          <a:ln w="0">
            <a:noFill/>
          </a:ln>
        </p:spPr>
      </p:pic>
      <p:pic>
        <p:nvPicPr>
          <p:cNvPr id="102" name="ndv_foc" descr=""/>
          <p:cNvPicPr/>
          <p:nvPr/>
        </p:nvPicPr>
        <p:blipFill>
          <a:blip r:embed="rId5"/>
          <a:stretch/>
        </p:blipFill>
        <p:spPr>
          <a:xfrm flipH="1" rot="10800000">
            <a:off x="304920" y="4267080"/>
            <a:ext cx="2209680" cy="1562400"/>
          </a:xfrm>
          <a:prstGeom prst="rect">
            <a:avLst/>
          </a:prstGeom>
          <a:ln w="0">
            <a:noFill/>
          </a:ln>
        </p:spPr>
      </p:pic>
      <p:pic>
        <p:nvPicPr>
          <p:cNvPr id="103" name="ndv_mir_foc" descr=""/>
          <p:cNvPicPr/>
          <p:nvPr/>
        </p:nvPicPr>
        <p:blipFill>
          <a:blip r:embed="rId6"/>
          <a:stretch/>
        </p:blipFill>
        <p:spPr>
          <a:xfrm>
            <a:off x="2971800" y="4267080"/>
            <a:ext cx="2209680" cy="1562400"/>
          </a:xfrm>
          <a:prstGeom prst="rect">
            <a:avLst/>
          </a:prstGeom>
          <a:ln w="0">
            <a:noFill/>
          </a:ln>
        </p:spPr>
      </p:pic>
      <p:pic>
        <p:nvPicPr>
          <p:cNvPr id="104" name="scores" descr=""/>
          <p:cNvPicPr/>
          <p:nvPr/>
        </p:nvPicPr>
        <p:blipFill>
          <a:blip r:embed="rId7"/>
          <a:stretch/>
        </p:blipFill>
        <p:spPr>
          <a:xfrm>
            <a:off x="5562720" y="40384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27600" y="1752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burned fo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4440" y="25146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d vege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560" y="21337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78960" y="27432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rrigated fie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bne19980724zb" descr=""/>
          <p:cNvPicPr/>
          <p:nvPr/>
        </p:nvPicPr>
        <p:blipFill>
          <a:blip r:embed="rId8"/>
          <a:stretch/>
        </p:blipFill>
        <p:spPr>
          <a:xfrm>
            <a:off x="2286000" y="3276720"/>
            <a:ext cx="617400" cy="57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B7E-7FE6-47FC-852A-7EC5BB82DDA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362320" y="685800"/>
            <a:ext cx="6203880" cy="504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0573200">
            <a:off x="913680" y="1980720"/>
            <a:ext cx="1352520" cy="625680"/>
          </a:xfrm>
          <a:prstGeom prst="leftArrow">
            <a:avLst>
              <a:gd name="adj1" fmla="val 50000"/>
              <a:gd name="adj2" fmla="val 10805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5645000">
            <a:off x="5568840" y="2795400"/>
            <a:ext cx="779040" cy="42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64" y="285"/>
                </a:moveTo>
                <a:arcTo wR="10800" hR="10800" stAng="-4608563" swAng="15639797"/>
                <a:lnTo>
                  <a:pt x="10800" y="10800"/>
                </a:lnTo>
                <a:close/>
              </a:path>
              <a:path fill="none" w="21600" h="21600">
                <a:moveTo>
                  <a:pt x="13264" y="285"/>
                </a:moveTo>
                <a:arcTo wR="10800" hR="10800" stAng="-4608563" swAng="15639797"/>
              </a:path>
            </a:pathLst>
          </a:custGeom>
          <a:noFill/>
          <a:ln cap="rnd" w="381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3429000"/>
            <a:ext cx="2466720" cy="16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109-9E5C-4036-8A69-5304C73E31B2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lano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9E1-BE4D-4366-A85C-0529D81D28F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ice3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63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7CE-07CC-4AE3-9E94-F70F022E4B1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1t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53440" cy="46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B71-A3E3-4442-9615-ACCD4EF4D6A5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8b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24640" cy="461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440" y="1295280"/>
            <a:ext cx="1029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2A7-594E-4FAD-A7F3-08D4DA2F6B52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b_clust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463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24382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7E5-850E-4371-8966-02561F682D3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2n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53440" cy="46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39120" y="1371600"/>
            <a:ext cx="3399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s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room dry garri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D67-74E3-45C9-A713-89BE24273702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45e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24640" cy="461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39840" y="1371600"/>
            <a:ext cx="362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ercus il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t and shrub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CB4-1ACD-48D2-9CF2-2055AC44E3E7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5f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24640" cy="4611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39840" y="1371600"/>
            <a:ext cx="3397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ercus rotundifol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rub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89D-7DC2-43B4-A37C-42543F5A1835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4aa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24640" cy="4611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1840" y="1371600"/>
            <a:ext cx="4905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halepensis with Q. rotundifol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or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3DA-29A5-436F-BF05-9E3AD24FA52A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2f_plano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524640" cy="461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16880" y="1371600"/>
            <a:ext cx="312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uncin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ntain fo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D99-BCE1-4A15-A3F5-6E6ABBD69D54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though there is some sensitivity to the wood/leaf ratio, the eventual presence of water complicates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217-57E4-4DCD-B51F-859AE1EFA4E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872-CA67-416D-AB52-B6EC9C914DF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61760" y="228240"/>
            <a:ext cx="7848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. Lobo.  Time series of coarse-resolution satellite imag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obo@ija.csi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-OVNI, S-NDVI, S-OVNI?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F91021a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4808520" cy="4727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14680" y="2232000"/>
            <a:ext cx="28598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-09-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-12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kina-F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bo &amp; Barthol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9991021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715160" cy="4047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99840" y="10666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-ND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10666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-OV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CED-2038-4B2E-B08E-FE62D32D8CE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99840" y="10666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-ND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666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-OV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19991021_SNDVIplot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19991021_POVNIplot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342900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09480" y="4267080"/>
            <a:ext cx="5715000" cy="2428920"/>
            <a:chOff x="609480" y="4267080"/>
            <a:chExt cx="5715000" cy="2428920"/>
          </a:xfrm>
        </p:grpSpPr>
        <p:pic>
          <p:nvPicPr>
            <p:cNvPr id="145" name="19991021_SOVNIplot" descr=""/>
            <p:cNvPicPr/>
            <p:nvPr/>
          </p:nvPicPr>
          <p:blipFill>
            <a:blip r:embed="rId4"/>
            <a:stretch/>
          </p:blipFill>
          <p:spPr>
            <a:xfrm>
              <a:off x="2895480" y="4267080"/>
              <a:ext cx="34290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09480" y="502920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-OVNI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018-03B0-4284-BDE6-F044FF6FF49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guscreancapture001" descr=""/>
          <p:cNvPicPr/>
          <p:nvPr/>
        </p:nvPicPr>
        <p:blipFill>
          <a:blip r:embed="rId2"/>
          <a:stretch/>
        </p:blipFill>
        <p:spPr>
          <a:xfrm>
            <a:off x="2224080" y="627120"/>
            <a:ext cx="4694400" cy="560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281-12E4-475F-9290-8BA01EB348BC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b1_centr2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324840" cy="3727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9800" y="2819520"/>
            <a:ext cx="26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Summer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7880" y="3854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Spring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1240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57600" y="4191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b_clust" descr=""/>
          <p:cNvPicPr/>
          <p:nvPr/>
        </p:nvPicPr>
        <p:blipFill>
          <a:blip r:embed="rId3"/>
          <a:stretch/>
        </p:blipFill>
        <p:spPr>
          <a:xfrm>
            <a:off x="3733920" y="685800"/>
            <a:ext cx="1752480" cy="13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9907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8CB-DCFE-4D61-9AF0-1E908242166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25_28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286400" cy="34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AD2-86CC-49F6-8D4D-84917412F96E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b1_02cl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794560" cy="425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81400" y="685800"/>
            <a:ext cx="26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ummer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2960" y="28638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pring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143000"/>
            <a:ext cx="4572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352320" y="3200400"/>
            <a:ext cx="38124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124080"/>
            <a:ext cx="53316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971440" y="1143000"/>
            <a:ext cx="304920" cy="83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D71-CDF3-43B1-8E6D-D3FA4FB580C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b_clust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4638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2920" y="35812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D12-243D-440B-B2BC-7E756F070AF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b1_centr5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172200" cy="3643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29120" y="2514600"/>
            <a:ext cx="26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Summer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160" y="2819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Spring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8195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74800" y="3133440"/>
            <a:ext cx="440280" cy="2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b_clust" descr=""/>
          <p:cNvPicPr/>
          <p:nvPr/>
        </p:nvPicPr>
        <p:blipFill>
          <a:blip r:embed="rId3"/>
          <a:stretch/>
        </p:blipFill>
        <p:spPr>
          <a:xfrm>
            <a:off x="3733920" y="685800"/>
            <a:ext cx="1752480" cy="13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3716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35E-FA77-4AA2-B2D4-567CC30BC3B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b1_05cl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86764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81400" y="685800"/>
            <a:ext cx="26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ummer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0" y="38862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pring-peaking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990720"/>
            <a:ext cx="4572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3560" y="4235040"/>
            <a:ext cx="1320480" cy="56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99840" y="3475440"/>
            <a:ext cx="1181880" cy="7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971440" y="1143000"/>
            <a:ext cx="304920" cy="83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86520" y="3443760"/>
            <a:ext cx="560880" cy="50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D44-2E75-4D10-A896-79E05FCC1B6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b_clust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463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91520" y="45720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306-EAA4-40F2-B1AB-0246ED066D9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2000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8:04:57Z</dcterms:created>
  <dc:creator>Agustin Lobo</dc:creator>
  <dc:description/>
  <dc:language>en-US</dc:language>
  <cp:lastModifiedBy>etienne</cp:lastModifiedBy>
  <dcterms:modified xsi:type="dcterms:W3CDTF">2001-05-07T13:19:37Z</dcterms:modified>
  <cp:revision>113</cp:revision>
  <dc:subject/>
  <dc:title>Àrees d’entrenament (Pintó)</dc:title>
</cp:coreProperties>
</file>