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19320" y="6442200"/>
            <a:ext cx="7848360" cy="41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688760"/>
            <a:ext cx="151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6248520"/>
          <a:ext cx="1143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48520"/>
                    <a:ext cx="114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1662120"/>
            <a:ext cx="987480" cy="4586400"/>
          </a:xfrm>
          <a:prstGeom prst="rect">
            <a:avLst/>
          </a:prstGeom>
          <a:ln w="0">
            <a:noFill/>
          </a:ln>
        </p:spPr>
      </p:pic>
      <p:pic>
        <p:nvPicPr>
          <p:cNvPr id="5" name="SAI_Logo" descr=""/>
          <p:cNvPicPr/>
          <p:nvPr/>
        </p:nvPicPr>
        <p:blipFill>
          <a:blip r:embed="rId5"/>
          <a:stretch/>
        </p:blipFill>
        <p:spPr>
          <a:xfrm>
            <a:off x="0" y="0"/>
            <a:ext cx="1143000" cy="968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805440" y="9856800"/>
            <a:ext cx="83185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Global Vegetation Monitoring Uni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185760"/>
            <a:ext cx="515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encountered using Along Track Scanning Radiometer data for continental mapping over 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9520" y="1846440"/>
            <a:ext cx="73486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 for updating the forest extent maps created under the TREES I project (1992 AVHRR 1 km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treesmaps" descr=""/>
          <p:cNvPicPr/>
          <p:nvPr/>
        </p:nvPicPr>
        <p:blipFill>
          <a:blip r:embed="rId1"/>
          <a:stretch/>
        </p:blipFill>
        <p:spPr>
          <a:xfrm>
            <a:off x="1179360" y="2589120"/>
            <a:ext cx="7823520" cy="133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14440" y="4191120"/>
            <a:ext cx="7254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ility of using a ‘new’ European sensor ATSR on the ERS-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IR / SWIR / MIR / TIR  / 1 km resolution / geometrically corrected / NRT or Central service / Two looks / 500 km swath / 10AM-1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the large area to be covered and the small swath (and clouds) mosaicing wa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rrorig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370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corr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400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corrndvi" descr=""/>
          <p:cNvPicPr/>
          <p:nvPr/>
        </p:nvPicPr>
        <p:blipFill>
          <a:blip r:embed="rId3"/>
          <a:stretch/>
        </p:blipFill>
        <p:spPr>
          <a:xfrm>
            <a:off x="1600200" y="914400"/>
            <a:ext cx="6365880" cy="47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tsrbefore" descr=""/>
          <p:cNvPicPr/>
          <p:nvPr/>
        </p:nvPicPr>
        <p:blipFill>
          <a:blip r:embed="rId1"/>
          <a:stretch/>
        </p:blipFill>
        <p:spPr>
          <a:xfrm>
            <a:off x="2198520" y="485640"/>
            <a:ext cx="5035680" cy="5126040"/>
          </a:xfrm>
          <a:prstGeom prst="rect">
            <a:avLst/>
          </a:prstGeom>
          <a:ln w="0">
            <a:noFill/>
          </a:ln>
        </p:spPr>
      </p:pic>
      <p:pic>
        <p:nvPicPr>
          <p:cNvPr id="109" name="atsrafter" descr=""/>
          <p:cNvPicPr/>
          <p:nvPr/>
        </p:nvPicPr>
        <p:blipFill>
          <a:blip r:embed="rId2"/>
          <a:stretch/>
        </p:blipFill>
        <p:spPr>
          <a:xfrm>
            <a:off x="2206800" y="485640"/>
            <a:ext cx="50893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tsrmos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4581720" cy="6421320"/>
          </a:xfrm>
          <a:prstGeom prst="rect">
            <a:avLst/>
          </a:prstGeom>
          <a:ln w="0">
            <a:noFill/>
          </a:ln>
        </p:spPr>
      </p:pic>
      <p:pic>
        <p:nvPicPr>
          <p:cNvPr id="111" name="atsrafter" descr=""/>
          <p:cNvPicPr/>
          <p:nvPr/>
        </p:nvPicPr>
        <p:blipFill>
          <a:blip r:embed="rId2"/>
          <a:stretch/>
        </p:blipFill>
        <p:spPr>
          <a:xfrm>
            <a:off x="5423040" y="399960"/>
            <a:ext cx="599760" cy="61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147920" y="422280"/>
            <a:ext cx="135396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62560" y="982800"/>
            <a:ext cx="142236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09480"/>
            <a:ext cx="717876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ble to adequately establish stable parameters for the RPV polynomial (atmospheric contaminatio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ailable time series was too erratic – not enough images in certain areas and in certain s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aics were produced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tropical dry season”)  (clean images but highly contras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NDVI (“tropical wet season”) (pixe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owest SWIR (“moist / shadowed”) (cloud shadow and ha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ondswir" descr=""/>
          <p:cNvPicPr/>
          <p:nvPr/>
        </p:nvPicPr>
        <p:blipFill>
          <a:blip r:embed="rId1"/>
          <a:stretch/>
        </p:blipFill>
        <p:spPr>
          <a:xfrm>
            <a:off x="1773360" y="520560"/>
            <a:ext cx="4808520" cy="4997520"/>
          </a:xfrm>
          <a:prstGeom prst="rect">
            <a:avLst/>
          </a:prstGeom>
          <a:ln w="0">
            <a:noFill/>
          </a:ln>
        </p:spPr>
      </p:pic>
      <p:pic>
        <p:nvPicPr>
          <p:cNvPr id="116" name="rontemp" descr=""/>
          <p:cNvPicPr/>
          <p:nvPr/>
        </p:nvPicPr>
        <p:blipFill>
          <a:blip r:embed="rId2"/>
          <a:stretch/>
        </p:blipFill>
        <p:spPr>
          <a:xfrm>
            <a:off x="1787400" y="530280"/>
            <a:ext cx="4788000" cy="4984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25560" y="5715000"/>
            <a:ext cx="33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SW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06080" y="5681520"/>
            <a:ext cx="22748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T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913280" y="1928880"/>
            <a:ext cx="1581120" cy="1709280"/>
            <a:chOff x="4913280" y="1928880"/>
            <a:chExt cx="1581120" cy="1709280"/>
          </a:xfrm>
        </p:grpSpPr>
        <p:sp>
          <p:nvSpPr>
            <p:cNvPr id="120" name=""/>
            <p:cNvSpPr/>
            <p:nvPr/>
          </p:nvSpPr>
          <p:spPr>
            <a:xfrm>
              <a:off x="4913280" y="1928880"/>
              <a:ext cx="855720" cy="7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35480" y="2403360"/>
              <a:ext cx="85572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32480" y="2927160"/>
              <a:ext cx="855720" cy="7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42080" y="1962000"/>
              <a:ext cx="834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1640" y="2469960"/>
              <a:ext cx="111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D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91080" y="3054240"/>
              <a:ext cx="1003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22440" y="2655720"/>
            <a:ext cx="76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2090880"/>
            <a:ext cx="347400" cy="66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68560" y="2243160"/>
            <a:ext cx="347760" cy="66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20840" y="2395440"/>
            <a:ext cx="347760" cy="668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73480" y="2548080"/>
            <a:ext cx="347400" cy="66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20720" y="13892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32200" y="2776680"/>
            <a:ext cx="1414440" cy="150840"/>
          </a:xfrm>
          <a:custGeom>
            <a:avLst/>
            <a:gdLst>
              <a:gd name="textAreaLeft" fmla="*/ 221040 w 1414440"/>
              <a:gd name="textAreaRight" fmla="*/ 1237680 w 1414440"/>
              <a:gd name="textAreaTop" fmla="*/ 37800 h 150840"/>
              <a:gd name="textAreaBottom" fmla="*/ 113400 h 150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mallmosaic" descr=""/>
          <p:cNvPicPr/>
          <p:nvPr/>
        </p:nvPicPr>
        <p:blipFill>
          <a:blip r:embed="rId1"/>
          <a:stretch/>
        </p:blipFill>
        <p:spPr>
          <a:xfrm>
            <a:off x="6095880" y="1901880"/>
            <a:ext cx="503280" cy="704880"/>
          </a:xfrm>
          <a:prstGeom prst="rect">
            <a:avLst/>
          </a:prstGeom>
          <a:ln w="0">
            <a:noFill/>
          </a:ln>
        </p:spPr>
      </p:pic>
      <p:pic>
        <p:nvPicPr>
          <p:cNvPr id="134" name="smallmosaic" descr=""/>
          <p:cNvPicPr/>
          <p:nvPr/>
        </p:nvPicPr>
        <p:blipFill>
          <a:blip r:embed="rId2"/>
          <a:stretch/>
        </p:blipFill>
        <p:spPr>
          <a:xfrm>
            <a:off x="6434280" y="2435400"/>
            <a:ext cx="502920" cy="704520"/>
          </a:xfrm>
          <a:prstGeom prst="rect">
            <a:avLst/>
          </a:prstGeom>
          <a:ln w="0">
            <a:noFill/>
          </a:ln>
        </p:spPr>
      </p:pic>
      <p:pic>
        <p:nvPicPr>
          <p:cNvPr id="135" name="smallmosaic" descr=""/>
          <p:cNvPicPr/>
          <p:nvPr/>
        </p:nvPicPr>
        <p:blipFill>
          <a:blip r:embed="rId3"/>
          <a:stretch/>
        </p:blipFill>
        <p:spPr>
          <a:xfrm>
            <a:off x="6705720" y="2933640"/>
            <a:ext cx="503280" cy="70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21240" y="1414440"/>
            <a:ext cx="18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osa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8800" y="482760"/>
            <a:ext cx="66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aicing used as a means of selecting the best images for particular s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27280" y="439416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mosaics then constructed for ecological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68600" y="533520"/>
            <a:ext cx="43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s for VG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23960" y="1581120"/>
          <a:ext cx="6313680" cy="39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1581120"/>
                    <a:ext cx="6313680" cy="39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727280" y="1211400"/>
            <a:ext cx="38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problem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27280" y="5597640"/>
            <a:ext cx="625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ceptional data availability means that compositing should be more 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541440"/>
            <a:ext cx="64008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DF corrected images – if possible independent of existing land cover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aicing techniques that reflect vegetation in different states – “dry” and “wet” season images and avoid the follow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ud sha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xel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cre2" descr=""/>
          <p:cNvPicPr/>
          <p:nvPr/>
        </p:nvPicPr>
        <p:blipFill>
          <a:blip r:embed="rId1"/>
          <a:stretch/>
        </p:blipFill>
        <p:spPr>
          <a:xfrm>
            <a:off x="1657440" y="803160"/>
            <a:ext cx="6373800" cy="466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71640" y="5570640"/>
            <a:ext cx="49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R/NIR/RED (RGB) ATSR-2 over Rio Br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21600" y="5630760"/>
            <a:ext cx="525240" cy="889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26400" y="5729400"/>
            <a:ext cx="11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tsrbrdf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550404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ambrdf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44840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siabrdf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75801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rica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5438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680160" y="1279440"/>
            <a:ext cx="38088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8749200">
            <a:off x="4995360" y="2158200"/>
            <a:ext cx="1828800" cy="2286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6383400">
            <a:off x="5625720" y="2671560"/>
            <a:ext cx="1828800" cy="2286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111920" y="1443960"/>
            <a:ext cx="462600" cy="312480"/>
            <a:chOff x="4111920" y="1443960"/>
            <a:chExt cx="462600" cy="312480"/>
          </a:xfrm>
        </p:grpSpPr>
        <p:sp>
          <p:nvSpPr>
            <p:cNvPr id="59" name=""/>
            <p:cNvSpPr/>
            <p:nvPr/>
          </p:nvSpPr>
          <p:spPr>
            <a:xfrm>
              <a:off x="4214880" y="1447920"/>
              <a:ext cx="228600" cy="304560"/>
            </a:xfrm>
            <a:prstGeom prst="flowChartMagneticDisk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60000">
              <a:off x="4190760" y="1371240"/>
              <a:ext cx="304560" cy="457200"/>
            </a:xfrm>
            <a:prstGeom prst="flowChartCollat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614840" y="21416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41360" y="2176560"/>
            <a:ext cx="1082520" cy="20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41560" y="4452840"/>
            <a:ext cx="1828800" cy="1295280"/>
            <a:chOff x="2041560" y="4452840"/>
            <a:chExt cx="1828800" cy="1295280"/>
          </a:xfrm>
        </p:grpSpPr>
        <p:sp>
          <p:nvSpPr>
            <p:cNvPr id="64" name=""/>
            <p:cNvSpPr/>
            <p:nvPr/>
          </p:nvSpPr>
          <p:spPr>
            <a:xfrm>
              <a:off x="2575080" y="445284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03680" y="460512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51040" y="4833720"/>
              <a:ext cx="609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32280" y="491004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08240" y="5062320"/>
              <a:ext cx="609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60880" y="521496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52916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93840" y="4681440"/>
              <a:ext cx="609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46480" y="483372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98760" y="498636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51040" y="5138640"/>
              <a:ext cx="609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03680" y="529092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65440" y="5452920"/>
              <a:ext cx="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92520" y="5460840"/>
              <a:ext cx="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25960" y="5519520"/>
              <a:ext cx="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67200" y="5537160"/>
              <a:ext cx="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22520" y="5452920"/>
              <a:ext cx="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435640" y="4554360"/>
            <a:ext cx="1828800" cy="1312920"/>
            <a:chOff x="5435640" y="4554360"/>
            <a:chExt cx="1828800" cy="1312920"/>
          </a:xfrm>
        </p:grpSpPr>
        <p:sp>
          <p:nvSpPr>
            <p:cNvPr id="82" name=""/>
            <p:cNvSpPr/>
            <p:nvPr/>
          </p:nvSpPr>
          <p:spPr>
            <a:xfrm>
              <a:off x="5969160" y="455436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97760" y="470664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45120" y="4935240"/>
              <a:ext cx="609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26360" y="501156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2320" y="5163840"/>
              <a:ext cx="609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4960" y="531612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35640" y="463032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7920" y="4782960"/>
              <a:ext cx="609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0560" y="493524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92840" y="508752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45120" y="5240160"/>
              <a:ext cx="609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97760" y="5392440"/>
              <a:ext cx="60948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93000" y="5571720"/>
              <a:ext cx="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20080" y="5579640"/>
              <a:ext cx="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53160" y="5638680"/>
              <a:ext cx="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94400" y="5655960"/>
              <a:ext cx="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50080" y="5571720"/>
              <a:ext cx="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685880" y="5754600"/>
            <a:ext cx="320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st of image – satellite ‘views’ illuminated can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61120" y="5796000"/>
            <a:ext cx="365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 of image – satellite ‘views’ into the shaded can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17760" y="99072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40840" y="7603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85800"/>
            <a:ext cx="6781680" cy="55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image spectral confusion (e.g. dense forest on west of image / degraded forest on east of 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pixel selection and spectral confusion in mosa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 away half of each image (! We would never have enough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s based on known BRDF models of landcover (need to know the cover ty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the models for our database and then invert (atmospheric contamination of haze effects the data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89240" y="787320"/>
            <a:ext cx="6654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he RPV  (Rahman et al. 1993)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rical coefficients are used along with the Sun-Target-Sensor geometry to correct the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(v,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,j, k, 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 – are viewing geomet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,k,H are optimised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0:06:01Z</dcterms:created>
  <dc:creator>evah</dc:creator>
  <dc:description/>
  <dc:language>en-US</dc:language>
  <cp:lastModifiedBy>etienne</cp:lastModifiedBy>
  <dcterms:modified xsi:type="dcterms:W3CDTF">2001-05-07T13:16:52Z</dcterms:modified>
  <cp:revision>17</cp:revision>
  <dc:subject/>
  <dc:title>PowerPoint Presentation</dc:title>
</cp:coreProperties>
</file>