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B33-AA6E-4085-9026-D55517B1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2F9-178C-4A7A-BD72-83C34216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770-8CF9-4AAF-A915-35844753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F01-3D20-46F0-A906-52082F40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AAE-32A5-4430-A270-53596B5E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D72-2C51-4F97-A587-AD3A7E5C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351-ECBB-480C-BF14-3EF33267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72D-36B5-4129-9A14-7B6361C7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D91-C0DE-46C4-AD9D-CA762BFF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E21-1E2C-4633-91EF-5148EEE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79C-8929-4FD9-BE74-EC9A433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7CF-F79B-48D3-B609-63F8A7F2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07EB-2379-45E5-844B-CF86C3274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70080"/>
            <a:ext cx="6095880" cy="1618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REDUCTION and ENHANC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COMPOS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T-VEGETATION (VG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3651120"/>
            <a:ext cx="609588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man Eerens, Else Swinnen, Yves Verheij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laamse Instelling voor Technologisch Onderzoek (Vito - Belgi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nk Ca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rije Universiteit Brussel (VUB - Belgi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nowledgem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lgian Science Policy Office (Fund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RC-SAI (Full year cycle of global VGT-S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04920" y="380880"/>
            <a:ext cx="62481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of IDL/ENVI-FORMATTED PSEUDO-IMAG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95200" y="728640"/>
            <a:ext cx="6410520" cy="5105520"/>
            <a:chOff x="295200" y="728640"/>
            <a:chExt cx="6410520" cy="5105520"/>
          </a:xfrm>
        </p:grpSpPr>
        <p:grpSp>
          <p:nvGrpSpPr>
            <p:cNvPr id="526" name=""/>
            <p:cNvGrpSpPr/>
            <p:nvPr/>
          </p:nvGrpSpPr>
          <p:grpSpPr>
            <a:xfrm>
              <a:off x="295200" y="1185840"/>
              <a:ext cx="6410520" cy="4648320"/>
              <a:chOff x="295200" y="1185840"/>
              <a:chExt cx="6410520" cy="4648320"/>
            </a:xfrm>
          </p:grpSpPr>
          <p:pic>
            <p:nvPicPr>
              <p:cNvPr id="5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5200" y="1192320"/>
                <a:ext cx="3354480" cy="46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24360" y="1185840"/>
                <a:ext cx="2781360" cy="358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9" name=""/>
            <p:cNvSpPr/>
            <p:nvPr/>
          </p:nvSpPr>
          <p:spPr>
            <a:xfrm>
              <a:off x="304920" y="728640"/>
              <a:ext cx="6324480" cy="47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ormal Images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Pseudo-Im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1      2      3 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04920" y="5896080"/>
            <a:ext cx="6248160" cy="293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RMAL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d-See Mask (Inter. Goode Homolosine, 1x1km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TOPO30-DEM (Geographic Lon/L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GT-S10, Dec.3 of May 1998, NIR (Geogr. Lon/L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SEUDO-IMAGES (only 134 135 000  land pix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itude of pixel centre (flo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itude of pixel centre (flo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itude (from B - Short Integ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R of Dec.3 of May 1998 (from C - rescaled to Byt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04920" y="380880"/>
            <a:ext cx="62481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of IDL/ENVI-FORMATTED PSEUDO-IMAG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990720"/>
            <a:ext cx="6858000" cy="10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PI_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d/Sea mask in Master System (IG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master-PI’s with IGH-X/Y of pixel cen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PI_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master-PI’s with IGH-X/Y of pixel cen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master-PI’s with Lon/Lat of pixel cen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PI_EX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image in IGH or Lon/Lat (+ master-PI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-version of that image (Byte / Short Int / Flo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I_V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GT-S10/S1 + master-PI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 Byte PI-im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PI_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previously created PI (+ master-PI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sponding normal image in 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: selection of output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 PI_R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of all VGT-PI’s (+ master-PI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sponding set of normal images, IG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graded resolution (33x33km²), systematic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. C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of 36 VGT-S10 images (normal or P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ned NDVI-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. PH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of 36 VGT-S10 images (normal or P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ned NDVI-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04920" y="380880"/>
            <a:ext cx="62481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DEGRADED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422960" cy="52578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43560" y="1143000"/>
            <a:ext cx="2009520" cy="21906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04920" y="6248520"/>
            <a:ext cx="6248160" cy="2567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RMAL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36 decades x 6 = 216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but degraded (33km x 33k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pi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213x423 = 513 099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tal: 216 x 0.5 = 110 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ystematic pixel selectio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iginal sign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xcellent data set to test performance of new procedure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n global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3808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1371600"/>
            <a:ext cx="114300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00600" y="41911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nd of June 19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04920" y="380880"/>
            <a:ext cx="624816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" y="1219320"/>
            <a:ext cx="6400800" cy="68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One Possible Pathway for Global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ransverse reduction of all VGT-image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I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lso extract external inform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, …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dditional classification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on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post-processing (LC-statist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isting classification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raining  /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Longitudinal analysis on PI-imag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ning, elimination of bidirectional effects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 of phenological variables, improved VI’s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lassification in PI-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conversion to normal im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Preliminary data enhancement via data reduction seem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sp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To be integrated in CTIV (?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al delivery of data in PI-form (better than Z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users get access to glob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Lots of improvements possib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geo-systems, other output formats (now only ENVI +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RISI), streamlining of software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High radiometric resolution redu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304920"/>
            <a:ext cx="6248160" cy="147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C-Composi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ill affected by clouds, bidirectional effects, measurement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est visible / removable i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ngitudinal analysi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ime ser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leaning procedures: MVC-month, BISE, Verhoef,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1866960"/>
            <a:ext cx="3914640" cy="3342960"/>
            <a:chOff x="0" y="1866960"/>
            <a:chExt cx="3914640" cy="3342960"/>
          </a:xfrm>
        </p:grpSpPr>
        <p:graphicFrame>
          <p:nvGraphicFramePr>
            <p:cNvPr id="45" name=""/>
            <p:cNvGraphicFramePr/>
            <p:nvPr/>
          </p:nvGraphicFramePr>
          <p:xfrm>
            <a:off x="0" y="1866960"/>
            <a:ext cx="3914640" cy="2974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66960"/>
                      <a:ext cx="3914640" cy="2974680"/>
                    </a:xfrm>
                    <a:prstGeom prst="rect">
                      <a:avLst/>
                    </a:prstGeom>
                    <a:ln w="19080">
                      <a:solidFill>
                        <a:srgbClr val="ff99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>
              <a:off x="68400" y="4841640"/>
              <a:ext cx="33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OAA-AVHRR: 365 x 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454560" y="1870200"/>
            <a:ext cx="4069800" cy="3342960"/>
            <a:chOff x="3454560" y="1870200"/>
            <a:chExt cx="4069800" cy="3342960"/>
          </a:xfrm>
        </p:grpSpPr>
        <p:graphicFrame>
          <p:nvGraphicFramePr>
            <p:cNvPr id="49" name=""/>
            <p:cNvGraphicFramePr/>
            <p:nvPr/>
          </p:nvGraphicFramePr>
          <p:xfrm>
            <a:off x="3454560" y="1870200"/>
            <a:ext cx="3915720" cy="2974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54560" y="1870200"/>
                      <a:ext cx="3915720" cy="2974680"/>
                    </a:xfrm>
                    <a:prstGeom prst="rect">
                      <a:avLst/>
                    </a:prstGeom>
                    <a:ln w="19080">
                      <a:solidFill>
                        <a:srgbClr val="ff99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3478680" y="4844880"/>
              <a:ext cx="40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POT-VEGETATION: 36 x S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862920" y="5192280"/>
            <a:ext cx="5204880" cy="3764520"/>
            <a:chOff x="862920" y="5192280"/>
            <a:chExt cx="5204880" cy="3764520"/>
          </a:xfrm>
        </p:grpSpPr>
        <p:grpSp>
          <p:nvGrpSpPr>
            <p:cNvPr id="53" name=""/>
            <p:cNvGrpSpPr/>
            <p:nvPr/>
          </p:nvGrpSpPr>
          <p:grpSpPr>
            <a:xfrm>
              <a:off x="862920" y="5192280"/>
              <a:ext cx="4109400" cy="3764520"/>
              <a:chOff x="862920" y="5192280"/>
              <a:chExt cx="4109400" cy="3764520"/>
            </a:xfrm>
          </p:grpSpPr>
          <p:graphicFrame>
            <p:nvGraphicFramePr>
              <p:cNvPr id="54" name=""/>
              <p:cNvGraphicFramePr/>
              <p:nvPr/>
            </p:nvGraphicFramePr>
            <p:xfrm>
              <a:off x="1010160" y="5223600"/>
              <a:ext cx="3962160" cy="373320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5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10160" y="5223600"/>
                        <a:ext cx="3962160" cy="3733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56" name=""/>
              <p:cNvGrpSpPr/>
              <p:nvPr/>
            </p:nvGrpSpPr>
            <p:grpSpPr>
              <a:xfrm>
                <a:off x="862920" y="5192280"/>
                <a:ext cx="3674520" cy="3401640"/>
                <a:chOff x="862920" y="5192280"/>
                <a:chExt cx="3674520" cy="3401640"/>
              </a:xfrm>
            </p:grpSpPr>
            <p:sp>
              <p:nvSpPr>
                <p:cNvPr id="57" name=""/>
                <p:cNvSpPr/>
                <p:nvPr/>
              </p:nvSpPr>
              <p:spPr>
                <a:xfrm rot="349800">
                  <a:off x="2993400" y="5200200"/>
                  <a:ext cx="1854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2543400">
                  <a:off x="3897720" y="5524200"/>
                  <a:ext cx="1800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4111800">
                  <a:off x="4120200" y="6303600"/>
                  <a:ext cx="549360" cy="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t" rot="10800000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7152800">
                  <a:off x="3558240" y="7730640"/>
                  <a:ext cx="549360" cy="9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8608400">
                  <a:off x="3162960" y="8010000"/>
                  <a:ext cx="549360" cy="9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0583600">
                  <a:off x="2979360" y="8123040"/>
                  <a:ext cx="180000" cy="45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985200">
                  <a:off x="2326680" y="7992720"/>
                  <a:ext cx="1843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2590800">
                  <a:off x="1778400" y="7536960"/>
                  <a:ext cx="1854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4272600">
                  <a:off x="1206360" y="7046640"/>
                  <a:ext cx="549360" cy="9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t" rot="10800000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16846200">
                  <a:off x="685800" y="6791760"/>
                  <a:ext cx="544320" cy="9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18576000">
                  <a:off x="1123560" y="5891400"/>
                  <a:ext cx="544320" cy="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20787000">
                  <a:off x="2116440" y="5307120"/>
                  <a:ext cx="185400" cy="45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" name=""/>
            <p:cNvGrpSpPr/>
            <p:nvPr/>
          </p:nvGrpSpPr>
          <p:grpSpPr>
            <a:xfrm>
              <a:off x="1344960" y="5528880"/>
              <a:ext cx="4722840" cy="3065760"/>
              <a:chOff x="1344960" y="5528880"/>
              <a:chExt cx="4722840" cy="3065760"/>
            </a:xfrm>
          </p:grpSpPr>
          <p:sp>
            <p:nvSpPr>
              <p:cNvPr id="70" name=""/>
              <p:cNvSpPr/>
              <p:nvPr/>
            </p:nvSpPr>
            <p:spPr>
              <a:xfrm>
                <a:off x="2915640" y="5757480"/>
                <a:ext cx="456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ccccff"/>
                    </a:solidFill>
                    <a:latin typeface="Clarendon Cd (W1)"/>
                  </a:rPr>
                  <a:t>0.7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306160" y="5528880"/>
                <a:ext cx="53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De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05720" y="5528880"/>
                <a:ext cx="360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J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735160" y="6595920"/>
                <a:ext cx="1836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59560" y="591012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Fe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305240" y="6595920"/>
                <a:ext cx="40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M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4680" y="7357680"/>
                <a:ext cx="375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Ap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30120" y="7967520"/>
                <a:ext cx="418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M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92120" y="8348400"/>
                <a:ext cx="42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Ju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28200" y="834840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Ju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22240" y="7967520"/>
                <a:ext cx="39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47480" y="735768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Se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344960" y="6595920"/>
                <a:ext cx="37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O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721520" y="5910120"/>
                <a:ext cx="40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 Black"/>
                  </a:rPr>
                  <a:t>No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915640" y="621468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15640" y="659592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16720" y="573228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7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271480" y="5757480"/>
                <a:ext cx="796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cc33"/>
                    </a:solidFill>
                    <a:latin typeface="Arial Black"/>
                  </a:rPr>
                  <a:t> </a:t>
                </a:r>
                <a:r>
                  <a:rPr b="0" i="1" lang="en-US" sz="1000" spc="-1" strike="noStrike">
                    <a:solidFill>
                      <a:srgbClr val="33cc33"/>
                    </a:solidFill>
                    <a:latin typeface="Arial Black"/>
                  </a:rPr>
                  <a:t>Amazon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12440" y="6595920"/>
                <a:ext cx="823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ff"/>
                    </a:solidFill>
                    <a:latin typeface="Arial Black"/>
                  </a:rPr>
                  <a:t>   </a:t>
                </a:r>
                <a:r>
                  <a:rPr b="0" i="1" lang="en-US" sz="1000" spc="-1" strike="noStrike">
                    <a:solidFill>
                      <a:srgbClr val="0000ff"/>
                    </a:solidFill>
                    <a:latin typeface="Arial Black"/>
                  </a:rPr>
                  <a:t>Nile Del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21520" y="8196120"/>
                <a:ext cx="48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0000"/>
                    </a:solidFill>
                    <a:latin typeface="Arial Black"/>
                  </a:rPr>
                  <a:t>Sah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49520" y="7434000"/>
                <a:ext cx="61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00ff"/>
                    </a:solidFill>
                    <a:latin typeface="Arial Black"/>
                  </a:rPr>
                  <a:t> </a:t>
                </a:r>
                <a:r>
                  <a:rPr b="0" i="1" lang="en-US" sz="1000" spc="-1" strike="noStrike">
                    <a:solidFill>
                      <a:srgbClr val="ff00ff"/>
                    </a:solidFill>
                    <a:latin typeface="Arial Black"/>
                  </a:rPr>
                  <a:t>Saha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304920"/>
            <a:ext cx="6248160" cy="185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ion of Phenological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mple: Annual mean / min / max / amplitude of ND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plex: start / end / length of green season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ften better inputs for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nly feasible through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ngitudinal analysi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ime ser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5943600"/>
          <a:ext cx="6089400" cy="255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5943600"/>
                    <a:ext cx="6089400" cy="25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463680" y="2362320"/>
            <a:ext cx="5784840" cy="2818800"/>
            <a:chOff x="463680" y="2362320"/>
            <a:chExt cx="5784840" cy="2818800"/>
          </a:xfrm>
        </p:grpSpPr>
        <p:grpSp>
          <p:nvGrpSpPr>
            <p:cNvPr id="95" name=""/>
            <p:cNvGrpSpPr/>
            <p:nvPr/>
          </p:nvGrpSpPr>
          <p:grpSpPr>
            <a:xfrm>
              <a:off x="463680" y="2527200"/>
              <a:ext cx="5784840" cy="2653920"/>
              <a:chOff x="463680" y="2527200"/>
              <a:chExt cx="5784840" cy="2653920"/>
            </a:xfrm>
          </p:grpSpPr>
          <p:sp>
            <p:nvSpPr>
              <p:cNvPr id="96" name=""/>
              <p:cNvSpPr/>
              <p:nvPr/>
            </p:nvSpPr>
            <p:spPr>
              <a:xfrm>
                <a:off x="1585440" y="2527200"/>
                <a:ext cx="24685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GB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      t</a:t>
                </a:r>
                <a:r>
                  <a:rPr b="0" lang="en-GB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t</a:t>
                </a:r>
                <a:r>
                  <a:rPr b="0" lang="en-GB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463680" y="2670480"/>
                <a:ext cx="5784840" cy="2510640"/>
                <a:chOff x="463680" y="2670480"/>
                <a:chExt cx="5784840" cy="251064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825120" y="2806200"/>
                  <a:ext cx="3237840" cy="1958400"/>
                  <a:chOff x="825120" y="2806200"/>
                  <a:chExt cx="3237840" cy="1958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1015920" y="2806200"/>
                    <a:ext cx="3028320" cy="186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015920" y="2806200"/>
                    <a:ext cx="3028320" cy="18669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015920" y="2806200"/>
                    <a:ext cx="360" cy="18669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015920" y="4673160"/>
                    <a:ext cx="37800" cy="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015920" y="4444200"/>
                    <a:ext cx="3780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015920" y="4206240"/>
                    <a:ext cx="37800" cy="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015920" y="3977640"/>
                    <a:ext cx="3780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015920" y="3739680"/>
                    <a:ext cx="37800" cy="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015920" y="3511080"/>
                    <a:ext cx="3780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015920" y="3272760"/>
                    <a:ext cx="37800" cy="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015920" y="3044160"/>
                    <a:ext cx="37800" cy="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015920" y="2806200"/>
                    <a:ext cx="3780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015920" y="4673160"/>
                    <a:ext cx="3028320" cy="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>
                    <a:off x="101592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>
                    <a:off x="124452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flipV="1">
                    <a:off x="148248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>
                    <a:off x="171108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194904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V="1">
                    <a:off x="217764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V="1">
                    <a:off x="241596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V="1">
                    <a:off x="264420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V="1">
                    <a:off x="288252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V="1">
                    <a:off x="311112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>
                    <a:off x="334908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V="1">
                    <a:off x="357768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V="1">
                    <a:off x="381564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V="1">
                    <a:off x="4044240" y="4635000"/>
                    <a:ext cx="36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015920" y="4092120"/>
                    <a:ext cx="228600" cy="6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244520" y="4158720"/>
                    <a:ext cx="237960" cy="47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V="1">
                    <a:off x="1482480" y="4015440"/>
                    <a:ext cx="228240" cy="19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1711080" y="3625200"/>
                    <a:ext cx="237960" cy="39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V="1">
                    <a:off x="1949040" y="3158640"/>
                    <a:ext cx="228240" cy="46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V="1">
                    <a:off x="2177640" y="3043800"/>
                    <a:ext cx="237960" cy="11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2415960" y="3044160"/>
                    <a:ext cx="228240" cy="11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2644200" y="3158640"/>
                    <a:ext cx="23796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2882520" y="3415680"/>
                    <a:ext cx="228240" cy="47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111120" y="3415680"/>
                    <a:ext cx="237960" cy="43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3349080" y="3853800"/>
                    <a:ext cx="228600" cy="19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3577680" y="4044240"/>
                    <a:ext cx="237960" cy="47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815640" y="4092120"/>
                    <a:ext cx="228600" cy="47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015920" y="4206240"/>
                    <a:ext cx="3028320" cy="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015920" y="3044160"/>
                    <a:ext cx="3028320" cy="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01592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07280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13004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18728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24452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30140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35864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41588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47276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53000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58724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64448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70172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75860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81584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87308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2996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98720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204444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10168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15856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221580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27304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33028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38716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44440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50164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255852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261576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67300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73024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78712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84436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290160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295848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01572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07296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13020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18708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324432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330156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35844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41568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47292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53016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8740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64428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70152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75840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815640" y="397764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387288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93012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987360" y="397764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101592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07280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113004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18728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124452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30140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35864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41588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147276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153000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158724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164448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170172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175860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181584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187308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192996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198720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04444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10168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15856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21580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27304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33028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38716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44440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50164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55852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1576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67300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73024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78712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84436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90160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95848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01572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07296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13020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18708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24432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30156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35844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41568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347292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353016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358740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364428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70152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75840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815640" y="3272760"/>
                    <a:ext cx="1908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387288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393012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3987360" y="3272760"/>
                    <a:ext cx="187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1758600" y="2806200"/>
                    <a:ext cx="360" cy="1866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V="1">
                    <a:off x="2111040" y="2806200"/>
                    <a:ext cx="360" cy="1866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V="1">
                    <a:off x="3482280" y="2806200"/>
                    <a:ext cx="360" cy="1866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996840" y="4073040"/>
                    <a:ext cx="37800" cy="3780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225440" y="4139640"/>
                    <a:ext cx="37800" cy="3780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463400" y="4187160"/>
                    <a:ext cx="37800" cy="3780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692000" y="3996720"/>
                    <a:ext cx="37800" cy="3780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1929960" y="3606120"/>
                    <a:ext cx="37800" cy="3780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158560" y="3139560"/>
                    <a:ext cx="37800" cy="3816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396880" y="3025080"/>
                    <a:ext cx="37800" cy="3780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625480" y="3139560"/>
                    <a:ext cx="37800" cy="3816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863440" y="3444120"/>
                    <a:ext cx="37800" cy="3816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092040" y="3396600"/>
                    <a:ext cx="37800" cy="3816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330000" y="3834720"/>
                    <a:ext cx="37800" cy="3816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58600" y="4025160"/>
                    <a:ext cx="37800" cy="3816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796560" y="4073040"/>
                    <a:ext cx="37800" cy="3780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025160" y="4120560"/>
                    <a:ext cx="37800" cy="3816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25120" y="4596840"/>
                    <a:ext cx="7092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700920" y="4355640"/>
                  <a:ext cx="17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00920" y="4117320"/>
                  <a:ext cx="17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00920" y="3888720"/>
                  <a:ext cx="17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00920" y="3650760"/>
                  <a:ext cx="17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00920" y="3422160"/>
                  <a:ext cx="17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00920" y="3183840"/>
                  <a:ext cx="17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00920" y="2955240"/>
                  <a:ext cx="17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00920" y="2717280"/>
                  <a:ext cx="17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0.8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967680" y="4773600"/>
                  <a:ext cx="64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196280" y="4771440"/>
                  <a:ext cx="64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Arial Narrow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436040" y="4771440"/>
                  <a:ext cx="64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Arial Narrow"/>
                    </a:rPr>
                    <a:t>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656360" y="4768200"/>
                  <a:ext cx="64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Arial Narrow"/>
                    </a:rPr>
                    <a:t>9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886760" y="4764960"/>
                  <a:ext cx="128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Arial Narrow"/>
                    </a:rPr>
                    <a:t>1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112120" y="4771440"/>
                  <a:ext cx="128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Arial Narrow"/>
                    </a:rPr>
                    <a:t>1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345040" y="4771440"/>
                  <a:ext cx="128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100" spc="-1" strike="noStrike">
                      <a:solidFill>
                        <a:srgbClr val="000000"/>
                      </a:solidFill>
                      <a:latin typeface="Arial Narrow"/>
                    </a:rPr>
                    <a:t>18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573640" y="4771440"/>
                  <a:ext cx="128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Arial Narrow"/>
                    </a:rPr>
                    <a:t>2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16640" y="4768200"/>
                  <a:ext cx="128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100" spc="-1" strike="noStrike">
                      <a:solidFill>
                        <a:srgbClr val="000000"/>
                      </a:solidFill>
                      <a:latin typeface="Arial Narrow"/>
                    </a:rPr>
                    <a:t>2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048480" y="4768200"/>
                  <a:ext cx="128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100" spc="-1" strike="noStrike">
                      <a:solidFill>
                        <a:srgbClr val="000000"/>
                      </a:solidFill>
                      <a:latin typeface="Arial Narrow"/>
                    </a:rPr>
                    <a:t>27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273840" y="4773600"/>
                  <a:ext cx="128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Arial Narrow"/>
                    </a:rPr>
                    <a:t>3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505680" y="4770000"/>
                  <a:ext cx="128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Arial Narrow"/>
                    </a:rPr>
                    <a:t>3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750120" y="4767120"/>
                  <a:ext cx="128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Arial Narrow"/>
                    </a:rPr>
                    <a:t>3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967920" y="4760640"/>
                  <a:ext cx="128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Arial Narrow"/>
                    </a:rPr>
                    <a:t>39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145760" y="2936160"/>
                  <a:ext cx="2102760" cy="14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0" tIns="46800" bIns="4680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200" spc="-1" strike="noStrike">
                      <a:solidFill>
                        <a:srgbClr val="000000"/>
                      </a:solidFill>
                      <a:latin typeface="Arial Narrow"/>
                    </a:rPr>
                    <a:t>Max = 0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200" spc="-1" strike="noStrike">
                      <a:solidFill>
                        <a:srgbClr val="000000"/>
                      </a:solidFill>
                      <a:latin typeface="Arial Narrow"/>
                    </a:rPr>
                    <a:t>NDVI</a:t>
                  </a:r>
                  <a:r>
                    <a:rPr b="0" lang="fr-BE" sz="1200" spc="-1" strike="noStrike" baseline="-25000">
                      <a:solidFill>
                        <a:srgbClr val="000000"/>
                      </a:solidFill>
                      <a:latin typeface="Arial Narrow"/>
                    </a:rPr>
                    <a:t>2</a:t>
                  </a:r>
                  <a:r>
                    <a:rPr b="0" lang="fr-BE" sz="1200" spc="-1" strike="noStrike">
                      <a:solidFill>
                        <a:srgbClr val="000000"/>
                      </a:solidFill>
                      <a:latin typeface="Arial Narrow"/>
                    </a:rPr>
                    <a:t> = Min + 0.8(Max – Min) = 0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200" spc="-1" strike="noStrike">
                      <a:solidFill>
                        <a:srgbClr val="000000"/>
                      </a:solidFill>
                      <a:latin typeface="Arial Narrow"/>
                    </a:rPr>
                    <a:t>NDVI</a:t>
                  </a:r>
                  <a:r>
                    <a:rPr b="0" lang="fr-BE" sz="1200" spc="-1" strike="noStrike" baseline="-25000">
                      <a:solidFill>
                        <a:srgbClr val="000000"/>
                      </a:solidFill>
                      <a:latin typeface="Arial Narrow"/>
                    </a:rPr>
                    <a:t>1</a:t>
                  </a:r>
                  <a:r>
                    <a:rPr b="0" lang="fr-BE" sz="1200" spc="-1" strike="noStrike">
                      <a:solidFill>
                        <a:srgbClr val="000000"/>
                      </a:solidFill>
                      <a:latin typeface="Arial Narrow"/>
                    </a:rPr>
                    <a:t> = Min + 0.2(Max – Min) = 0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200" spc="-1" strike="noStrike">
                      <a:solidFill>
                        <a:srgbClr val="000000"/>
                      </a:solidFill>
                      <a:latin typeface="Arial Narrow"/>
                    </a:rPr>
                    <a:t>Min = 0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222280" y="4906800"/>
                  <a:ext cx="9140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BE" sz="1200" spc="-1" strike="noStrike">
                      <a:solidFill>
                        <a:srgbClr val="000000"/>
                      </a:solidFill>
                      <a:latin typeface="Arial"/>
                    </a:rPr>
                    <a:t>Deca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63680" y="2670480"/>
                  <a:ext cx="207360" cy="19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 rot="-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0" name=""/>
            <p:cNvSpPr/>
            <p:nvPr/>
          </p:nvSpPr>
          <p:spPr>
            <a:xfrm>
              <a:off x="609840" y="2362320"/>
              <a:ext cx="19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onthly Mean NDV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304920"/>
            <a:ext cx="6248160" cy="120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logical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from the “Global Land 1km AVHRR Data S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992 - March 1993, Interrupted Goode Homol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92240" y="2209680"/>
            <a:ext cx="6477840" cy="2948760"/>
            <a:chOff x="192240" y="2209680"/>
            <a:chExt cx="6477840" cy="2948760"/>
          </a:xfrm>
        </p:grpSpPr>
        <p:grpSp>
          <p:nvGrpSpPr>
            <p:cNvPr id="293" name=""/>
            <p:cNvGrpSpPr/>
            <p:nvPr/>
          </p:nvGrpSpPr>
          <p:grpSpPr>
            <a:xfrm>
              <a:off x="192240" y="2209680"/>
              <a:ext cx="6477840" cy="2948760"/>
              <a:chOff x="192240" y="2209680"/>
              <a:chExt cx="6477840" cy="2948760"/>
            </a:xfrm>
          </p:grpSpPr>
          <p:pic>
            <p:nvPicPr>
              <p:cNvPr id="294" name="MEAN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240" y="2209680"/>
                <a:ext cx="6477840" cy="275616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2517840" y="4700880"/>
                <a:ext cx="1821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990720" y="4591080"/>
              <a:ext cx="53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Black"/>
                </a:rPr>
                <a:t>Mean Annual NDV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92240" y="5473800"/>
            <a:ext cx="6477840" cy="3215160"/>
            <a:chOff x="192240" y="5473800"/>
            <a:chExt cx="6477840" cy="3215160"/>
          </a:xfrm>
        </p:grpSpPr>
        <p:sp>
          <p:nvSpPr>
            <p:cNvPr id="298" name=""/>
            <p:cNvSpPr/>
            <p:nvPr/>
          </p:nvSpPr>
          <p:spPr>
            <a:xfrm>
              <a:off x="622440" y="8381880"/>
              <a:ext cx="563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Black"/>
                </a:rPr>
                <a:t>SI = [Range - Mean]/ [Range + Mea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92240" y="5473800"/>
              <a:ext cx="6477840" cy="2959560"/>
              <a:chOff x="192240" y="5473800"/>
              <a:chExt cx="6477840" cy="2959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192240" y="5473800"/>
                <a:ext cx="6477840" cy="2959560"/>
                <a:chOff x="192240" y="5473800"/>
                <a:chExt cx="6477840" cy="2959560"/>
              </a:xfrm>
            </p:grpSpPr>
            <p:pic>
              <p:nvPicPr>
                <p:cNvPr id="301" name="INDEX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2240" y="5473800"/>
                  <a:ext cx="6477840" cy="2773080"/>
                </a:xfrm>
                <a:prstGeom prst="rect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>
                  <a:off x="2472480" y="7976160"/>
                  <a:ext cx="1836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914400" y="7835760"/>
                <a:ext cx="563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 Black"/>
                  </a:rPr>
                  <a:t>Seasonality Index SI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304920"/>
            <a:ext cx="6248160" cy="120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logical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from the “Global Land 1km AVHRR Data S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992 - March 1993, Interrupted Goode Homol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89000" y="1990800"/>
            <a:ext cx="6477840" cy="2885400"/>
            <a:chOff x="189000" y="1990800"/>
            <a:chExt cx="6477840" cy="2885400"/>
          </a:xfrm>
        </p:grpSpPr>
        <p:grpSp>
          <p:nvGrpSpPr>
            <p:cNvPr id="306" name=""/>
            <p:cNvGrpSpPr/>
            <p:nvPr/>
          </p:nvGrpSpPr>
          <p:grpSpPr>
            <a:xfrm>
              <a:off x="189000" y="1990800"/>
              <a:ext cx="6477840" cy="2885400"/>
              <a:chOff x="189000" y="1990800"/>
              <a:chExt cx="6477840" cy="2885400"/>
            </a:xfrm>
          </p:grpSpPr>
          <p:pic>
            <p:nvPicPr>
              <p:cNvPr id="307" name="LEN" descr=""/>
              <p:cNvPicPr/>
              <p:nvPr/>
            </p:nvPicPr>
            <p:blipFill>
              <a:blip r:embed="rId1"/>
              <a:stretch/>
            </p:blipFill>
            <p:spPr>
              <a:xfrm>
                <a:off x="189000" y="1990800"/>
                <a:ext cx="6477840" cy="276264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2206080" y="4723920"/>
                <a:ext cx="1832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238320" y="4505400"/>
              <a:ext cx="228600" cy="152280"/>
            </a:xfrm>
            <a:prstGeom prst="rect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8320" y="3895560"/>
              <a:ext cx="228600" cy="152640"/>
            </a:xfrm>
            <a:prstGeom prst="rect">
              <a:avLst/>
            </a:prstGeom>
            <a:solidFill>
              <a:srgbClr val="cc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8320" y="42004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33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7840" y="3848040"/>
              <a:ext cx="121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None (desert/ic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9080" y="4152960"/>
              <a:ext cx="88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termedi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9000" y="444816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Entire 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11000" y="4365720"/>
              <a:ext cx="28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Black"/>
                </a:rPr>
                <a:t>Length of Green Sea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79280" y="5334120"/>
            <a:ext cx="6477840" cy="2937600"/>
            <a:chOff x="179280" y="5334120"/>
            <a:chExt cx="6477840" cy="2937600"/>
          </a:xfrm>
        </p:grpSpPr>
        <p:grpSp>
          <p:nvGrpSpPr>
            <p:cNvPr id="317" name=""/>
            <p:cNvGrpSpPr/>
            <p:nvPr/>
          </p:nvGrpSpPr>
          <p:grpSpPr>
            <a:xfrm>
              <a:off x="179280" y="5334120"/>
              <a:ext cx="6477840" cy="2937600"/>
              <a:chOff x="179280" y="5334120"/>
              <a:chExt cx="6477840" cy="2937600"/>
            </a:xfrm>
          </p:grpSpPr>
          <p:pic>
            <p:nvPicPr>
              <p:cNvPr id="318" name="START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5334120"/>
                <a:ext cx="6477840" cy="275832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2257560" y="8118720"/>
                <a:ext cx="1821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28600" y="6815160"/>
              <a:ext cx="181080" cy="962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8600" y="7805880"/>
              <a:ext cx="179280" cy="228600"/>
            </a:xfrm>
            <a:prstGeom prst="rect">
              <a:avLst/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880" y="67773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Janu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1960" y="71964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Ju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3040" y="7577280"/>
              <a:ext cx="76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Decemb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2320" y="7805880"/>
              <a:ext cx="131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No Growing Sea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63120" y="7729560"/>
              <a:ext cx="261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Black"/>
                </a:rPr>
                <a:t>Start of Green Sea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04920" y="304920"/>
            <a:ext cx="6248160" cy="120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logical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from the “Global Land 1km AVHRR Data S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992 - March 1993, Interrupted Goode Homol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4400" y="1600200"/>
            <a:ext cx="8953200" cy="3812760"/>
            <a:chOff x="14400" y="1600200"/>
            <a:chExt cx="8953200" cy="3812760"/>
          </a:xfrm>
        </p:grpSpPr>
        <p:pic>
          <p:nvPicPr>
            <p:cNvPr id="329" name="CLAS" descr=""/>
            <p:cNvPicPr/>
            <p:nvPr/>
          </p:nvPicPr>
          <p:blipFill>
            <a:blip r:embed="rId1"/>
            <a:stretch/>
          </p:blipFill>
          <p:spPr>
            <a:xfrm>
              <a:off x="14400" y="1600200"/>
              <a:ext cx="8953200" cy="381276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grpSp>
          <p:nvGrpSpPr>
            <p:cNvPr id="330" name=""/>
            <p:cNvGrpSpPr/>
            <p:nvPr/>
          </p:nvGrpSpPr>
          <p:grpSpPr>
            <a:xfrm>
              <a:off x="52200" y="3908160"/>
              <a:ext cx="1729440" cy="1463760"/>
              <a:chOff x="52200" y="3908160"/>
              <a:chExt cx="1729440" cy="1463760"/>
            </a:xfrm>
          </p:grpSpPr>
          <p:sp>
            <p:nvSpPr>
              <p:cNvPr id="331" name=""/>
              <p:cNvSpPr/>
              <p:nvPr/>
            </p:nvSpPr>
            <p:spPr>
              <a:xfrm>
                <a:off x="56520" y="3963240"/>
                <a:ext cx="1715760" cy="140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32" name="LEG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040" y="4224600"/>
                <a:ext cx="1304280" cy="113328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grpSp>
            <p:nvGrpSpPr>
              <p:cNvPr id="333" name=""/>
              <p:cNvGrpSpPr/>
              <p:nvPr/>
            </p:nvGrpSpPr>
            <p:grpSpPr>
              <a:xfrm>
                <a:off x="455040" y="3963240"/>
                <a:ext cx="959040" cy="1407960"/>
                <a:chOff x="455040" y="3963240"/>
                <a:chExt cx="959040" cy="14079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774360" y="3963240"/>
                  <a:ext cx="0" cy="1397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083600" y="3973320"/>
                  <a:ext cx="0" cy="1397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414080" y="3963240"/>
                  <a:ext cx="0" cy="1397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55040" y="3963240"/>
                  <a:ext cx="0" cy="1397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72360" y="4479480"/>
                <a:ext cx="1693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200" y="4685400"/>
                <a:ext cx="1729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2360" y="4893120"/>
                <a:ext cx="1693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2360" y="5119560"/>
                <a:ext cx="1693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520" y="4224600"/>
                <a:ext cx="1693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200" y="4007880"/>
                <a:ext cx="2480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0.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2960" y="3949560"/>
                <a:ext cx="47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0.2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2720" y="39520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Helvetica-Narrow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gt;0.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96120" y="3949560"/>
                <a:ext cx="40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Helvetica-Narrow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0.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8200" y="5139000"/>
                <a:ext cx="371160" cy="21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gt; 0.5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8200" y="4267440"/>
                <a:ext cx="36648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 0.1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3520" y="4491000"/>
                <a:ext cx="3888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 0.3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0000" y="4700880"/>
                <a:ext cx="396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 0.4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8200" y="4906800"/>
                <a:ext cx="3888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 0.5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24200">
                <a:off x="88920" y="4027680"/>
                <a:ext cx="321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Helvetica-Narrow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mea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24200">
                <a:off x="181440" y="3985200"/>
                <a:ext cx="321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ran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3352680" y="1523880"/>
            <a:ext cx="3733920" cy="545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me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variate Level Slice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nnual Mean ND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nnual NDVI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-2476440" y="5460840"/>
            <a:ext cx="8953200" cy="3813120"/>
            <a:chOff x="-2476440" y="5460840"/>
            <a:chExt cx="8953200" cy="3813120"/>
          </a:xfrm>
        </p:grpSpPr>
        <p:pic>
          <p:nvPicPr>
            <p:cNvPr id="356" name="CLAS" descr=""/>
            <p:cNvPicPr/>
            <p:nvPr/>
          </p:nvPicPr>
          <p:blipFill>
            <a:blip r:embed="rId3"/>
            <a:stretch/>
          </p:blipFill>
          <p:spPr>
            <a:xfrm>
              <a:off x="-2476440" y="5460840"/>
              <a:ext cx="8953200" cy="381312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grpSp>
          <p:nvGrpSpPr>
            <p:cNvPr id="357" name=""/>
            <p:cNvGrpSpPr/>
            <p:nvPr/>
          </p:nvGrpSpPr>
          <p:grpSpPr>
            <a:xfrm>
              <a:off x="-2438280" y="7768800"/>
              <a:ext cx="1729440" cy="1463760"/>
              <a:chOff x="-2438280" y="7768800"/>
              <a:chExt cx="1729440" cy="1463760"/>
            </a:xfrm>
          </p:grpSpPr>
          <p:sp>
            <p:nvSpPr>
              <p:cNvPr id="358" name=""/>
              <p:cNvSpPr/>
              <p:nvPr/>
            </p:nvSpPr>
            <p:spPr>
              <a:xfrm>
                <a:off x="-2433600" y="7823880"/>
                <a:ext cx="1715760" cy="140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9" name="LEG" descr=""/>
              <p:cNvPicPr/>
              <p:nvPr/>
            </p:nvPicPr>
            <p:blipFill>
              <a:blip r:embed="rId4"/>
              <a:stretch/>
            </p:blipFill>
            <p:spPr>
              <a:xfrm>
                <a:off x="-2026080" y="8085240"/>
                <a:ext cx="1304280" cy="113328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grpSp>
            <p:nvGrpSpPr>
              <p:cNvPr id="360" name=""/>
              <p:cNvGrpSpPr/>
              <p:nvPr/>
            </p:nvGrpSpPr>
            <p:grpSpPr>
              <a:xfrm>
                <a:off x="-2035080" y="7823880"/>
                <a:ext cx="959400" cy="1407960"/>
                <a:chOff x="-2035080" y="7823880"/>
                <a:chExt cx="959400" cy="14079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-1715400" y="7823880"/>
                  <a:ext cx="0" cy="1397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-1406160" y="7833960"/>
                  <a:ext cx="0" cy="1397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-1075680" y="7823880"/>
                  <a:ext cx="0" cy="1397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-2035080" y="7823880"/>
                  <a:ext cx="0" cy="1397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-2417760" y="8340120"/>
                <a:ext cx="1693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-2438280" y="8546040"/>
                <a:ext cx="1729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-2417760" y="8753760"/>
                <a:ext cx="1693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-2417760" y="8980200"/>
                <a:ext cx="1693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-2433600" y="8085240"/>
                <a:ext cx="1693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-2014920" y="7868520"/>
                <a:ext cx="2480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0.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-1847160" y="7810200"/>
                <a:ext cx="47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0.2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-1157400" y="781272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Helvetica-Narrow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gt;0.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-1494000" y="7810200"/>
                <a:ext cx="40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Helvetica-Narrow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0.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-2401920" y="8999640"/>
                <a:ext cx="371160" cy="21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gt; 0.5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-2401920" y="8128080"/>
                <a:ext cx="36648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 0.1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-2406600" y="8351640"/>
                <a:ext cx="3888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 0.3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-2400120" y="8561520"/>
                <a:ext cx="396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 0.4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-2401920" y="8767440"/>
                <a:ext cx="3888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&lt; 0.5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924200">
                <a:off x="-2400840" y="7888320"/>
                <a:ext cx="321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Helvetica-Narrow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mea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924200">
                <a:off x="-2308320" y="7845840"/>
                <a:ext cx="321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Helvetica-Narrow"/>
                  </a:rPr>
                  <a:t>ran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-542880" y="5419800"/>
            <a:ext cx="1295280" cy="42670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04920" y="304920"/>
            <a:ext cx="6248160" cy="2025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ITUDINAL TIME SERIES ANALYS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dds a new dimension to the results of the transversal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nalysis (per decade / 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given moment, áll information of a full year (36 x S10,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60 x S1) must be available 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2209680"/>
            <a:ext cx="6248160" cy="463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P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GT-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lec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lec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lec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lec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D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nith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nith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mu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mu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us map: errors in 4 bands, land, cloud, snow/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gri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utes between pixel registration 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rt of synthesis (LOG-fi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VGT-SYNTHESI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600 Mb pixels  x  16 byte/p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000 Mb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 YEAR CYC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10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0 G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1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6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6692760"/>
            <a:ext cx="6248160" cy="192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MUCH DATA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LASSICAL SOLU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l selection: select limited number of compo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al selection: only NDVI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selection: - Extract/analyse specific study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ork on degraded im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04920" y="914400"/>
            <a:ext cx="6248160" cy="770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adiometric Compression: 16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 bytes (37.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liminate BLUE and N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scale reflectances from 16 to 8 bit (0-2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/SWI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0%…62.5% in steps of 0.2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0%…83.3% in steps of 0.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alues 251-255: special flags (saturation, error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tatus_out : Cloud  +  Snow/ice + Day_in_dec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mbine 2 zenith angles in 1 byte (steps of 5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mbine 2 azimuths in 1 byte (relative azimuth:0-180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= 6 Byte-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Eliminate all the Water Pixels (2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134,134,736 land pixels left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atial context lo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sults stored in Pseudo-Images (PI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/ENVI-images (Ncol=5000, Nrec=268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 spectral (per-pixel) operations still feasible (v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/ENVI): time series analysis, classification (!)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Improved Land/Sea-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GT-mask: 5-10 sea pixels along coast (too m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real regions in winter: confused with sea (status m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Conversion to Equal-Area Projection (IGH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Plane carré of VGT (worst projection) at (1/112°)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ut: Interrupted Goode Homolosine (IG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1x1k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TION: ± 10% without LOSS of DATA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6634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YEAR CYCLE:   S10: 36 Gb     S1: 360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385920"/>
            <a:ext cx="62481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DICATED SCHEME FOR DATA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685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0840" y="533520"/>
            <a:ext cx="6436800" cy="8313480"/>
            <a:chOff x="420840" y="533520"/>
            <a:chExt cx="6436800" cy="8313480"/>
          </a:xfrm>
        </p:grpSpPr>
        <p:sp>
          <p:nvSpPr>
            <p:cNvPr id="390" name=""/>
            <p:cNvSpPr/>
            <p:nvPr/>
          </p:nvSpPr>
          <p:spPr>
            <a:xfrm>
              <a:off x="5600160" y="3417120"/>
              <a:ext cx="1005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000" spc="-1" strike="noStrike">
                  <a:solidFill>
                    <a:srgbClr val="000000"/>
                  </a:solidFill>
                  <a:latin typeface="Arial"/>
                </a:rPr>
                <a:t>Scan per  Pix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53840" y="4322520"/>
              <a:ext cx="2207160" cy="1585440"/>
              <a:chOff x="753840" y="4322520"/>
              <a:chExt cx="2207160" cy="1585440"/>
            </a:xfrm>
          </p:grpSpPr>
          <p:sp>
            <p:nvSpPr>
              <p:cNvPr id="392" name=""/>
              <p:cNvSpPr/>
              <p:nvPr/>
            </p:nvSpPr>
            <p:spPr>
              <a:xfrm>
                <a:off x="949320" y="4322520"/>
                <a:ext cx="2011680" cy="13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853920" y="4417560"/>
                <a:ext cx="2011680" cy="1371600"/>
                <a:chOff x="853920" y="4417560"/>
                <a:chExt cx="2011680" cy="13716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853920" y="4417560"/>
                  <a:ext cx="201168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077840" y="5131440"/>
                  <a:ext cx="370080" cy="531360"/>
                </a:xfrm>
                <a:custGeom>
                  <a:avLst/>
                  <a:gdLst/>
                  <a:ahLst/>
                  <a:rect l="l" t="t" r="r" b="b"/>
                  <a:pathLst>
                    <a:path w="583" h="837">
                      <a:moveTo>
                        <a:pt x="0" y="66"/>
                      </a:moveTo>
                      <a:cubicBezTo>
                        <a:pt x="6" y="123"/>
                        <a:pt x="6" y="181"/>
                        <a:pt x="17" y="237"/>
                      </a:cubicBezTo>
                      <a:cubicBezTo>
                        <a:pt x="29" y="303"/>
                        <a:pt x="65" y="378"/>
                        <a:pt x="86" y="443"/>
                      </a:cubicBezTo>
                      <a:cubicBezTo>
                        <a:pt x="93" y="466"/>
                        <a:pt x="122" y="476"/>
                        <a:pt x="137" y="494"/>
                      </a:cubicBezTo>
                      <a:cubicBezTo>
                        <a:pt x="150" y="510"/>
                        <a:pt x="160" y="529"/>
                        <a:pt x="172" y="546"/>
                      </a:cubicBezTo>
                      <a:cubicBezTo>
                        <a:pt x="195" y="615"/>
                        <a:pt x="210" y="711"/>
                        <a:pt x="257" y="769"/>
                      </a:cubicBezTo>
                      <a:cubicBezTo>
                        <a:pt x="267" y="782"/>
                        <a:pt x="277" y="796"/>
                        <a:pt x="292" y="803"/>
                      </a:cubicBezTo>
                      <a:cubicBezTo>
                        <a:pt x="324" y="819"/>
                        <a:pt x="394" y="837"/>
                        <a:pt x="394" y="837"/>
                      </a:cubicBezTo>
                      <a:cubicBezTo>
                        <a:pt x="406" y="826"/>
                        <a:pt x="429" y="819"/>
                        <a:pt x="429" y="803"/>
                      </a:cubicBezTo>
                      <a:cubicBezTo>
                        <a:pt x="429" y="765"/>
                        <a:pt x="366" y="732"/>
                        <a:pt x="343" y="717"/>
                      </a:cubicBezTo>
                      <a:cubicBezTo>
                        <a:pt x="365" y="630"/>
                        <a:pt x="353" y="613"/>
                        <a:pt x="429" y="563"/>
                      </a:cubicBezTo>
                      <a:cubicBezTo>
                        <a:pt x="435" y="546"/>
                        <a:pt x="438" y="527"/>
                        <a:pt x="446" y="511"/>
                      </a:cubicBezTo>
                      <a:cubicBezTo>
                        <a:pt x="455" y="493"/>
                        <a:pt x="474" y="479"/>
                        <a:pt x="480" y="460"/>
                      </a:cubicBezTo>
                      <a:cubicBezTo>
                        <a:pt x="491" y="428"/>
                        <a:pt x="491" y="344"/>
                        <a:pt x="514" y="306"/>
                      </a:cubicBezTo>
                      <a:cubicBezTo>
                        <a:pt x="533" y="275"/>
                        <a:pt x="563" y="251"/>
                        <a:pt x="583" y="220"/>
                      </a:cubicBezTo>
                      <a:cubicBezTo>
                        <a:pt x="510" y="111"/>
                        <a:pt x="423" y="121"/>
                        <a:pt x="309" y="83"/>
                      </a:cubicBezTo>
                      <a:cubicBezTo>
                        <a:pt x="255" y="30"/>
                        <a:pt x="194" y="29"/>
                        <a:pt x="120" y="14"/>
                      </a:cubicBezTo>
                      <a:cubicBezTo>
                        <a:pt x="4" y="33"/>
                        <a:pt x="32" y="0"/>
                        <a:pt x="0" y="6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957960" y="4498560"/>
                  <a:ext cx="475560" cy="590400"/>
                </a:xfrm>
                <a:custGeom>
                  <a:avLst/>
                  <a:gdLst/>
                  <a:ahLst/>
                  <a:rect l="l" t="t" r="r" b="b"/>
                  <a:pathLst>
                    <a:path w="749" h="930">
                      <a:moveTo>
                        <a:pt x="275" y="925"/>
                      </a:moveTo>
                      <a:cubicBezTo>
                        <a:pt x="258" y="919"/>
                        <a:pt x="234" y="921"/>
                        <a:pt x="223" y="907"/>
                      </a:cubicBezTo>
                      <a:cubicBezTo>
                        <a:pt x="197" y="875"/>
                        <a:pt x="207" y="824"/>
                        <a:pt x="189" y="787"/>
                      </a:cubicBezTo>
                      <a:cubicBezTo>
                        <a:pt x="180" y="769"/>
                        <a:pt x="164" y="754"/>
                        <a:pt x="155" y="736"/>
                      </a:cubicBezTo>
                      <a:cubicBezTo>
                        <a:pt x="142" y="711"/>
                        <a:pt x="127" y="639"/>
                        <a:pt x="121" y="616"/>
                      </a:cubicBezTo>
                      <a:cubicBezTo>
                        <a:pt x="132" y="467"/>
                        <a:pt x="122" y="435"/>
                        <a:pt x="155" y="325"/>
                      </a:cubicBezTo>
                      <a:cubicBezTo>
                        <a:pt x="165" y="290"/>
                        <a:pt x="189" y="222"/>
                        <a:pt x="189" y="222"/>
                      </a:cubicBezTo>
                      <a:cubicBezTo>
                        <a:pt x="93" y="123"/>
                        <a:pt x="256" y="273"/>
                        <a:pt x="18" y="205"/>
                      </a:cubicBezTo>
                      <a:cubicBezTo>
                        <a:pt x="0" y="200"/>
                        <a:pt x="22" y="166"/>
                        <a:pt x="35" y="153"/>
                      </a:cubicBezTo>
                      <a:cubicBezTo>
                        <a:pt x="64" y="124"/>
                        <a:pt x="138" y="85"/>
                        <a:pt x="138" y="85"/>
                      </a:cubicBezTo>
                      <a:cubicBezTo>
                        <a:pt x="405" y="95"/>
                        <a:pt x="561" y="0"/>
                        <a:pt x="686" y="187"/>
                      </a:cubicBezTo>
                      <a:cubicBezTo>
                        <a:pt x="639" y="235"/>
                        <a:pt x="598" y="240"/>
                        <a:pt x="532" y="256"/>
                      </a:cubicBezTo>
                      <a:cubicBezTo>
                        <a:pt x="527" y="270"/>
                        <a:pt x="491" y="345"/>
                        <a:pt x="532" y="359"/>
                      </a:cubicBezTo>
                      <a:cubicBezTo>
                        <a:pt x="560" y="368"/>
                        <a:pt x="589" y="348"/>
                        <a:pt x="618" y="342"/>
                      </a:cubicBezTo>
                      <a:cubicBezTo>
                        <a:pt x="638" y="321"/>
                        <a:pt x="666" y="282"/>
                        <a:pt x="703" y="290"/>
                      </a:cubicBezTo>
                      <a:cubicBezTo>
                        <a:pt x="719" y="293"/>
                        <a:pt x="726" y="313"/>
                        <a:pt x="738" y="325"/>
                      </a:cubicBezTo>
                      <a:cubicBezTo>
                        <a:pt x="732" y="376"/>
                        <a:pt x="749" y="435"/>
                        <a:pt x="721" y="479"/>
                      </a:cubicBezTo>
                      <a:cubicBezTo>
                        <a:pt x="702" y="509"/>
                        <a:pt x="652" y="502"/>
                        <a:pt x="618" y="513"/>
                      </a:cubicBezTo>
                      <a:cubicBezTo>
                        <a:pt x="601" y="519"/>
                        <a:pt x="566" y="530"/>
                        <a:pt x="566" y="530"/>
                      </a:cubicBezTo>
                      <a:cubicBezTo>
                        <a:pt x="555" y="542"/>
                        <a:pt x="545" y="555"/>
                        <a:pt x="532" y="565"/>
                      </a:cubicBezTo>
                      <a:cubicBezTo>
                        <a:pt x="516" y="578"/>
                        <a:pt x="492" y="582"/>
                        <a:pt x="481" y="599"/>
                      </a:cubicBezTo>
                      <a:cubicBezTo>
                        <a:pt x="462" y="630"/>
                        <a:pt x="446" y="702"/>
                        <a:pt x="446" y="702"/>
                      </a:cubicBezTo>
                      <a:cubicBezTo>
                        <a:pt x="458" y="713"/>
                        <a:pt x="481" y="720"/>
                        <a:pt x="481" y="736"/>
                      </a:cubicBezTo>
                      <a:cubicBezTo>
                        <a:pt x="481" y="774"/>
                        <a:pt x="347" y="800"/>
                        <a:pt x="326" y="805"/>
                      </a:cubicBezTo>
                      <a:cubicBezTo>
                        <a:pt x="313" y="844"/>
                        <a:pt x="310" y="888"/>
                        <a:pt x="292" y="925"/>
                      </a:cubicBezTo>
                      <a:cubicBezTo>
                        <a:pt x="289" y="930"/>
                        <a:pt x="281" y="925"/>
                        <a:pt x="275" y="9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602000" y="5076000"/>
                  <a:ext cx="435960" cy="501480"/>
                </a:xfrm>
                <a:custGeom>
                  <a:avLst/>
                  <a:gdLst/>
                  <a:ahLst/>
                  <a:rect l="l" t="t" r="r" b="b"/>
                  <a:pathLst>
                    <a:path w="687" h="790">
                      <a:moveTo>
                        <a:pt x="173" y="51"/>
                      </a:moveTo>
                      <a:cubicBezTo>
                        <a:pt x="147" y="42"/>
                        <a:pt x="96" y="14"/>
                        <a:pt x="70" y="51"/>
                      </a:cubicBezTo>
                      <a:cubicBezTo>
                        <a:pt x="49" y="80"/>
                        <a:pt x="47" y="120"/>
                        <a:pt x="36" y="154"/>
                      </a:cubicBezTo>
                      <a:cubicBezTo>
                        <a:pt x="30" y="171"/>
                        <a:pt x="19" y="205"/>
                        <a:pt x="19" y="205"/>
                      </a:cubicBezTo>
                      <a:cubicBezTo>
                        <a:pt x="33" y="315"/>
                        <a:pt x="0" y="339"/>
                        <a:pt x="87" y="377"/>
                      </a:cubicBezTo>
                      <a:cubicBezTo>
                        <a:pt x="92" y="379"/>
                        <a:pt x="214" y="419"/>
                        <a:pt x="242" y="428"/>
                      </a:cubicBezTo>
                      <a:cubicBezTo>
                        <a:pt x="259" y="434"/>
                        <a:pt x="293" y="445"/>
                        <a:pt x="293" y="445"/>
                      </a:cubicBezTo>
                      <a:cubicBezTo>
                        <a:pt x="402" y="557"/>
                        <a:pt x="265" y="401"/>
                        <a:pt x="344" y="754"/>
                      </a:cubicBezTo>
                      <a:cubicBezTo>
                        <a:pt x="349" y="774"/>
                        <a:pt x="379" y="777"/>
                        <a:pt x="396" y="788"/>
                      </a:cubicBezTo>
                      <a:cubicBezTo>
                        <a:pt x="442" y="782"/>
                        <a:pt x="491" y="790"/>
                        <a:pt x="533" y="771"/>
                      </a:cubicBezTo>
                      <a:cubicBezTo>
                        <a:pt x="549" y="764"/>
                        <a:pt x="548" y="738"/>
                        <a:pt x="550" y="720"/>
                      </a:cubicBezTo>
                      <a:cubicBezTo>
                        <a:pt x="570" y="556"/>
                        <a:pt x="540" y="508"/>
                        <a:pt x="619" y="394"/>
                      </a:cubicBezTo>
                      <a:cubicBezTo>
                        <a:pt x="645" y="314"/>
                        <a:pt x="661" y="233"/>
                        <a:pt x="687" y="154"/>
                      </a:cubicBezTo>
                      <a:cubicBezTo>
                        <a:pt x="654" y="143"/>
                        <a:pt x="608" y="132"/>
                        <a:pt x="584" y="103"/>
                      </a:cubicBezTo>
                      <a:cubicBezTo>
                        <a:pt x="573" y="89"/>
                        <a:pt x="577" y="66"/>
                        <a:pt x="567" y="51"/>
                      </a:cubicBezTo>
                      <a:cubicBezTo>
                        <a:pt x="554" y="31"/>
                        <a:pt x="533" y="17"/>
                        <a:pt x="516" y="0"/>
                      </a:cubicBezTo>
                      <a:cubicBezTo>
                        <a:pt x="377" y="23"/>
                        <a:pt x="446" y="6"/>
                        <a:pt x="310" y="51"/>
                      </a:cubicBezTo>
                      <a:cubicBezTo>
                        <a:pt x="267" y="65"/>
                        <a:pt x="219" y="51"/>
                        <a:pt x="173" y="5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527480" y="4584960"/>
                  <a:ext cx="563760" cy="458280"/>
                </a:xfrm>
                <a:custGeom>
                  <a:avLst/>
                  <a:gdLst/>
                  <a:ahLst/>
                  <a:rect l="l" t="t" r="r" b="b"/>
                  <a:pathLst>
                    <a:path w="888" h="722">
                      <a:moveTo>
                        <a:pt x="288" y="636"/>
                      </a:moveTo>
                      <a:cubicBezTo>
                        <a:pt x="282" y="653"/>
                        <a:pt x="285" y="676"/>
                        <a:pt x="270" y="687"/>
                      </a:cubicBezTo>
                      <a:cubicBezTo>
                        <a:pt x="241" y="708"/>
                        <a:pt x="168" y="722"/>
                        <a:pt x="168" y="722"/>
                      </a:cubicBezTo>
                      <a:cubicBezTo>
                        <a:pt x="139" y="716"/>
                        <a:pt x="106" y="721"/>
                        <a:pt x="82" y="705"/>
                      </a:cubicBezTo>
                      <a:cubicBezTo>
                        <a:pt x="0" y="650"/>
                        <a:pt x="143" y="610"/>
                        <a:pt x="168" y="602"/>
                      </a:cubicBezTo>
                      <a:cubicBezTo>
                        <a:pt x="209" y="560"/>
                        <a:pt x="220" y="514"/>
                        <a:pt x="253" y="465"/>
                      </a:cubicBezTo>
                      <a:cubicBezTo>
                        <a:pt x="259" y="436"/>
                        <a:pt x="249" y="400"/>
                        <a:pt x="270" y="379"/>
                      </a:cubicBezTo>
                      <a:cubicBezTo>
                        <a:pt x="296" y="353"/>
                        <a:pt x="373" y="345"/>
                        <a:pt x="373" y="345"/>
                      </a:cubicBezTo>
                      <a:cubicBezTo>
                        <a:pt x="385" y="333"/>
                        <a:pt x="395" y="320"/>
                        <a:pt x="408" y="310"/>
                      </a:cubicBezTo>
                      <a:cubicBezTo>
                        <a:pt x="424" y="297"/>
                        <a:pt x="459" y="296"/>
                        <a:pt x="459" y="276"/>
                      </a:cubicBezTo>
                      <a:cubicBezTo>
                        <a:pt x="459" y="256"/>
                        <a:pt x="425" y="253"/>
                        <a:pt x="408" y="242"/>
                      </a:cubicBezTo>
                      <a:cubicBezTo>
                        <a:pt x="391" y="248"/>
                        <a:pt x="372" y="250"/>
                        <a:pt x="356" y="259"/>
                      </a:cubicBezTo>
                      <a:cubicBezTo>
                        <a:pt x="320" y="279"/>
                        <a:pt x="253" y="327"/>
                        <a:pt x="253" y="327"/>
                      </a:cubicBezTo>
                      <a:cubicBezTo>
                        <a:pt x="225" y="321"/>
                        <a:pt x="186" y="333"/>
                        <a:pt x="168" y="310"/>
                      </a:cubicBezTo>
                      <a:cubicBezTo>
                        <a:pt x="123" y="253"/>
                        <a:pt x="243" y="199"/>
                        <a:pt x="270" y="190"/>
                      </a:cubicBezTo>
                      <a:cubicBezTo>
                        <a:pt x="325" y="110"/>
                        <a:pt x="364" y="102"/>
                        <a:pt x="459" y="70"/>
                      </a:cubicBezTo>
                      <a:cubicBezTo>
                        <a:pt x="478" y="63"/>
                        <a:pt x="492" y="45"/>
                        <a:pt x="510" y="36"/>
                      </a:cubicBezTo>
                      <a:cubicBezTo>
                        <a:pt x="526" y="28"/>
                        <a:pt x="545" y="25"/>
                        <a:pt x="562" y="19"/>
                      </a:cubicBezTo>
                      <a:cubicBezTo>
                        <a:pt x="573" y="36"/>
                        <a:pt x="576" y="64"/>
                        <a:pt x="596" y="70"/>
                      </a:cubicBezTo>
                      <a:cubicBezTo>
                        <a:pt x="673" y="92"/>
                        <a:pt x="686" y="47"/>
                        <a:pt x="716" y="2"/>
                      </a:cubicBezTo>
                      <a:cubicBezTo>
                        <a:pt x="767" y="8"/>
                        <a:pt x="822" y="0"/>
                        <a:pt x="870" y="19"/>
                      </a:cubicBezTo>
                      <a:cubicBezTo>
                        <a:pt x="887" y="26"/>
                        <a:pt x="888" y="52"/>
                        <a:pt x="888" y="70"/>
                      </a:cubicBezTo>
                      <a:cubicBezTo>
                        <a:pt x="888" y="263"/>
                        <a:pt x="874" y="308"/>
                        <a:pt x="853" y="465"/>
                      </a:cubicBezTo>
                      <a:cubicBezTo>
                        <a:pt x="847" y="511"/>
                        <a:pt x="858" y="562"/>
                        <a:pt x="836" y="602"/>
                      </a:cubicBezTo>
                      <a:cubicBezTo>
                        <a:pt x="816" y="638"/>
                        <a:pt x="756" y="623"/>
                        <a:pt x="716" y="636"/>
                      </a:cubicBezTo>
                      <a:cubicBezTo>
                        <a:pt x="689" y="718"/>
                        <a:pt x="674" y="714"/>
                        <a:pt x="596" y="687"/>
                      </a:cubicBezTo>
                      <a:cubicBezTo>
                        <a:pt x="571" y="612"/>
                        <a:pt x="570" y="594"/>
                        <a:pt x="493" y="567"/>
                      </a:cubicBezTo>
                      <a:cubicBezTo>
                        <a:pt x="470" y="573"/>
                        <a:pt x="439" y="566"/>
                        <a:pt x="425" y="585"/>
                      </a:cubicBezTo>
                      <a:cubicBezTo>
                        <a:pt x="352" y="688"/>
                        <a:pt x="469" y="707"/>
                        <a:pt x="356" y="670"/>
                      </a:cubicBezTo>
                      <a:cubicBezTo>
                        <a:pt x="350" y="642"/>
                        <a:pt x="359" y="605"/>
                        <a:pt x="339" y="585"/>
                      </a:cubicBezTo>
                      <a:cubicBezTo>
                        <a:pt x="326" y="572"/>
                        <a:pt x="301" y="589"/>
                        <a:pt x="288" y="602"/>
                      </a:cubicBezTo>
                      <a:cubicBezTo>
                        <a:pt x="280" y="610"/>
                        <a:pt x="288" y="625"/>
                        <a:pt x="288" y="63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982160" y="4553280"/>
                  <a:ext cx="752400" cy="740160"/>
                </a:xfrm>
                <a:custGeom>
                  <a:avLst/>
                  <a:gdLst/>
                  <a:ahLst/>
                  <a:rect l="l" t="t" r="r" b="b"/>
                  <a:pathLst>
                    <a:path w="1185" h="1166">
                      <a:moveTo>
                        <a:pt x="154" y="635"/>
                      </a:moveTo>
                      <a:cubicBezTo>
                        <a:pt x="145" y="663"/>
                        <a:pt x="131" y="720"/>
                        <a:pt x="103" y="737"/>
                      </a:cubicBezTo>
                      <a:cubicBezTo>
                        <a:pt x="72" y="756"/>
                        <a:pt x="0" y="772"/>
                        <a:pt x="0" y="772"/>
                      </a:cubicBezTo>
                      <a:cubicBezTo>
                        <a:pt x="6" y="789"/>
                        <a:pt x="7" y="808"/>
                        <a:pt x="17" y="823"/>
                      </a:cubicBezTo>
                      <a:cubicBezTo>
                        <a:pt x="36" y="849"/>
                        <a:pt x="86" y="892"/>
                        <a:pt x="86" y="892"/>
                      </a:cubicBezTo>
                      <a:cubicBezTo>
                        <a:pt x="92" y="909"/>
                        <a:pt x="98" y="926"/>
                        <a:pt x="103" y="943"/>
                      </a:cubicBezTo>
                      <a:cubicBezTo>
                        <a:pt x="109" y="966"/>
                        <a:pt x="103" y="995"/>
                        <a:pt x="120" y="1012"/>
                      </a:cubicBezTo>
                      <a:cubicBezTo>
                        <a:pt x="137" y="1029"/>
                        <a:pt x="166" y="1023"/>
                        <a:pt x="189" y="1029"/>
                      </a:cubicBezTo>
                      <a:cubicBezTo>
                        <a:pt x="275" y="1000"/>
                        <a:pt x="234" y="1029"/>
                        <a:pt x="274" y="909"/>
                      </a:cubicBezTo>
                      <a:cubicBezTo>
                        <a:pt x="280" y="892"/>
                        <a:pt x="292" y="857"/>
                        <a:pt x="292" y="857"/>
                      </a:cubicBezTo>
                      <a:cubicBezTo>
                        <a:pt x="298" y="858"/>
                        <a:pt x="446" y="863"/>
                        <a:pt x="463" y="909"/>
                      </a:cubicBezTo>
                      <a:cubicBezTo>
                        <a:pt x="481" y="958"/>
                        <a:pt x="470" y="1012"/>
                        <a:pt x="480" y="1063"/>
                      </a:cubicBezTo>
                      <a:cubicBezTo>
                        <a:pt x="487" y="1098"/>
                        <a:pt x="514" y="1166"/>
                        <a:pt x="514" y="1166"/>
                      </a:cubicBezTo>
                      <a:cubicBezTo>
                        <a:pt x="649" y="1122"/>
                        <a:pt x="630" y="1033"/>
                        <a:pt x="652" y="909"/>
                      </a:cubicBezTo>
                      <a:cubicBezTo>
                        <a:pt x="675" y="915"/>
                        <a:pt x="702" y="911"/>
                        <a:pt x="720" y="926"/>
                      </a:cubicBezTo>
                      <a:cubicBezTo>
                        <a:pt x="740" y="943"/>
                        <a:pt x="744" y="971"/>
                        <a:pt x="754" y="995"/>
                      </a:cubicBezTo>
                      <a:cubicBezTo>
                        <a:pt x="815" y="1146"/>
                        <a:pt x="758" y="1050"/>
                        <a:pt x="823" y="1149"/>
                      </a:cubicBezTo>
                      <a:cubicBezTo>
                        <a:pt x="863" y="1143"/>
                        <a:pt x="907" y="1150"/>
                        <a:pt x="943" y="1132"/>
                      </a:cubicBezTo>
                      <a:cubicBezTo>
                        <a:pt x="959" y="1124"/>
                        <a:pt x="960" y="1098"/>
                        <a:pt x="960" y="1080"/>
                      </a:cubicBezTo>
                      <a:cubicBezTo>
                        <a:pt x="960" y="948"/>
                        <a:pt x="955" y="945"/>
                        <a:pt x="926" y="857"/>
                      </a:cubicBezTo>
                      <a:cubicBezTo>
                        <a:pt x="952" y="780"/>
                        <a:pt x="972" y="779"/>
                        <a:pt x="1046" y="755"/>
                      </a:cubicBezTo>
                      <a:cubicBezTo>
                        <a:pt x="1116" y="683"/>
                        <a:pt x="1099" y="640"/>
                        <a:pt x="1080" y="532"/>
                      </a:cubicBezTo>
                      <a:cubicBezTo>
                        <a:pt x="1077" y="514"/>
                        <a:pt x="1074" y="494"/>
                        <a:pt x="1063" y="480"/>
                      </a:cubicBezTo>
                      <a:cubicBezTo>
                        <a:pt x="1050" y="464"/>
                        <a:pt x="1029" y="457"/>
                        <a:pt x="1012" y="446"/>
                      </a:cubicBezTo>
                      <a:cubicBezTo>
                        <a:pt x="997" y="360"/>
                        <a:pt x="969" y="317"/>
                        <a:pt x="994" y="240"/>
                      </a:cubicBezTo>
                      <a:cubicBezTo>
                        <a:pt x="1089" y="264"/>
                        <a:pt x="1086" y="282"/>
                        <a:pt x="1183" y="257"/>
                      </a:cubicBezTo>
                      <a:cubicBezTo>
                        <a:pt x="1163" y="117"/>
                        <a:pt x="1185" y="127"/>
                        <a:pt x="1063" y="86"/>
                      </a:cubicBezTo>
                      <a:cubicBezTo>
                        <a:pt x="977" y="0"/>
                        <a:pt x="939" y="15"/>
                        <a:pt x="806" y="0"/>
                      </a:cubicBezTo>
                      <a:cubicBezTo>
                        <a:pt x="777" y="6"/>
                        <a:pt x="747" y="5"/>
                        <a:pt x="720" y="17"/>
                      </a:cubicBezTo>
                      <a:cubicBezTo>
                        <a:pt x="705" y="23"/>
                        <a:pt x="701" y="45"/>
                        <a:pt x="686" y="52"/>
                      </a:cubicBezTo>
                      <a:cubicBezTo>
                        <a:pt x="654" y="68"/>
                        <a:pt x="617" y="75"/>
                        <a:pt x="583" y="86"/>
                      </a:cubicBezTo>
                      <a:cubicBezTo>
                        <a:pt x="566" y="92"/>
                        <a:pt x="532" y="103"/>
                        <a:pt x="532" y="103"/>
                      </a:cubicBezTo>
                      <a:cubicBezTo>
                        <a:pt x="338" y="39"/>
                        <a:pt x="401" y="52"/>
                        <a:pt x="154" y="52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380320" y="5384520"/>
                  <a:ext cx="405000" cy="257040"/>
                </a:xfrm>
                <a:custGeom>
                  <a:avLst/>
                  <a:gdLst/>
                  <a:ahLst/>
                  <a:rect l="l" t="t" r="r" b="b"/>
                  <a:pathLst>
                    <a:path w="638" h="405">
                      <a:moveTo>
                        <a:pt x="333" y="62"/>
                      </a:moveTo>
                      <a:cubicBezTo>
                        <a:pt x="202" y="18"/>
                        <a:pt x="265" y="20"/>
                        <a:pt x="144" y="45"/>
                      </a:cubicBezTo>
                      <a:cubicBezTo>
                        <a:pt x="127" y="56"/>
                        <a:pt x="106" y="63"/>
                        <a:pt x="93" y="79"/>
                      </a:cubicBezTo>
                      <a:cubicBezTo>
                        <a:pt x="82" y="93"/>
                        <a:pt x="85" y="115"/>
                        <a:pt x="76" y="130"/>
                      </a:cubicBezTo>
                      <a:cubicBezTo>
                        <a:pt x="67" y="144"/>
                        <a:pt x="53" y="153"/>
                        <a:pt x="41" y="165"/>
                      </a:cubicBezTo>
                      <a:cubicBezTo>
                        <a:pt x="0" y="287"/>
                        <a:pt x="9" y="363"/>
                        <a:pt x="127" y="405"/>
                      </a:cubicBezTo>
                      <a:cubicBezTo>
                        <a:pt x="230" y="399"/>
                        <a:pt x="334" y="400"/>
                        <a:pt x="436" y="387"/>
                      </a:cubicBezTo>
                      <a:cubicBezTo>
                        <a:pt x="472" y="382"/>
                        <a:pt x="539" y="353"/>
                        <a:pt x="539" y="353"/>
                      </a:cubicBezTo>
                      <a:cubicBezTo>
                        <a:pt x="580" y="291"/>
                        <a:pt x="638" y="268"/>
                        <a:pt x="590" y="182"/>
                      </a:cubicBezTo>
                      <a:cubicBezTo>
                        <a:pt x="539" y="91"/>
                        <a:pt x="535" y="128"/>
                        <a:pt x="470" y="96"/>
                      </a:cubicBezTo>
                      <a:cubicBezTo>
                        <a:pt x="452" y="87"/>
                        <a:pt x="438" y="70"/>
                        <a:pt x="419" y="62"/>
                      </a:cubicBezTo>
                      <a:cubicBezTo>
                        <a:pt x="296" y="7"/>
                        <a:pt x="303" y="0"/>
                        <a:pt x="333" y="6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128240" y="4691880"/>
                  <a:ext cx="91440" cy="18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219680" y="5240520"/>
                  <a:ext cx="91440" cy="18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59760" y="4691880"/>
                  <a:ext cx="91440" cy="18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843920" y="5359320"/>
                  <a:ext cx="91440" cy="18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16960" y="4783320"/>
                  <a:ext cx="91440" cy="18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499840" y="5423400"/>
                  <a:ext cx="91440" cy="18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725120" y="5192280"/>
                  <a:ext cx="71640" cy="71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753840" y="4536360"/>
                <a:ext cx="201168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978120" y="5250240"/>
              <a:ext cx="370080" cy="531360"/>
            </a:xfrm>
            <a:custGeom>
              <a:avLst/>
              <a:gdLst/>
              <a:ahLst/>
              <a:rect l="l" t="t" r="r" b="b"/>
              <a:pathLst>
                <a:path w="583" h="837">
                  <a:moveTo>
                    <a:pt x="0" y="66"/>
                  </a:moveTo>
                  <a:cubicBezTo>
                    <a:pt x="6" y="123"/>
                    <a:pt x="6" y="181"/>
                    <a:pt x="17" y="237"/>
                  </a:cubicBezTo>
                  <a:cubicBezTo>
                    <a:pt x="29" y="303"/>
                    <a:pt x="65" y="378"/>
                    <a:pt x="86" y="443"/>
                  </a:cubicBezTo>
                  <a:cubicBezTo>
                    <a:pt x="93" y="466"/>
                    <a:pt x="122" y="476"/>
                    <a:pt x="137" y="494"/>
                  </a:cubicBezTo>
                  <a:cubicBezTo>
                    <a:pt x="150" y="510"/>
                    <a:pt x="160" y="529"/>
                    <a:pt x="172" y="546"/>
                  </a:cubicBezTo>
                  <a:cubicBezTo>
                    <a:pt x="195" y="615"/>
                    <a:pt x="210" y="711"/>
                    <a:pt x="257" y="769"/>
                  </a:cubicBezTo>
                  <a:cubicBezTo>
                    <a:pt x="267" y="782"/>
                    <a:pt x="277" y="796"/>
                    <a:pt x="292" y="803"/>
                  </a:cubicBezTo>
                  <a:cubicBezTo>
                    <a:pt x="324" y="819"/>
                    <a:pt x="394" y="837"/>
                    <a:pt x="394" y="837"/>
                  </a:cubicBezTo>
                  <a:cubicBezTo>
                    <a:pt x="406" y="826"/>
                    <a:pt x="429" y="819"/>
                    <a:pt x="429" y="803"/>
                  </a:cubicBezTo>
                  <a:cubicBezTo>
                    <a:pt x="429" y="765"/>
                    <a:pt x="366" y="732"/>
                    <a:pt x="343" y="717"/>
                  </a:cubicBezTo>
                  <a:cubicBezTo>
                    <a:pt x="365" y="630"/>
                    <a:pt x="353" y="613"/>
                    <a:pt x="429" y="563"/>
                  </a:cubicBezTo>
                  <a:cubicBezTo>
                    <a:pt x="435" y="546"/>
                    <a:pt x="438" y="527"/>
                    <a:pt x="446" y="511"/>
                  </a:cubicBezTo>
                  <a:cubicBezTo>
                    <a:pt x="455" y="493"/>
                    <a:pt x="474" y="479"/>
                    <a:pt x="480" y="460"/>
                  </a:cubicBezTo>
                  <a:cubicBezTo>
                    <a:pt x="491" y="428"/>
                    <a:pt x="491" y="344"/>
                    <a:pt x="514" y="306"/>
                  </a:cubicBezTo>
                  <a:cubicBezTo>
                    <a:pt x="533" y="275"/>
                    <a:pt x="563" y="251"/>
                    <a:pt x="583" y="220"/>
                  </a:cubicBezTo>
                  <a:cubicBezTo>
                    <a:pt x="510" y="111"/>
                    <a:pt x="423" y="121"/>
                    <a:pt x="309" y="83"/>
                  </a:cubicBezTo>
                  <a:cubicBezTo>
                    <a:pt x="255" y="30"/>
                    <a:pt x="194" y="29"/>
                    <a:pt x="120" y="14"/>
                  </a:cubicBezTo>
                  <a:cubicBezTo>
                    <a:pt x="4" y="33"/>
                    <a:pt x="32" y="0"/>
                    <a:pt x="0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8240" y="4617720"/>
              <a:ext cx="475560" cy="590400"/>
            </a:xfrm>
            <a:custGeom>
              <a:avLst/>
              <a:gdLst/>
              <a:ahLst/>
              <a:rect l="l" t="t" r="r" b="b"/>
              <a:pathLst>
                <a:path w="749" h="930">
                  <a:moveTo>
                    <a:pt x="275" y="925"/>
                  </a:moveTo>
                  <a:cubicBezTo>
                    <a:pt x="258" y="919"/>
                    <a:pt x="234" y="921"/>
                    <a:pt x="223" y="907"/>
                  </a:cubicBezTo>
                  <a:cubicBezTo>
                    <a:pt x="197" y="875"/>
                    <a:pt x="207" y="824"/>
                    <a:pt x="189" y="787"/>
                  </a:cubicBezTo>
                  <a:cubicBezTo>
                    <a:pt x="180" y="769"/>
                    <a:pt x="164" y="754"/>
                    <a:pt x="155" y="736"/>
                  </a:cubicBezTo>
                  <a:cubicBezTo>
                    <a:pt x="142" y="711"/>
                    <a:pt x="127" y="639"/>
                    <a:pt x="121" y="616"/>
                  </a:cubicBezTo>
                  <a:cubicBezTo>
                    <a:pt x="132" y="467"/>
                    <a:pt x="122" y="435"/>
                    <a:pt x="155" y="325"/>
                  </a:cubicBezTo>
                  <a:cubicBezTo>
                    <a:pt x="165" y="290"/>
                    <a:pt x="189" y="222"/>
                    <a:pt x="189" y="222"/>
                  </a:cubicBezTo>
                  <a:cubicBezTo>
                    <a:pt x="93" y="123"/>
                    <a:pt x="256" y="273"/>
                    <a:pt x="18" y="205"/>
                  </a:cubicBezTo>
                  <a:cubicBezTo>
                    <a:pt x="0" y="200"/>
                    <a:pt x="22" y="166"/>
                    <a:pt x="35" y="153"/>
                  </a:cubicBezTo>
                  <a:cubicBezTo>
                    <a:pt x="64" y="124"/>
                    <a:pt x="138" y="85"/>
                    <a:pt x="138" y="85"/>
                  </a:cubicBezTo>
                  <a:cubicBezTo>
                    <a:pt x="405" y="95"/>
                    <a:pt x="561" y="0"/>
                    <a:pt x="686" y="187"/>
                  </a:cubicBezTo>
                  <a:cubicBezTo>
                    <a:pt x="639" y="235"/>
                    <a:pt x="598" y="240"/>
                    <a:pt x="532" y="256"/>
                  </a:cubicBezTo>
                  <a:cubicBezTo>
                    <a:pt x="527" y="270"/>
                    <a:pt x="491" y="345"/>
                    <a:pt x="532" y="359"/>
                  </a:cubicBezTo>
                  <a:cubicBezTo>
                    <a:pt x="560" y="368"/>
                    <a:pt x="589" y="348"/>
                    <a:pt x="618" y="342"/>
                  </a:cubicBezTo>
                  <a:cubicBezTo>
                    <a:pt x="638" y="321"/>
                    <a:pt x="666" y="282"/>
                    <a:pt x="703" y="290"/>
                  </a:cubicBezTo>
                  <a:cubicBezTo>
                    <a:pt x="719" y="293"/>
                    <a:pt x="726" y="313"/>
                    <a:pt x="738" y="325"/>
                  </a:cubicBezTo>
                  <a:cubicBezTo>
                    <a:pt x="732" y="376"/>
                    <a:pt x="749" y="435"/>
                    <a:pt x="721" y="479"/>
                  </a:cubicBezTo>
                  <a:cubicBezTo>
                    <a:pt x="702" y="509"/>
                    <a:pt x="652" y="502"/>
                    <a:pt x="618" y="513"/>
                  </a:cubicBezTo>
                  <a:cubicBezTo>
                    <a:pt x="601" y="519"/>
                    <a:pt x="566" y="530"/>
                    <a:pt x="566" y="530"/>
                  </a:cubicBezTo>
                  <a:cubicBezTo>
                    <a:pt x="555" y="542"/>
                    <a:pt x="545" y="555"/>
                    <a:pt x="532" y="565"/>
                  </a:cubicBezTo>
                  <a:cubicBezTo>
                    <a:pt x="516" y="578"/>
                    <a:pt x="492" y="582"/>
                    <a:pt x="481" y="599"/>
                  </a:cubicBezTo>
                  <a:cubicBezTo>
                    <a:pt x="462" y="630"/>
                    <a:pt x="446" y="702"/>
                    <a:pt x="446" y="702"/>
                  </a:cubicBezTo>
                  <a:cubicBezTo>
                    <a:pt x="458" y="713"/>
                    <a:pt x="481" y="720"/>
                    <a:pt x="481" y="736"/>
                  </a:cubicBezTo>
                  <a:cubicBezTo>
                    <a:pt x="481" y="774"/>
                    <a:pt x="347" y="800"/>
                    <a:pt x="326" y="805"/>
                  </a:cubicBezTo>
                  <a:cubicBezTo>
                    <a:pt x="313" y="844"/>
                    <a:pt x="310" y="888"/>
                    <a:pt x="292" y="925"/>
                  </a:cubicBezTo>
                  <a:cubicBezTo>
                    <a:pt x="289" y="930"/>
                    <a:pt x="281" y="925"/>
                    <a:pt x="275" y="9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01920" y="5195160"/>
              <a:ext cx="435960" cy="501480"/>
            </a:xfrm>
            <a:custGeom>
              <a:avLst/>
              <a:gdLst/>
              <a:ahLst/>
              <a:rect l="l" t="t" r="r" b="b"/>
              <a:pathLst>
                <a:path w="687" h="790">
                  <a:moveTo>
                    <a:pt x="173" y="51"/>
                  </a:moveTo>
                  <a:cubicBezTo>
                    <a:pt x="147" y="42"/>
                    <a:pt x="96" y="14"/>
                    <a:pt x="70" y="51"/>
                  </a:cubicBezTo>
                  <a:cubicBezTo>
                    <a:pt x="49" y="80"/>
                    <a:pt x="47" y="120"/>
                    <a:pt x="36" y="154"/>
                  </a:cubicBezTo>
                  <a:cubicBezTo>
                    <a:pt x="30" y="171"/>
                    <a:pt x="19" y="205"/>
                    <a:pt x="19" y="205"/>
                  </a:cubicBezTo>
                  <a:cubicBezTo>
                    <a:pt x="33" y="315"/>
                    <a:pt x="0" y="339"/>
                    <a:pt x="87" y="377"/>
                  </a:cubicBezTo>
                  <a:cubicBezTo>
                    <a:pt x="92" y="379"/>
                    <a:pt x="214" y="419"/>
                    <a:pt x="242" y="428"/>
                  </a:cubicBezTo>
                  <a:cubicBezTo>
                    <a:pt x="259" y="434"/>
                    <a:pt x="293" y="445"/>
                    <a:pt x="293" y="445"/>
                  </a:cubicBezTo>
                  <a:cubicBezTo>
                    <a:pt x="402" y="557"/>
                    <a:pt x="265" y="401"/>
                    <a:pt x="344" y="754"/>
                  </a:cubicBezTo>
                  <a:cubicBezTo>
                    <a:pt x="349" y="774"/>
                    <a:pt x="379" y="777"/>
                    <a:pt x="396" y="788"/>
                  </a:cubicBezTo>
                  <a:cubicBezTo>
                    <a:pt x="442" y="782"/>
                    <a:pt x="491" y="790"/>
                    <a:pt x="533" y="771"/>
                  </a:cubicBezTo>
                  <a:cubicBezTo>
                    <a:pt x="549" y="764"/>
                    <a:pt x="548" y="738"/>
                    <a:pt x="550" y="720"/>
                  </a:cubicBezTo>
                  <a:cubicBezTo>
                    <a:pt x="570" y="556"/>
                    <a:pt x="540" y="508"/>
                    <a:pt x="619" y="394"/>
                  </a:cubicBezTo>
                  <a:cubicBezTo>
                    <a:pt x="645" y="314"/>
                    <a:pt x="661" y="233"/>
                    <a:pt x="687" y="154"/>
                  </a:cubicBezTo>
                  <a:cubicBezTo>
                    <a:pt x="654" y="143"/>
                    <a:pt x="608" y="132"/>
                    <a:pt x="584" y="103"/>
                  </a:cubicBezTo>
                  <a:cubicBezTo>
                    <a:pt x="573" y="89"/>
                    <a:pt x="577" y="66"/>
                    <a:pt x="567" y="51"/>
                  </a:cubicBezTo>
                  <a:cubicBezTo>
                    <a:pt x="554" y="31"/>
                    <a:pt x="533" y="17"/>
                    <a:pt x="516" y="0"/>
                  </a:cubicBezTo>
                  <a:cubicBezTo>
                    <a:pt x="377" y="23"/>
                    <a:pt x="446" y="6"/>
                    <a:pt x="310" y="51"/>
                  </a:cubicBezTo>
                  <a:cubicBezTo>
                    <a:pt x="267" y="65"/>
                    <a:pt x="219" y="51"/>
                    <a:pt x="173" y="5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27760" y="4704120"/>
              <a:ext cx="563760" cy="458280"/>
            </a:xfrm>
            <a:custGeom>
              <a:avLst/>
              <a:gdLst/>
              <a:ahLst/>
              <a:rect l="l" t="t" r="r" b="b"/>
              <a:pathLst>
                <a:path w="888" h="722">
                  <a:moveTo>
                    <a:pt x="288" y="636"/>
                  </a:moveTo>
                  <a:cubicBezTo>
                    <a:pt x="282" y="653"/>
                    <a:pt x="285" y="676"/>
                    <a:pt x="270" y="687"/>
                  </a:cubicBezTo>
                  <a:cubicBezTo>
                    <a:pt x="241" y="708"/>
                    <a:pt x="168" y="722"/>
                    <a:pt x="168" y="722"/>
                  </a:cubicBezTo>
                  <a:cubicBezTo>
                    <a:pt x="139" y="716"/>
                    <a:pt x="106" y="721"/>
                    <a:pt x="82" y="705"/>
                  </a:cubicBezTo>
                  <a:cubicBezTo>
                    <a:pt x="0" y="650"/>
                    <a:pt x="143" y="610"/>
                    <a:pt x="168" y="602"/>
                  </a:cubicBezTo>
                  <a:cubicBezTo>
                    <a:pt x="209" y="560"/>
                    <a:pt x="220" y="514"/>
                    <a:pt x="253" y="465"/>
                  </a:cubicBezTo>
                  <a:cubicBezTo>
                    <a:pt x="259" y="436"/>
                    <a:pt x="249" y="400"/>
                    <a:pt x="270" y="379"/>
                  </a:cubicBezTo>
                  <a:cubicBezTo>
                    <a:pt x="296" y="353"/>
                    <a:pt x="373" y="345"/>
                    <a:pt x="373" y="345"/>
                  </a:cubicBezTo>
                  <a:cubicBezTo>
                    <a:pt x="385" y="333"/>
                    <a:pt x="395" y="320"/>
                    <a:pt x="408" y="310"/>
                  </a:cubicBezTo>
                  <a:cubicBezTo>
                    <a:pt x="424" y="297"/>
                    <a:pt x="459" y="296"/>
                    <a:pt x="459" y="276"/>
                  </a:cubicBezTo>
                  <a:cubicBezTo>
                    <a:pt x="459" y="256"/>
                    <a:pt x="425" y="253"/>
                    <a:pt x="408" y="242"/>
                  </a:cubicBezTo>
                  <a:cubicBezTo>
                    <a:pt x="391" y="248"/>
                    <a:pt x="372" y="250"/>
                    <a:pt x="356" y="259"/>
                  </a:cubicBezTo>
                  <a:cubicBezTo>
                    <a:pt x="320" y="279"/>
                    <a:pt x="253" y="327"/>
                    <a:pt x="253" y="327"/>
                  </a:cubicBezTo>
                  <a:cubicBezTo>
                    <a:pt x="225" y="321"/>
                    <a:pt x="186" y="333"/>
                    <a:pt x="168" y="310"/>
                  </a:cubicBezTo>
                  <a:cubicBezTo>
                    <a:pt x="123" y="253"/>
                    <a:pt x="243" y="199"/>
                    <a:pt x="270" y="190"/>
                  </a:cubicBezTo>
                  <a:cubicBezTo>
                    <a:pt x="325" y="110"/>
                    <a:pt x="364" y="102"/>
                    <a:pt x="459" y="70"/>
                  </a:cubicBezTo>
                  <a:cubicBezTo>
                    <a:pt x="478" y="63"/>
                    <a:pt x="492" y="45"/>
                    <a:pt x="510" y="36"/>
                  </a:cubicBezTo>
                  <a:cubicBezTo>
                    <a:pt x="526" y="28"/>
                    <a:pt x="545" y="25"/>
                    <a:pt x="562" y="19"/>
                  </a:cubicBezTo>
                  <a:cubicBezTo>
                    <a:pt x="573" y="36"/>
                    <a:pt x="576" y="64"/>
                    <a:pt x="596" y="70"/>
                  </a:cubicBezTo>
                  <a:cubicBezTo>
                    <a:pt x="673" y="92"/>
                    <a:pt x="686" y="47"/>
                    <a:pt x="716" y="2"/>
                  </a:cubicBezTo>
                  <a:cubicBezTo>
                    <a:pt x="767" y="8"/>
                    <a:pt x="822" y="0"/>
                    <a:pt x="870" y="19"/>
                  </a:cubicBezTo>
                  <a:cubicBezTo>
                    <a:pt x="887" y="26"/>
                    <a:pt x="888" y="52"/>
                    <a:pt x="888" y="70"/>
                  </a:cubicBezTo>
                  <a:cubicBezTo>
                    <a:pt x="888" y="263"/>
                    <a:pt x="874" y="308"/>
                    <a:pt x="853" y="465"/>
                  </a:cubicBezTo>
                  <a:cubicBezTo>
                    <a:pt x="847" y="511"/>
                    <a:pt x="858" y="562"/>
                    <a:pt x="836" y="602"/>
                  </a:cubicBezTo>
                  <a:cubicBezTo>
                    <a:pt x="816" y="638"/>
                    <a:pt x="756" y="623"/>
                    <a:pt x="716" y="636"/>
                  </a:cubicBezTo>
                  <a:cubicBezTo>
                    <a:pt x="689" y="718"/>
                    <a:pt x="674" y="714"/>
                    <a:pt x="596" y="687"/>
                  </a:cubicBezTo>
                  <a:cubicBezTo>
                    <a:pt x="571" y="612"/>
                    <a:pt x="570" y="594"/>
                    <a:pt x="493" y="567"/>
                  </a:cubicBezTo>
                  <a:cubicBezTo>
                    <a:pt x="470" y="573"/>
                    <a:pt x="439" y="566"/>
                    <a:pt x="425" y="585"/>
                  </a:cubicBezTo>
                  <a:cubicBezTo>
                    <a:pt x="352" y="688"/>
                    <a:pt x="469" y="707"/>
                    <a:pt x="356" y="670"/>
                  </a:cubicBezTo>
                  <a:cubicBezTo>
                    <a:pt x="350" y="642"/>
                    <a:pt x="359" y="605"/>
                    <a:pt x="339" y="585"/>
                  </a:cubicBezTo>
                  <a:cubicBezTo>
                    <a:pt x="326" y="572"/>
                    <a:pt x="301" y="589"/>
                    <a:pt x="288" y="602"/>
                  </a:cubicBezTo>
                  <a:cubicBezTo>
                    <a:pt x="280" y="610"/>
                    <a:pt x="288" y="625"/>
                    <a:pt x="288" y="63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82440" y="4672440"/>
              <a:ext cx="752040" cy="740160"/>
            </a:xfrm>
            <a:custGeom>
              <a:avLst/>
              <a:gdLst/>
              <a:ahLst/>
              <a:rect l="l" t="t" r="r" b="b"/>
              <a:pathLst>
                <a:path w="1185" h="1166">
                  <a:moveTo>
                    <a:pt x="154" y="635"/>
                  </a:moveTo>
                  <a:cubicBezTo>
                    <a:pt x="145" y="663"/>
                    <a:pt x="131" y="720"/>
                    <a:pt x="103" y="737"/>
                  </a:cubicBezTo>
                  <a:cubicBezTo>
                    <a:pt x="72" y="756"/>
                    <a:pt x="0" y="772"/>
                    <a:pt x="0" y="772"/>
                  </a:cubicBezTo>
                  <a:cubicBezTo>
                    <a:pt x="6" y="789"/>
                    <a:pt x="7" y="808"/>
                    <a:pt x="17" y="823"/>
                  </a:cubicBezTo>
                  <a:cubicBezTo>
                    <a:pt x="36" y="849"/>
                    <a:pt x="86" y="892"/>
                    <a:pt x="86" y="892"/>
                  </a:cubicBezTo>
                  <a:cubicBezTo>
                    <a:pt x="92" y="909"/>
                    <a:pt x="98" y="926"/>
                    <a:pt x="103" y="943"/>
                  </a:cubicBezTo>
                  <a:cubicBezTo>
                    <a:pt x="109" y="966"/>
                    <a:pt x="103" y="995"/>
                    <a:pt x="120" y="1012"/>
                  </a:cubicBezTo>
                  <a:cubicBezTo>
                    <a:pt x="137" y="1029"/>
                    <a:pt x="166" y="1023"/>
                    <a:pt x="189" y="1029"/>
                  </a:cubicBezTo>
                  <a:cubicBezTo>
                    <a:pt x="275" y="1000"/>
                    <a:pt x="234" y="1029"/>
                    <a:pt x="274" y="909"/>
                  </a:cubicBezTo>
                  <a:cubicBezTo>
                    <a:pt x="280" y="892"/>
                    <a:pt x="292" y="857"/>
                    <a:pt x="292" y="857"/>
                  </a:cubicBezTo>
                  <a:cubicBezTo>
                    <a:pt x="298" y="858"/>
                    <a:pt x="446" y="863"/>
                    <a:pt x="463" y="909"/>
                  </a:cubicBezTo>
                  <a:cubicBezTo>
                    <a:pt x="481" y="958"/>
                    <a:pt x="470" y="1012"/>
                    <a:pt x="480" y="1063"/>
                  </a:cubicBezTo>
                  <a:cubicBezTo>
                    <a:pt x="487" y="1098"/>
                    <a:pt x="514" y="1166"/>
                    <a:pt x="514" y="1166"/>
                  </a:cubicBezTo>
                  <a:cubicBezTo>
                    <a:pt x="649" y="1122"/>
                    <a:pt x="630" y="1033"/>
                    <a:pt x="652" y="909"/>
                  </a:cubicBezTo>
                  <a:cubicBezTo>
                    <a:pt x="675" y="915"/>
                    <a:pt x="702" y="911"/>
                    <a:pt x="720" y="926"/>
                  </a:cubicBezTo>
                  <a:cubicBezTo>
                    <a:pt x="740" y="943"/>
                    <a:pt x="744" y="971"/>
                    <a:pt x="754" y="995"/>
                  </a:cubicBezTo>
                  <a:cubicBezTo>
                    <a:pt x="815" y="1146"/>
                    <a:pt x="758" y="1050"/>
                    <a:pt x="823" y="1149"/>
                  </a:cubicBezTo>
                  <a:cubicBezTo>
                    <a:pt x="863" y="1143"/>
                    <a:pt x="907" y="1150"/>
                    <a:pt x="943" y="1132"/>
                  </a:cubicBezTo>
                  <a:cubicBezTo>
                    <a:pt x="959" y="1124"/>
                    <a:pt x="960" y="1098"/>
                    <a:pt x="960" y="1080"/>
                  </a:cubicBezTo>
                  <a:cubicBezTo>
                    <a:pt x="960" y="948"/>
                    <a:pt x="955" y="945"/>
                    <a:pt x="926" y="857"/>
                  </a:cubicBezTo>
                  <a:cubicBezTo>
                    <a:pt x="952" y="780"/>
                    <a:pt x="972" y="779"/>
                    <a:pt x="1046" y="755"/>
                  </a:cubicBezTo>
                  <a:cubicBezTo>
                    <a:pt x="1116" y="683"/>
                    <a:pt x="1099" y="640"/>
                    <a:pt x="1080" y="532"/>
                  </a:cubicBezTo>
                  <a:cubicBezTo>
                    <a:pt x="1077" y="514"/>
                    <a:pt x="1074" y="494"/>
                    <a:pt x="1063" y="480"/>
                  </a:cubicBezTo>
                  <a:cubicBezTo>
                    <a:pt x="1050" y="464"/>
                    <a:pt x="1029" y="457"/>
                    <a:pt x="1012" y="446"/>
                  </a:cubicBezTo>
                  <a:cubicBezTo>
                    <a:pt x="997" y="360"/>
                    <a:pt x="969" y="317"/>
                    <a:pt x="994" y="240"/>
                  </a:cubicBezTo>
                  <a:cubicBezTo>
                    <a:pt x="1089" y="264"/>
                    <a:pt x="1086" y="282"/>
                    <a:pt x="1183" y="257"/>
                  </a:cubicBezTo>
                  <a:cubicBezTo>
                    <a:pt x="1163" y="117"/>
                    <a:pt x="1185" y="127"/>
                    <a:pt x="1063" y="86"/>
                  </a:cubicBezTo>
                  <a:cubicBezTo>
                    <a:pt x="977" y="0"/>
                    <a:pt x="939" y="15"/>
                    <a:pt x="806" y="0"/>
                  </a:cubicBezTo>
                  <a:cubicBezTo>
                    <a:pt x="777" y="6"/>
                    <a:pt x="747" y="5"/>
                    <a:pt x="720" y="17"/>
                  </a:cubicBezTo>
                  <a:cubicBezTo>
                    <a:pt x="705" y="23"/>
                    <a:pt x="701" y="45"/>
                    <a:pt x="686" y="52"/>
                  </a:cubicBezTo>
                  <a:cubicBezTo>
                    <a:pt x="654" y="68"/>
                    <a:pt x="617" y="75"/>
                    <a:pt x="583" y="86"/>
                  </a:cubicBezTo>
                  <a:cubicBezTo>
                    <a:pt x="566" y="92"/>
                    <a:pt x="532" y="103"/>
                    <a:pt x="532" y="103"/>
                  </a:cubicBezTo>
                  <a:cubicBezTo>
                    <a:pt x="338" y="39"/>
                    <a:pt x="401" y="52"/>
                    <a:pt x="154" y="5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80600" y="5503680"/>
              <a:ext cx="405000" cy="257040"/>
            </a:xfrm>
            <a:custGeom>
              <a:avLst/>
              <a:gdLst/>
              <a:ahLst/>
              <a:rect l="l" t="t" r="r" b="b"/>
              <a:pathLst>
                <a:path w="638" h="405">
                  <a:moveTo>
                    <a:pt x="333" y="62"/>
                  </a:moveTo>
                  <a:cubicBezTo>
                    <a:pt x="202" y="18"/>
                    <a:pt x="265" y="20"/>
                    <a:pt x="144" y="45"/>
                  </a:cubicBezTo>
                  <a:cubicBezTo>
                    <a:pt x="127" y="56"/>
                    <a:pt x="106" y="63"/>
                    <a:pt x="93" y="79"/>
                  </a:cubicBezTo>
                  <a:cubicBezTo>
                    <a:pt x="82" y="93"/>
                    <a:pt x="85" y="115"/>
                    <a:pt x="76" y="130"/>
                  </a:cubicBezTo>
                  <a:cubicBezTo>
                    <a:pt x="67" y="144"/>
                    <a:pt x="53" y="153"/>
                    <a:pt x="41" y="165"/>
                  </a:cubicBezTo>
                  <a:cubicBezTo>
                    <a:pt x="0" y="287"/>
                    <a:pt x="9" y="363"/>
                    <a:pt x="127" y="405"/>
                  </a:cubicBezTo>
                  <a:cubicBezTo>
                    <a:pt x="230" y="399"/>
                    <a:pt x="334" y="400"/>
                    <a:pt x="436" y="387"/>
                  </a:cubicBezTo>
                  <a:cubicBezTo>
                    <a:pt x="472" y="382"/>
                    <a:pt x="539" y="353"/>
                    <a:pt x="539" y="353"/>
                  </a:cubicBezTo>
                  <a:cubicBezTo>
                    <a:pt x="580" y="291"/>
                    <a:pt x="638" y="268"/>
                    <a:pt x="590" y="182"/>
                  </a:cubicBezTo>
                  <a:cubicBezTo>
                    <a:pt x="539" y="91"/>
                    <a:pt x="535" y="128"/>
                    <a:pt x="470" y="96"/>
                  </a:cubicBezTo>
                  <a:cubicBezTo>
                    <a:pt x="452" y="87"/>
                    <a:pt x="438" y="70"/>
                    <a:pt x="419" y="62"/>
                  </a:cubicBezTo>
                  <a:cubicBezTo>
                    <a:pt x="296" y="7"/>
                    <a:pt x="303" y="0"/>
                    <a:pt x="333" y="6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28160" y="4811040"/>
              <a:ext cx="910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19600" y="5359680"/>
              <a:ext cx="910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59680" y="4811040"/>
              <a:ext cx="910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43840" y="5478480"/>
              <a:ext cx="910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16880" y="4902480"/>
              <a:ext cx="910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99760" y="5542560"/>
              <a:ext cx="910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25040" y="5311440"/>
              <a:ext cx="7164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20840" y="4169880"/>
              <a:ext cx="3006000" cy="1979280"/>
              <a:chOff x="420840" y="4169880"/>
              <a:chExt cx="3006000" cy="1979280"/>
            </a:xfrm>
          </p:grpSpPr>
          <p:sp>
            <p:nvSpPr>
              <p:cNvPr id="423" name=""/>
              <p:cNvSpPr/>
              <p:nvPr/>
            </p:nvSpPr>
            <p:spPr>
              <a:xfrm>
                <a:off x="570960" y="6057720"/>
                <a:ext cx="246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570960" y="4320360"/>
                <a:ext cx="0" cy="173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061440" y="5966280"/>
                <a:ext cx="365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000" spc="-1" strike="noStrike">
                    <a:solidFill>
                      <a:srgbClr val="000000"/>
                    </a:solidFill>
                    <a:latin typeface="Arial"/>
                  </a:rPr>
                  <a:t>L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0840" y="4169880"/>
                <a:ext cx="365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000" spc="-1" strike="noStrike">
                    <a:solidFill>
                      <a:srgbClr val="000000"/>
                    </a:solidFill>
                    <a:latin typeface="Arial"/>
                  </a:rPr>
                  <a:t>LA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662120" y="534600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70600" y="534600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1040" y="533520"/>
              <a:ext cx="146268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200" spc="-1" strike="noStrike">
                  <a:solidFill>
                    <a:srgbClr val="000000"/>
                  </a:solidFill>
                  <a:latin typeface="Arial"/>
                </a:rPr>
                <a:t>NORMAL IM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- Normal form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- Land and wa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68640" y="533520"/>
              <a:ext cx="1554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200" spc="-1" strike="noStrike">
                  <a:solidFill>
                    <a:srgbClr val="000000"/>
                  </a:solidFill>
                  <a:latin typeface="Arial"/>
                </a:rPr>
                <a:t>PSEUDO-IMAG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- Only l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- All in IGH-Proj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- Sorted by Region-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87360" y="1392480"/>
              <a:ext cx="731160" cy="17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PI_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PI_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PI_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PI_L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PI_L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34760" y="2190600"/>
              <a:ext cx="24825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</a:rPr>
                <a:t>STEP 1b      </a:t>
              </a:r>
              <a:r>
                <a:rPr b="1" i="1" lang="fr-BE" sz="1000" spc="-1" strike="noStrike">
                  <a:solidFill>
                    <a:srgbClr val="000000"/>
                  </a:solidFill>
                  <a:latin typeface="Arial"/>
                </a:rPr>
                <a:t>Inverse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IGH-proj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3840" y="1532880"/>
              <a:ext cx="201132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78120" y="2246400"/>
              <a:ext cx="370080" cy="531360"/>
            </a:xfrm>
            <a:custGeom>
              <a:avLst/>
              <a:gdLst/>
              <a:ahLst/>
              <a:rect l="l" t="t" r="r" b="b"/>
              <a:pathLst>
                <a:path w="583" h="837">
                  <a:moveTo>
                    <a:pt x="0" y="66"/>
                  </a:moveTo>
                  <a:cubicBezTo>
                    <a:pt x="6" y="123"/>
                    <a:pt x="6" y="181"/>
                    <a:pt x="17" y="237"/>
                  </a:cubicBezTo>
                  <a:cubicBezTo>
                    <a:pt x="29" y="303"/>
                    <a:pt x="65" y="378"/>
                    <a:pt x="86" y="443"/>
                  </a:cubicBezTo>
                  <a:cubicBezTo>
                    <a:pt x="93" y="466"/>
                    <a:pt x="122" y="476"/>
                    <a:pt x="137" y="494"/>
                  </a:cubicBezTo>
                  <a:cubicBezTo>
                    <a:pt x="150" y="510"/>
                    <a:pt x="160" y="529"/>
                    <a:pt x="172" y="546"/>
                  </a:cubicBezTo>
                  <a:cubicBezTo>
                    <a:pt x="195" y="615"/>
                    <a:pt x="210" y="711"/>
                    <a:pt x="257" y="769"/>
                  </a:cubicBezTo>
                  <a:cubicBezTo>
                    <a:pt x="267" y="782"/>
                    <a:pt x="277" y="796"/>
                    <a:pt x="292" y="803"/>
                  </a:cubicBezTo>
                  <a:cubicBezTo>
                    <a:pt x="324" y="819"/>
                    <a:pt x="394" y="837"/>
                    <a:pt x="394" y="837"/>
                  </a:cubicBezTo>
                  <a:cubicBezTo>
                    <a:pt x="406" y="826"/>
                    <a:pt x="429" y="819"/>
                    <a:pt x="429" y="803"/>
                  </a:cubicBezTo>
                  <a:cubicBezTo>
                    <a:pt x="429" y="765"/>
                    <a:pt x="366" y="732"/>
                    <a:pt x="343" y="717"/>
                  </a:cubicBezTo>
                  <a:cubicBezTo>
                    <a:pt x="365" y="630"/>
                    <a:pt x="353" y="613"/>
                    <a:pt x="429" y="563"/>
                  </a:cubicBezTo>
                  <a:cubicBezTo>
                    <a:pt x="435" y="546"/>
                    <a:pt x="438" y="527"/>
                    <a:pt x="446" y="511"/>
                  </a:cubicBezTo>
                  <a:cubicBezTo>
                    <a:pt x="455" y="493"/>
                    <a:pt x="474" y="479"/>
                    <a:pt x="480" y="460"/>
                  </a:cubicBezTo>
                  <a:cubicBezTo>
                    <a:pt x="491" y="428"/>
                    <a:pt x="491" y="344"/>
                    <a:pt x="514" y="306"/>
                  </a:cubicBezTo>
                  <a:cubicBezTo>
                    <a:pt x="533" y="275"/>
                    <a:pt x="563" y="251"/>
                    <a:pt x="583" y="220"/>
                  </a:cubicBezTo>
                  <a:cubicBezTo>
                    <a:pt x="510" y="111"/>
                    <a:pt x="423" y="121"/>
                    <a:pt x="309" y="83"/>
                  </a:cubicBezTo>
                  <a:cubicBezTo>
                    <a:pt x="255" y="30"/>
                    <a:pt x="194" y="29"/>
                    <a:pt x="120" y="14"/>
                  </a:cubicBezTo>
                  <a:cubicBezTo>
                    <a:pt x="4" y="33"/>
                    <a:pt x="32" y="0"/>
                    <a:pt x="0" y="6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58240" y="1614240"/>
              <a:ext cx="475560" cy="590400"/>
            </a:xfrm>
            <a:custGeom>
              <a:avLst/>
              <a:gdLst/>
              <a:ahLst/>
              <a:rect l="l" t="t" r="r" b="b"/>
              <a:pathLst>
                <a:path w="749" h="930">
                  <a:moveTo>
                    <a:pt x="275" y="925"/>
                  </a:moveTo>
                  <a:cubicBezTo>
                    <a:pt x="258" y="919"/>
                    <a:pt x="234" y="921"/>
                    <a:pt x="223" y="907"/>
                  </a:cubicBezTo>
                  <a:cubicBezTo>
                    <a:pt x="197" y="875"/>
                    <a:pt x="207" y="824"/>
                    <a:pt x="189" y="787"/>
                  </a:cubicBezTo>
                  <a:cubicBezTo>
                    <a:pt x="180" y="769"/>
                    <a:pt x="164" y="754"/>
                    <a:pt x="155" y="736"/>
                  </a:cubicBezTo>
                  <a:cubicBezTo>
                    <a:pt x="142" y="711"/>
                    <a:pt x="127" y="639"/>
                    <a:pt x="121" y="616"/>
                  </a:cubicBezTo>
                  <a:cubicBezTo>
                    <a:pt x="132" y="467"/>
                    <a:pt x="122" y="435"/>
                    <a:pt x="155" y="325"/>
                  </a:cubicBezTo>
                  <a:cubicBezTo>
                    <a:pt x="165" y="290"/>
                    <a:pt x="189" y="222"/>
                    <a:pt x="189" y="222"/>
                  </a:cubicBezTo>
                  <a:cubicBezTo>
                    <a:pt x="93" y="123"/>
                    <a:pt x="256" y="273"/>
                    <a:pt x="18" y="205"/>
                  </a:cubicBezTo>
                  <a:cubicBezTo>
                    <a:pt x="0" y="200"/>
                    <a:pt x="22" y="166"/>
                    <a:pt x="35" y="153"/>
                  </a:cubicBezTo>
                  <a:cubicBezTo>
                    <a:pt x="64" y="124"/>
                    <a:pt x="138" y="85"/>
                    <a:pt x="138" y="85"/>
                  </a:cubicBezTo>
                  <a:cubicBezTo>
                    <a:pt x="405" y="95"/>
                    <a:pt x="561" y="0"/>
                    <a:pt x="686" y="187"/>
                  </a:cubicBezTo>
                  <a:cubicBezTo>
                    <a:pt x="639" y="235"/>
                    <a:pt x="598" y="240"/>
                    <a:pt x="532" y="256"/>
                  </a:cubicBezTo>
                  <a:cubicBezTo>
                    <a:pt x="527" y="270"/>
                    <a:pt x="491" y="345"/>
                    <a:pt x="532" y="359"/>
                  </a:cubicBezTo>
                  <a:cubicBezTo>
                    <a:pt x="560" y="368"/>
                    <a:pt x="589" y="348"/>
                    <a:pt x="618" y="342"/>
                  </a:cubicBezTo>
                  <a:cubicBezTo>
                    <a:pt x="638" y="321"/>
                    <a:pt x="666" y="282"/>
                    <a:pt x="703" y="290"/>
                  </a:cubicBezTo>
                  <a:cubicBezTo>
                    <a:pt x="719" y="293"/>
                    <a:pt x="726" y="313"/>
                    <a:pt x="738" y="325"/>
                  </a:cubicBezTo>
                  <a:cubicBezTo>
                    <a:pt x="732" y="376"/>
                    <a:pt x="749" y="435"/>
                    <a:pt x="721" y="479"/>
                  </a:cubicBezTo>
                  <a:cubicBezTo>
                    <a:pt x="702" y="509"/>
                    <a:pt x="652" y="502"/>
                    <a:pt x="618" y="513"/>
                  </a:cubicBezTo>
                  <a:cubicBezTo>
                    <a:pt x="601" y="519"/>
                    <a:pt x="566" y="530"/>
                    <a:pt x="566" y="530"/>
                  </a:cubicBezTo>
                  <a:cubicBezTo>
                    <a:pt x="555" y="542"/>
                    <a:pt x="545" y="555"/>
                    <a:pt x="532" y="565"/>
                  </a:cubicBezTo>
                  <a:cubicBezTo>
                    <a:pt x="516" y="578"/>
                    <a:pt x="492" y="582"/>
                    <a:pt x="481" y="599"/>
                  </a:cubicBezTo>
                  <a:cubicBezTo>
                    <a:pt x="462" y="630"/>
                    <a:pt x="446" y="702"/>
                    <a:pt x="446" y="702"/>
                  </a:cubicBezTo>
                  <a:cubicBezTo>
                    <a:pt x="458" y="713"/>
                    <a:pt x="481" y="720"/>
                    <a:pt x="481" y="736"/>
                  </a:cubicBezTo>
                  <a:cubicBezTo>
                    <a:pt x="481" y="774"/>
                    <a:pt x="347" y="800"/>
                    <a:pt x="326" y="805"/>
                  </a:cubicBezTo>
                  <a:cubicBezTo>
                    <a:pt x="313" y="844"/>
                    <a:pt x="310" y="888"/>
                    <a:pt x="292" y="925"/>
                  </a:cubicBezTo>
                  <a:cubicBezTo>
                    <a:pt x="289" y="930"/>
                    <a:pt x="281" y="925"/>
                    <a:pt x="275" y="92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01920" y="2191320"/>
              <a:ext cx="435960" cy="501480"/>
            </a:xfrm>
            <a:custGeom>
              <a:avLst/>
              <a:gdLst/>
              <a:ahLst/>
              <a:rect l="l" t="t" r="r" b="b"/>
              <a:pathLst>
                <a:path w="687" h="790">
                  <a:moveTo>
                    <a:pt x="173" y="51"/>
                  </a:moveTo>
                  <a:cubicBezTo>
                    <a:pt x="147" y="42"/>
                    <a:pt x="96" y="14"/>
                    <a:pt x="70" y="51"/>
                  </a:cubicBezTo>
                  <a:cubicBezTo>
                    <a:pt x="49" y="80"/>
                    <a:pt x="47" y="120"/>
                    <a:pt x="36" y="154"/>
                  </a:cubicBezTo>
                  <a:cubicBezTo>
                    <a:pt x="30" y="171"/>
                    <a:pt x="19" y="205"/>
                    <a:pt x="19" y="205"/>
                  </a:cubicBezTo>
                  <a:cubicBezTo>
                    <a:pt x="33" y="315"/>
                    <a:pt x="0" y="339"/>
                    <a:pt x="87" y="377"/>
                  </a:cubicBezTo>
                  <a:cubicBezTo>
                    <a:pt x="92" y="379"/>
                    <a:pt x="214" y="419"/>
                    <a:pt x="242" y="428"/>
                  </a:cubicBezTo>
                  <a:cubicBezTo>
                    <a:pt x="259" y="434"/>
                    <a:pt x="293" y="445"/>
                    <a:pt x="293" y="445"/>
                  </a:cubicBezTo>
                  <a:cubicBezTo>
                    <a:pt x="402" y="557"/>
                    <a:pt x="265" y="401"/>
                    <a:pt x="344" y="754"/>
                  </a:cubicBezTo>
                  <a:cubicBezTo>
                    <a:pt x="349" y="774"/>
                    <a:pt x="379" y="777"/>
                    <a:pt x="396" y="788"/>
                  </a:cubicBezTo>
                  <a:cubicBezTo>
                    <a:pt x="442" y="782"/>
                    <a:pt x="491" y="790"/>
                    <a:pt x="533" y="771"/>
                  </a:cubicBezTo>
                  <a:cubicBezTo>
                    <a:pt x="549" y="764"/>
                    <a:pt x="548" y="738"/>
                    <a:pt x="550" y="720"/>
                  </a:cubicBezTo>
                  <a:cubicBezTo>
                    <a:pt x="570" y="556"/>
                    <a:pt x="540" y="508"/>
                    <a:pt x="619" y="394"/>
                  </a:cubicBezTo>
                  <a:cubicBezTo>
                    <a:pt x="645" y="314"/>
                    <a:pt x="661" y="233"/>
                    <a:pt x="687" y="154"/>
                  </a:cubicBezTo>
                  <a:cubicBezTo>
                    <a:pt x="654" y="143"/>
                    <a:pt x="608" y="132"/>
                    <a:pt x="584" y="103"/>
                  </a:cubicBezTo>
                  <a:cubicBezTo>
                    <a:pt x="573" y="89"/>
                    <a:pt x="577" y="66"/>
                    <a:pt x="567" y="51"/>
                  </a:cubicBezTo>
                  <a:cubicBezTo>
                    <a:pt x="554" y="31"/>
                    <a:pt x="533" y="17"/>
                    <a:pt x="516" y="0"/>
                  </a:cubicBezTo>
                  <a:cubicBezTo>
                    <a:pt x="377" y="23"/>
                    <a:pt x="446" y="6"/>
                    <a:pt x="310" y="51"/>
                  </a:cubicBezTo>
                  <a:cubicBezTo>
                    <a:pt x="267" y="65"/>
                    <a:pt x="219" y="51"/>
                    <a:pt x="173" y="5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27760" y="1700640"/>
              <a:ext cx="563760" cy="458280"/>
            </a:xfrm>
            <a:custGeom>
              <a:avLst/>
              <a:gdLst/>
              <a:ahLst/>
              <a:rect l="l" t="t" r="r" b="b"/>
              <a:pathLst>
                <a:path w="888" h="722">
                  <a:moveTo>
                    <a:pt x="288" y="636"/>
                  </a:moveTo>
                  <a:cubicBezTo>
                    <a:pt x="282" y="653"/>
                    <a:pt x="285" y="676"/>
                    <a:pt x="270" y="687"/>
                  </a:cubicBezTo>
                  <a:cubicBezTo>
                    <a:pt x="241" y="708"/>
                    <a:pt x="168" y="722"/>
                    <a:pt x="168" y="722"/>
                  </a:cubicBezTo>
                  <a:cubicBezTo>
                    <a:pt x="139" y="716"/>
                    <a:pt x="106" y="721"/>
                    <a:pt x="82" y="705"/>
                  </a:cubicBezTo>
                  <a:cubicBezTo>
                    <a:pt x="0" y="650"/>
                    <a:pt x="143" y="610"/>
                    <a:pt x="168" y="602"/>
                  </a:cubicBezTo>
                  <a:cubicBezTo>
                    <a:pt x="209" y="560"/>
                    <a:pt x="220" y="514"/>
                    <a:pt x="253" y="465"/>
                  </a:cubicBezTo>
                  <a:cubicBezTo>
                    <a:pt x="259" y="436"/>
                    <a:pt x="249" y="400"/>
                    <a:pt x="270" y="379"/>
                  </a:cubicBezTo>
                  <a:cubicBezTo>
                    <a:pt x="296" y="353"/>
                    <a:pt x="373" y="345"/>
                    <a:pt x="373" y="345"/>
                  </a:cubicBezTo>
                  <a:cubicBezTo>
                    <a:pt x="385" y="333"/>
                    <a:pt x="395" y="320"/>
                    <a:pt x="408" y="310"/>
                  </a:cubicBezTo>
                  <a:cubicBezTo>
                    <a:pt x="424" y="297"/>
                    <a:pt x="459" y="296"/>
                    <a:pt x="459" y="276"/>
                  </a:cubicBezTo>
                  <a:cubicBezTo>
                    <a:pt x="459" y="256"/>
                    <a:pt x="425" y="253"/>
                    <a:pt x="408" y="242"/>
                  </a:cubicBezTo>
                  <a:cubicBezTo>
                    <a:pt x="391" y="248"/>
                    <a:pt x="372" y="250"/>
                    <a:pt x="356" y="259"/>
                  </a:cubicBezTo>
                  <a:cubicBezTo>
                    <a:pt x="320" y="279"/>
                    <a:pt x="253" y="327"/>
                    <a:pt x="253" y="327"/>
                  </a:cubicBezTo>
                  <a:cubicBezTo>
                    <a:pt x="225" y="321"/>
                    <a:pt x="186" y="333"/>
                    <a:pt x="168" y="310"/>
                  </a:cubicBezTo>
                  <a:cubicBezTo>
                    <a:pt x="123" y="253"/>
                    <a:pt x="243" y="199"/>
                    <a:pt x="270" y="190"/>
                  </a:cubicBezTo>
                  <a:cubicBezTo>
                    <a:pt x="325" y="110"/>
                    <a:pt x="364" y="102"/>
                    <a:pt x="459" y="70"/>
                  </a:cubicBezTo>
                  <a:cubicBezTo>
                    <a:pt x="478" y="63"/>
                    <a:pt x="492" y="45"/>
                    <a:pt x="510" y="36"/>
                  </a:cubicBezTo>
                  <a:cubicBezTo>
                    <a:pt x="526" y="28"/>
                    <a:pt x="545" y="25"/>
                    <a:pt x="562" y="19"/>
                  </a:cubicBezTo>
                  <a:cubicBezTo>
                    <a:pt x="573" y="36"/>
                    <a:pt x="576" y="64"/>
                    <a:pt x="596" y="70"/>
                  </a:cubicBezTo>
                  <a:cubicBezTo>
                    <a:pt x="673" y="92"/>
                    <a:pt x="686" y="47"/>
                    <a:pt x="716" y="2"/>
                  </a:cubicBezTo>
                  <a:cubicBezTo>
                    <a:pt x="767" y="8"/>
                    <a:pt x="822" y="0"/>
                    <a:pt x="870" y="19"/>
                  </a:cubicBezTo>
                  <a:cubicBezTo>
                    <a:pt x="887" y="26"/>
                    <a:pt x="888" y="52"/>
                    <a:pt x="888" y="70"/>
                  </a:cubicBezTo>
                  <a:cubicBezTo>
                    <a:pt x="888" y="263"/>
                    <a:pt x="874" y="308"/>
                    <a:pt x="853" y="465"/>
                  </a:cubicBezTo>
                  <a:cubicBezTo>
                    <a:pt x="847" y="511"/>
                    <a:pt x="858" y="562"/>
                    <a:pt x="836" y="602"/>
                  </a:cubicBezTo>
                  <a:cubicBezTo>
                    <a:pt x="816" y="638"/>
                    <a:pt x="756" y="623"/>
                    <a:pt x="716" y="636"/>
                  </a:cubicBezTo>
                  <a:cubicBezTo>
                    <a:pt x="689" y="718"/>
                    <a:pt x="674" y="714"/>
                    <a:pt x="596" y="687"/>
                  </a:cubicBezTo>
                  <a:cubicBezTo>
                    <a:pt x="571" y="612"/>
                    <a:pt x="570" y="594"/>
                    <a:pt x="493" y="567"/>
                  </a:cubicBezTo>
                  <a:cubicBezTo>
                    <a:pt x="470" y="573"/>
                    <a:pt x="439" y="566"/>
                    <a:pt x="425" y="585"/>
                  </a:cubicBezTo>
                  <a:cubicBezTo>
                    <a:pt x="352" y="688"/>
                    <a:pt x="469" y="707"/>
                    <a:pt x="356" y="670"/>
                  </a:cubicBezTo>
                  <a:cubicBezTo>
                    <a:pt x="350" y="642"/>
                    <a:pt x="359" y="605"/>
                    <a:pt x="339" y="585"/>
                  </a:cubicBezTo>
                  <a:cubicBezTo>
                    <a:pt x="326" y="572"/>
                    <a:pt x="301" y="589"/>
                    <a:pt x="288" y="602"/>
                  </a:cubicBezTo>
                  <a:cubicBezTo>
                    <a:pt x="280" y="610"/>
                    <a:pt x="288" y="625"/>
                    <a:pt x="288" y="63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82440" y="1668960"/>
              <a:ext cx="752040" cy="740160"/>
            </a:xfrm>
            <a:custGeom>
              <a:avLst/>
              <a:gdLst/>
              <a:ahLst/>
              <a:rect l="l" t="t" r="r" b="b"/>
              <a:pathLst>
                <a:path w="1185" h="1166">
                  <a:moveTo>
                    <a:pt x="154" y="635"/>
                  </a:moveTo>
                  <a:cubicBezTo>
                    <a:pt x="145" y="663"/>
                    <a:pt x="131" y="720"/>
                    <a:pt x="103" y="737"/>
                  </a:cubicBezTo>
                  <a:cubicBezTo>
                    <a:pt x="72" y="756"/>
                    <a:pt x="0" y="772"/>
                    <a:pt x="0" y="772"/>
                  </a:cubicBezTo>
                  <a:cubicBezTo>
                    <a:pt x="6" y="789"/>
                    <a:pt x="7" y="808"/>
                    <a:pt x="17" y="823"/>
                  </a:cubicBezTo>
                  <a:cubicBezTo>
                    <a:pt x="36" y="849"/>
                    <a:pt x="86" y="892"/>
                    <a:pt x="86" y="892"/>
                  </a:cubicBezTo>
                  <a:cubicBezTo>
                    <a:pt x="92" y="909"/>
                    <a:pt x="98" y="926"/>
                    <a:pt x="103" y="943"/>
                  </a:cubicBezTo>
                  <a:cubicBezTo>
                    <a:pt x="109" y="966"/>
                    <a:pt x="103" y="995"/>
                    <a:pt x="120" y="1012"/>
                  </a:cubicBezTo>
                  <a:cubicBezTo>
                    <a:pt x="137" y="1029"/>
                    <a:pt x="166" y="1023"/>
                    <a:pt x="189" y="1029"/>
                  </a:cubicBezTo>
                  <a:cubicBezTo>
                    <a:pt x="275" y="1000"/>
                    <a:pt x="234" y="1029"/>
                    <a:pt x="274" y="909"/>
                  </a:cubicBezTo>
                  <a:cubicBezTo>
                    <a:pt x="280" y="892"/>
                    <a:pt x="292" y="857"/>
                    <a:pt x="292" y="857"/>
                  </a:cubicBezTo>
                  <a:cubicBezTo>
                    <a:pt x="298" y="858"/>
                    <a:pt x="446" y="863"/>
                    <a:pt x="463" y="909"/>
                  </a:cubicBezTo>
                  <a:cubicBezTo>
                    <a:pt x="481" y="958"/>
                    <a:pt x="470" y="1012"/>
                    <a:pt x="480" y="1063"/>
                  </a:cubicBezTo>
                  <a:cubicBezTo>
                    <a:pt x="487" y="1098"/>
                    <a:pt x="514" y="1166"/>
                    <a:pt x="514" y="1166"/>
                  </a:cubicBezTo>
                  <a:cubicBezTo>
                    <a:pt x="649" y="1122"/>
                    <a:pt x="630" y="1033"/>
                    <a:pt x="652" y="909"/>
                  </a:cubicBezTo>
                  <a:cubicBezTo>
                    <a:pt x="675" y="915"/>
                    <a:pt x="702" y="911"/>
                    <a:pt x="720" y="926"/>
                  </a:cubicBezTo>
                  <a:cubicBezTo>
                    <a:pt x="740" y="943"/>
                    <a:pt x="744" y="971"/>
                    <a:pt x="754" y="995"/>
                  </a:cubicBezTo>
                  <a:cubicBezTo>
                    <a:pt x="815" y="1146"/>
                    <a:pt x="758" y="1050"/>
                    <a:pt x="823" y="1149"/>
                  </a:cubicBezTo>
                  <a:cubicBezTo>
                    <a:pt x="863" y="1143"/>
                    <a:pt x="907" y="1150"/>
                    <a:pt x="943" y="1132"/>
                  </a:cubicBezTo>
                  <a:cubicBezTo>
                    <a:pt x="959" y="1124"/>
                    <a:pt x="960" y="1098"/>
                    <a:pt x="960" y="1080"/>
                  </a:cubicBezTo>
                  <a:cubicBezTo>
                    <a:pt x="960" y="948"/>
                    <a:pt x="955" y="945"/>
                    <a:pt x="926" y="857"/>
                  </a:cubicBezTo>
                  <a:cubicBezTo>
                    <a:pt x="952" y="780"/>
                    <a:pt x="972" y="779"/>
                    <a:pt x="1046" y="755"/>
                  </a:cubicBezTo>
                  <a:cubicBezTo>
                    <a:pt x="1116" y="683"/>
                    <a:pt x="1099" y="640"/>
                    <a:pt x="1080" y="532"/>
                  </a:cubicBezTo>
                  <a:cubicBezTo>
                    <a:pt x="1077" y="514"/>
                    <a:pt x="1074" y="494"/>
                    <a:pt x="1063" y="480"/>
                  </a:cubicBezTo>
                  <a:cubicBezTo>
                    <a:pt x="1050" y="464"/>
                    <a:pt x="1029" y="457"/>
                    <a:pt x="1012" y="446"/>
                  </a:cubicBezTo>
                  <a:cubicBezTo>
                    <a:pt x="997" y="360"/>
                    <a:pt x="969" y="317"/>
                    <a:pt x="994" y="240"/>
                  </a:cubicBezTo>
                  <a:cubicBezTo>
                    <a:pt x="1089" y="264"/>
                    <a:pt x="1086" y="282"/>
                    <a:pt x="1183" y="257"/>
                  </a:cubicBezTo>
                  <a:cubicBezTo>
                    <a:pt x="1163" y="117"/>
                    <a:pt x="1185" y="127"/>
                    <a:pt x="1063" y="86"/>
                  </a:cubicBezTo>
                  <a:cubicBezTo>
                    <a:pt x="977" y="0"/>
                    <a:pt x="939" y="15"/>
                    <a:pt x="806" y="0"/>
                  </a:cubicBezTo>
                  <a:cubicBezTo>
                    <a:pt x="777" y="6"/>
                    <a:pt x="747" y="5"/>
                    <a:pt x="720" y="17"/>
                  </a:cubicBezTo>
                  <a:cubicBezTo>
                    <a:pt x="705" y="23"/>
                    <a:pt x="701" y="45"/>
                    <a:pt x="686" y="52"/>
                  </a:cubicBezTo>
                  <a:cubicBezTo>
                    <a:pt x="654" y="68"/>
                    <a:pt x="617" y="75"/>
                    <a:pt x="583" y="86"/>
                  </a:cubicBezTo>
                  <a:cubicBezTo>
                    <a:pt x="566" y="92"/>
                    <a:pt x="532" y="103"/>
                    <a:pt x="532" y="103"/>
                  </a:cubicBezTo>
                  <a:cubicBezTo>
                    <a:pt x="338" y="39"/>
                    <a:pt x="401" y="52"/>
                    <a:pt x="154" y="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80600" y="2499840"/>
              <a:ext cx="405000" cy="257040"/>
            </a:xfrm>
            <a:custGeom>
              <a:avLst/>
              <a:gdLst/>
              <a:ahLst/>
              <a:rect l="l" t="t" r="r" b="b"/>
              <a:pathLst>
                <a:path w="638" h="405">
                  <a:moveTo>
                    <a:pt x="333" y="62"/>
                  </a:moveTo>
                  <a:cubicBezTo>
                    <a:pt x="202" y="18"/>
                    <a:pt x="265" y="20"/>
                    <a:pt x="144" y="45"/>
                  </a:cubicBezTo>
                  <a:cubicBezTo>
                    <a:pt x="127" y="56"/>
                    <a:pt x="106" y="63"/>
                    <a:pt x="93" y="79"/>
                  </a:cubicBezTo>
                  <a:cubicBezTo>
                    <a:pt x="82" y="93"/>
                    <a:pt x="85" y="115"/>
                    <a:pt x="76" y="130"/>
                  </a:cubicBezTo>
                  <a:cubicBezTo>
                    <a:pt x="67" y="144"/>
                    <a:pt x="53" y="153"/>
                    <a:pt x="41" y="165"/>
                  </a:cubicBezTo>
                  <a:cubicBezTo>
                    <a:pt x="0" y="287"/>
                    <a:pt x="9" y="363"/>
                    <a:pt x="127" y="405"/>
                  </a:cubicBezTo>
                  <a:cubicBezTo>
                    <a:pt x="230" y="399"/>
                    <a:pt x="334" y="400"/>
                    <a:pt x="436" y="387"/>
                  </a:cubicBezTo>
                  <a:cubicBezTo>
                    <a:pt x="472" y="382"/>
                    <a:pt x="539" y="353"/>
                    <a:pt x="539" y="353"/>
                  </a:cubicBezTo>
                  <a:cubicBezTo>
                    <a:pt x="580" y="291"/>
                    <a:pt x="638" y="268"/>
                    <a:pt x="590" y="182"/>
                  </a:cubicBezTo>
                  <a:cubicBezTo>
                    <a:pt x="539" y="91"/>
                    <a:pt x="535" y="128"/>
                    <a:pt x="470" y="96"/>
                  </a:cubicBezTo>
                  <a:cubicBezTo>
                    <a:pt x="452" y="87"/>
                    <a:pt x="438" y="70"/>
                    <a:pt x="419" y="62"/>
                  </a:cubicBezTo>
                  <a:cubicBezTo>
                    <a:pt x="296" y="7"/>
                    <a:pt x="303" y="0"/>
                    <a:pt x="333" y="6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28160" y="1807200"/>
              <a:ext cx="9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19600" y="2355840"/>
              <a:ext cx="9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59680" y="1807200"/>
              <a:ext cx="9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43840" y="2474640"/>
              <a:ext cx="9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6880" y="1898640"/>
              <a:ext cx="9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99760" y="2538720"/>
              <a:ext cx="9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25040" y="2307600"/>
              <a:ext cx="71640" cy="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20840" y="1173960"/>
              <a:ext cx="3006000" cy="1979280"/>
              <a:chOff x="420840" y="1173960"/>
              <a:chExt cx="3006000" cy="1979280"/>
            </a:xfrm>
          </p:grpSpPr>
          <p:sp>
            <p:nvSpPr>
              <p:cNvPr id="448" name=""/>
              <p:cNvSpPr/>
              <p:nvPr/>
            </p:nvSpPr>
            <p:spPr>
              <a:xfrm>
                <a:off x="570960" y="3061800"/>
                <a:ext cx="246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570960" y="1324440"/>
                <a:ext cx="0" cy="173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061440" y="2970360"/>
                <a:ext cx="365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000" spc="-1" strike="noStrike">
                    <a:solidFill>
                      <a:srgbClr val="000000"/>
                    </a:solidFill>
                    <a:latin typeface="Arial"/>
                  </a:rPr>
                  <a:t>IGH-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20840" y="1173960"/>
                <a:ext cx="365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000" spc="-1" strike="noStrike">
                    <a:solidFill>
                      <a:srgbClr val="000000"/>
                    </a:solidFill>
                    <a:latin typeface="Arial"/>
                  </a:rPr>
                  <a:t>IGH-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662120" y="234180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70600" y="234180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4594320" y="1416240"/>
              <a:ext cx="1737000" cy="731520"/>
              <a:chOff x="4594320" y="1416240"/>
              <a:chExt cx="1737000" cy="73152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4594320" y="1416240"/>
                <a:ext cx="1737000" cy="182880"/>
                <a:chOff x="4594320" y="1416240"/>
                <a:chExt cx="1737000" cy="1828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4594320" y="1416240"/>
                  <a:ext cx="1737000" cy="182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000" spc="-1" strike="noStrike">
                      <a:solidFill>
                        <a:srgbClr val="000000"/>
                      </a:solidFill>
                      <a:latin typeface="Arial"/>
                    </a:rPr>
                    <a:t>11112222333444445555556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457240" y="1416240"/>
                  <a:ext cx="91080" cy="182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594320" y="1690560"/>
                <a:ext cx="1737000" cy="182880"/>
                <a:chOff x="4594320" y="1690560"/>
                <a:chExt cx="1737000" cy="1828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94320" y="1690560"/>
                  <a:ext cx="1737000" cy="182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457240" y="1690560"/>
                  <a:ext cx="91080" cy="182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4594320" y="1964880"/>
                <a:ext cx="1737000" cy="182880"/>
                <a:chOff x="4594320" y="1964880"/>
                <a:chExt cx="1737000" cy="18288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4594320" y="1964880"/>
                  <a:ext cx="1737000" cy="182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457240" y="1964880"/>
                  <a:ext cx="91080" cy="182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" name=""/>
            <p:cNvGrpSpPr/>
            <p:nvPr/>
          </p:nvGrpSpPr>
          <p:grpSpPr>
            <a:xfrm>
              <a:off x="4594320" y="2513520"/>
              <a:ext cx="1737000" cy="457200"/>
              <a:chOff x="4594320" y="2513520"/>
              <a:chExt cx="1737000" cy="4572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4594320" y="2513520"/>
                <a:ext cx="1737000" cy="182880"/>
                <a:chOff x="4594320" y="2513520"/>
                <a:chExt cx="1737000" cy="182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594320" y="2513520"/>
                  <a:ext cx="1737000" cy="182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457240" y="2513520"/>
                  <a:ext cx="91080" cy="182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4594320" y="2787840"/>
                <a:ext cx="1737000" cy="182880"/>
                <a:chOff x="4594320" y="2787840"/>
                <a:chExt cx="1737000" cy="1828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594320" y="2787840"/>
                  <a:ext cx="1737000" cy="182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57240" y="2787840"/>
                  <a:ext cx="91080" cy="182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1" name=""/>
            <p:cNvSpPr/>
            <p:nvPr/>
          </p:nvSpPr>
          <p:spPr>
            <a:xfrm>
              <a:off x="2953440" y="1475280"/>
              <a:ext cx="76572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</a:rPr>
                <a:t>STEP 1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BE" sz="1000" spc="-1" strike="noStrike">
                  <a:solidFill>
                    <a:srgbClr val="000000"/>
                  </a:solidFill>
                  <a:latin typeface="Arial"/>
                </a:rPr>
                <a:t>Ex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04840" y="1744200"/>
              <a:ext cx="86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19120" y="219060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11040" y="1324800"/>
              <a:ext cx="15541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BE" sz="1000" spc="-1" strike="noStrike">
                  <a:solidFill>
                    <a:srgbClr val="000000"/>
                  </a:solidFill>
                  <a:latin typeface="Arial"/>
                </a:rPr>
                <a:t>Country-ID Ra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51120" y="2696400"/>
              <a:ext cx="36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0=s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0960" y="3336480"/>
              <a:ext cx="5760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36720" y="3519360"/>
              <a:ext cx="228564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BE" sz="1000" spc="-1" strike="noStrike">
                  <a:solidFill>
                    <a:srgbClr val="000000"/>
                  </a:solidFill>
                  <a:latin typeface="Arial"/>
                </a:rPr>
                <a:t>SPOT4-VGT Decadal Synthe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- 11 HDF image lay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- 16 bytes/pix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- LOG-File (geo-referencin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60080" y="3610800"/>
              <a:ext cx="10969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Pixel Lon/L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60080" y="4207680"/>
              <a:ext cx="10969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Col/Rec in HD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08720" y="3148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08720" y="383112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99760" y="3966840"/>
              <a:ext cx="29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00160" y="3885120"/>
              <a:ext cx="1005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000" spc="-1" strike="noStrike">
                  <a:solidFill>
                    <a:srgbClr val="000000"/>
                  </a:solidFill>
                  <a:latin typeface="Arial"/>
                </a:rPr>
                <a:t>Conve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0960" y="7671600"/>
              <a:ext cx="5760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965040" y="6171120"/>
              <a:ext cx="2365920" cy="1371600"/>
              <a:chOff x="3965040" y="6171120"/>
              <a:chExt cx="2365920" cy="1371600"/>
            </a:xfrm>
          </p:grpSpPr>
          <p:sp>
            <p:nvSpPr>
              <p:cNvPr id="486" name=""/>
              <p:cNvSpPr/>
              <p:nvPr/>
            </p:nvSpPr>
            <p:spPr>
              <a:xfrm>
                <a:off x="3965040" y="6171120"/>
                <a:ext cx="63972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noAutofit/>
              </a:bodyPr>
              <a:p>
                <a:pPr>
                  <a:lnSpc>
                    <a:spcPct val="13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000" spc="-1" strike="noStrike">
                    <a:solidFill>
                      <a:srgbClr val="000000"/>
                    </a:solidFill>
                    <a:latin typeface="Arial"/>
                  </a:rPr>
                  <a:t>PI_R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000" spc="-1" strike="noStrike">
                    <a:solidFill>
                      <a:srgbClr val="000000"/>
                    </a:solidFill>
                    <a:latin typeface="Arial"/>
                  </a:rPr>
                  <a:t>PI_N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000" spc="-1" strike="noStrike">
                    <a:solidFill>
                      <a:srgbClr val="000000"/>
                    </a:solidFill>
                    <a:latin typeface="Arial"/>
                  </a:rPr>
                  <a:t>PI_SW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000" spc="-1" strike="noStrike">
                    <a:solidFill>
                      <a:srgbClr val="000000"/>
                    </a:solidFill>
                    <a:latin typeface="Arial"/>
                  </a:rPr>
                  <a:t>PI_THE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000" spc="-1" strike="noStrike">
                    <a:solidFill>
                      <a:srgbClr val="000000"/>
                    </a:solidFill>
                    <a:latin typeface="Arial"/>
                  </a:rPr>
                  <a:t>PI_AZI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000" spc="-1" strike="noStrike">
                    <a:solidFill>
                      <a:srgbClr val="000000"/>
                    </a:solidFill>
                    <a:latin typeface="Arial"/>
                  </a:rPr>
                  <a:t>PI_MA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93960" y="6181920"/>
                <a:ext cx="1737000" cy="1312560"/>
                <a:chOff x="4593960" y="6181920"/>
                <a:chExt cx="1737000" cy="131256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4593960" y="6181920"/>
                  <a:ext cx="1737000" cy="182880"/>
                  <a:chOff x="4593960" y="6181920"/>
                  <a:chExt cx="1737000" cy="18288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4593960" y="6181920"/>
                    <a:ext cx="173700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0800" bIns="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456880" y="6181920"/>
                    <a:ext cx="9108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4593960" y="6402240"/>
                  <a:ext cx="1737000" cy="182880"/>
                  <a:chOff x="4593960" y="6402240"/>
                  <a:chExt cx="1737000" cy="18288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4593960" y="6402240"/>
                    <a:ext cx="173700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0800" bIns="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456880" y="6402240"/>
                    <a:ext cx="9108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4593960" y="6628320"/>
                  <a:ext cx="1737000" cy="182880"/>
                  <a:chOff x="4593960" y="6628320"/>
                  <a:chExt cx="1737000" cy="1828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4593960" y="6628320"/>
                    <a:ext cx="173700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0800" bIns="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456880" y="6628320"/>
                    <a:ext cx="9108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4593960" y="6854400"/>
                  <a:ext cx="1737000" cy="182880"/>
                  <a:chOff x="4593960" y="6854400"/>
                  <a:chExt cx="1737000" cy="18288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4593960" y="6854400"/>
                    <a:ext cx="173700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0800" bIns="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456880" y="6854400"/>
                    <a:ext cx="9108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4593960" y="7085520"/>
                  <a:ext cx="1737000" cy="182880"/>
                  <a:chOff x="4593960" y="7085520"/>
                  <a:chExt cx="1737000" cy="18288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4593960" y="7085520"/>
                    <a:ext cx="173700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0800" bIns="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456880" y="7085520"/>
                    <a:ext cx="9108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4593960" y="7311600"/>
                  <a:ext cx="1737000" cy="182880"/>
                  <a:chOff x="4593960" y="7311600"/>
                  <a:chExt cx="1737000" cy="18288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4593960" y="7311600"/>
                    <a:ext cx="173700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56880" y="7311600"/>
                    <a:ext cx="91080" cy="182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06" name=""/>
            <p:cNvSpPr/>
            <p:nvPr/>
          </p:nvSpPr>
          <p:spPr>
            <a:xfrm>
              <a:off x="4960080" y="4890960"/>
              <a:ext cx="10969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11 Input-Val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60080" y="5498640"/>
              <a:ext cx="10969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6 Output-Val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08720" y="44229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00160" y="4525200"/>
              <a:ext cx="1005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000" spc="-1" strike="noStrike">
                  <a:solidFill>
                    <a:srgbClr val="000000"/>
                  </a:solidFill>
                  <a:latin typeface="Arial"/>
                </a:rPr>
                <a:t>Read HDF'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00160" y="5191920"/>
              <a:ext cx="1005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0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08720" y="510624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00160" y="5805360"/>
              <a:ext cx="1005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08720" y="5713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59680" y="6628320"/>
              <a:ext cx="1919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BE" sz="1000" spc="-1" strike="noStrike">
                  <a:solidFill>
                    <a:srgbClr val="000000"/>
                  </a:solidFill>
                  <a:latin typeface="Arial"/>
                </a:rPr>
                <a:t>Output Pseudo-Ima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- 6 per decadal synthe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- 6 bytes/pix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- Repeat for 36 syntheses/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nl-BE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36 x 6 = 216 pseudo-ima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90720" y="4584240"/>
              <a:ext cx="164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1689480" y="4584240"/>
              <a:ext cx="2011320" cy="73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38920" y="8156160"/>
              <a:ext cx="2196360" cy="64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 All in PI-form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- Time series analy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 Elimination of clou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000000"/>
                  </a:solidFill>
                  <a:latin typeface="Arial"/>
                </a:rPr>
                <a:t>- Extraction of phenological variab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43160" y="7563240"/>
              <a:ext cx="0" cy="54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39840" y="4112280"/>
              <a:ext cx="17370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STE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BE" sz="1000" spc="-1" strike="noStrike">
                  <a:solidFill>
                    <a:srgbClr val="000000"/>
                  </a:solidFill>
                  <a:latin typeface="Arial"/>
                </a:rPr>
                <a:t>Transversal Re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97680" y="7662600"/>
              <a:ext cx="2559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EP 3     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ongitudinal Analy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1680" y="8156160"/>
              <a:ext cx="2195640" cy="64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- Normal Image Form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- IGH-Proj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- Limited number of final Ima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0000"/>
                  </a:solidFill>
                  <a:latin typeface="Arial"/>
                </a:rPr>
                <a:t>- Limited disk sp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61920" y="8206920"/>
              <a:ext cx="11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</a:rPr>
                <a:t>STEP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000" spc="-1" strike="noStrike">
                  <a:solidFill>
                    <a:srgbClr val="000000"/>
                  </a:solidFill>
                  <a:latin typeface="Arial"/>
                </a:rPr>
                <a:t>Reconver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820600" y="8433720"/>
              <a:ext cx="10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04:11:11Z</dcterms:created>
  <dc:creator>X</dc:creator>
  <dc:description/>
  <dc:language>en-US</dc:language>
  <cp:lastModifiedBy>etienne</cp:lastModifiedBy>
  <cp:lastPrinted>2001-03-26T14:00:20Z</cp:lastPrinted>
  <dcterms:modified xsi:type="dcterms:W3CDTF">2001-05-07T13:16:26Z</dcterms:modified>
  <cp:revision>17</cp:revision>
  <dc:subject/>
  <dc:title>No Slide Title</dc:title>
</cp:coreProperties>
</file>