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24.png" ContentType="image/png"/>
  <Override PartName="/ppt/media/image11.jpeg" ContentType="image/jpe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26.png" ContentType="image/png"/>
  <Override PartName="/ppt/media/image9.jpeg" ContentType="image/jpeg"/>
  <Override PartName="/ppt/media/image12.wmf" ContentType="image/x-wmf"/>
  <Override PartName="/ppt/media/image30.wmf" ContentType="image/x-wmf"/>
  <Override PartName="/ppt/media/image27.png" ContentType="image/png"/>
  <Override PartName="/ppt/media/image28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29.png" ContentType="image/pn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56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972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86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972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86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228600"/>
            <a:ext cx="80773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56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708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 rot="10800000">
            <a:off x="225000" y="1141560"/>
            <a:ext cx="472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 Narrow"/>
              </a:rPr>
              <a:t>Has EO found its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1066680" cy="5257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rot="10800000">
            <a:off x="379440" y="1371240"/>
            <a:ext cx="5493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AI_Logo" descr=""/>
          <p:cNvPicPr/>
          <p:nvPr/>
        </p:nvPicPr>
        <p:blipFill>
          <a:blip r:embed="rId5"/>
          <a:stretch/>
        </p:blipFill>
        <p:spPr>
          <a:xfrm>
            <a:off x="0" y="0"/>
            <a:ext cx="1109520" cy="998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4114800" y="632448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Global Vegetation Monitoring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3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838080"/>
            <a:ext cx="796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of arid regions in N. Africa, middle East and Southeast Asia using VGT S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CC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525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99240" y="138096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hael Cher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849320" y="1590840"/>
            <a:ext cx="6045480" cy="3500280"/>
            <a:chOff x="1849320" y="1590840"/>
            <a:chExt cx="6045480" cy="3500280"/>
          </a:xfrm>
        </p:grpSpPr>
        <p:grpSp>
          <p:nvGrpSpPr>
            <p:cNvPr id="110" name=""/>
            <p:cNvGrpSpPr/>
            <p:nvPr/>
          </p:nvGrpSpPr>
          <p:grpSpPr>
            <a:xfrm>
              <a:off x="1849320" y="1590840"/>
              <a:ext cx="6045480" cy="3500280"/>
              <a:chOff x="1849320" y="1590840"/>
              <a:chExt cx="6045480" cy="3500280"/>
            </a:xfrm>
          </p:grpSpPr>
          <p:graphicFrame>
            <p:nvGraphicFramePr>
              <p:cNvPr id="111" name=""/>
              <p:cNvGraphicFramePr/>
              <p:nvPr/>
            </p:nvGraphicFramePr>
            <p:xfrm>
              <a:off x="1849320" y="1590840"/>
              <a:ext cx="6045480" cy="35002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49320" y="1590840"/>
                        <a:ext cx="6045480" cy="3500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3" name=""/>
              <p:cNvSpPr/>
              <p:nvPr/>
            </p:nvSpPr>
            <p:spPr>
              <a:xfrm>
                <a:off x="2095200" y="2617920"/>
                <a:ext cx="298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63680" y="2568600"/>
                <a:ext cx="335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3680" y="2165760"/>
                <a:ext cx="335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16680" y="2280960"/>
                <a:ext cx="384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04960" y="2330280"/>
                <a:ext cx="330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68760" y="2783520"/>
                <a:ext cx="2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11040" y="2306880"/>
                <a:ext cx="33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77080" y="2511000"/>
                <a:ext cx="336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20440" y="3119040"/>
                <a:ext cx="297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49960" y="2428920"/>
                <a:ext cx="40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43000" y="2437200"/>
                <a:ext cx="315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64120" y="2445120"/>
                <a:ext cx="2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492440" y="3135600"/>
                <a:ext cx="217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05640" y="2469600"/>
                <a:ext cx="304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8400" y="2322000"/>
                <a:ext cx="34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49320" y="2445120"/>
                <a:ext cx="33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40920" y="2437200"/>
                <a:ext cx="21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43680" y="2338560"/>
                <a:ext cx="215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64360" y="2445120"/>
                <a:ext cx="33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23200" y="2306880"/>
                <a:ext cx="35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74560" y="2437200"/>
                <a:ext cx="2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58160" y="2609640"/>
                <a:ext cx="21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14040" y="2280960"/>
                <a:ext cx="40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447280" y="4536360"/>
              <a:ext cx="107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Back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22920" y="454860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Forew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198520" y="2577960"/>
            <a:ext cx="5050080" cy="158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53480" y="2436840"/>
            <a:ext cx="687240" cy="307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ND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01560" y="5427720"/>
            <a:ext cx="610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general, but locally of import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reases confusion of e.g. sandstone outcrops and vege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19600" y="1541520"/>
            <a:ext cx="7860240" cy="4110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POT VGT S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longer composites based on MVC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atmospheric, aerosol or clouds contamination is limited over arid are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(no persist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DF effect which is probably ‘enhanced’ in relation to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opogra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ctral behaviour related t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lithology and geolo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colo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confusion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between low cover vegetation and sandy soils/sand-ston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92240" y="3687840"/>
            <a:ext cx="6721560" cy="987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46160" y="1300320"/>
            <a:ext cx="8056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ing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yearly composi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DVI image  Max, Min, amplitude + statistics (st. dev…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(cloudmask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DWI image Max, Mean, Min, amplitude +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(#methods tested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imum B0, B2, B3, 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erentiation of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different zones/masks using Max NDVI threshold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~ cover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3280" y="485640"/>
            <a:ext cx="2135880" cy="52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Approach still 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methods tri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60680" y="579600"/>
            <a:ext cx="5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036800" y="57117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25520" y="2849400"/>
            <a:ext cx="5443560" cy="3350160"/>
            <a:chOff x="1325520" y="2849400"/>
            <a:chExt cx="5443560" cy="3350160"/>
          </a:xfrm>
        </p:grpSpPr>
        <p:graphicFrame>
          <p:nvGraphicFramePr>
            <p:cNvPr id="149" name=""/>
            <p:cNvGraphicFramePr/>
            <p:nvPr/>
          </p:nvGraphicFramePr>
          <p:xfrm>
            <a:off x="1325520" y="2849400"/>
            <a:ext cx="5362560" cy="3276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5520" y="2849400"/>
                      <a:ext cx="5362560" cy="32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164200" y="5923080"/>
              <a:ext cx="1604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DVI 0.786 = 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764320" y="5655960"/>
              <a:ext cx="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591080" y="2403360"/>
            <a:ext cx="4440240" cy="3219480"/>
            <a:chOff x="4591080" y="2403360"/>
            <a:chExt cx="4440240" cy="3219480"/>
          </a:xfrm>
        </p:grpSpPr>
        <p:graphicFrame>
          <p:nvGraphicFramePr>
            <p:cNvPr id="154" name=""/>
            <p:cNvGraphicFramePr/>
            <p:nvPr/>
          </p:nvGraphicFramePr>
          <p:xfrm>
            <a:off x="4591080" y="2403360"/>
            <a:ext cx="4440240" cy="32194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91080" y="2403360"/>
                      <a:ext cx="4440240" cy="321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 flipV="1">
              <a:off x="6657840" y="4222440"/>
              <a:ext cx="0" cy="6937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16680" y="4056120"/>
              <a:ext cx="11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Arial"/>
                </a:rPr>
                <a:t>0.36 =~ 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964120" y="452232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70600" y="465948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57360" y="5605560"/>
            <a:ext cx="202176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sor sensitivity: 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98360" y="3616200"/>
            <a:ext cx="7890480" cy="265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non-supervised classification (isoclass) within masks using yearly derived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grouping of ‘non-vegetation’ vs ‘vegetation’ cla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re-iterate isoclass and regrouping (min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ubjective interpretation of all available data and field 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final grouping of  all ‘non-vegetation’ and ‘vegetation’ mas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differentiation 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.   physical features using isoclass on bands and regroup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in ‘non-vegetation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ifferent ‘life forms’ within ‘vegetation’ p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using NDVI time series statistics and ancillar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2000-maxVI-slicing" descr=""/>
          <p:cNvPicPr/>
          <p:nvPr/>
        </p:nvPicPr>
        <p:blipFill>
          <a:blip r:embed="rId1"/>
          <a:stretch/>
        </p:blipFill>
        <p:spPr>
          <a:xfrm>
            <a:off x="1224000" y="312840"/>
            <a:ext cx="75834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mbined%20veg%20masks-overview-rec%20area" descr=""/>
          <p:cNvPicPr/>
          <p:nvPr/>
        </p:nvPicPr>
        <p:blipFill>
          <a:blip r:embed="rId1"/>
          <a:stretch/>
        </p:blipFill>
        <p:spPr>
          <a:xfrm>
            <a:off x="1047600" y="0"/>
            <a:ext cx="8096400" cy="313848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584360" y="1941480"/>
            <a:ext cx="7559640" cy="4916520"/>
            <a:chOff x="1584360" y="1941480"/>
            <a:chExt cx="7559640" cy="4916520"/>
          </a:xfrm>
        </p:grpSpPr>
        <p:sp>
          <p:nvSpPr>
            <p:cNvPr id="165" name=""/>
            <p:cNvSpPr/>
            <p:nvPr/>
          </p:nvSpPr>
          <p:spPr>
            <a:xfrm>
              <a:off x="2513160" y="1941480"/>
              <a:ext cx="982440" cy="6336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combined%20veg%20masks-2x" descr=""/>
            <p:cNvPicPr/>
            <p:nvPr/>
          </p:nvPicPr>
          <p:blipFill>
            <a:blip r:embed="rId2"/>
            <a:stretch/>
          </p:blipFill>
          <p:spPr>
            <a:xfrm>
              <a:off x="1584360" y="2692440"/>
              <a:ext cx="7559640" cy="41655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67" name=""/>
            <p:cNvSpPr/>
            <p:nvPr/>
          </p:nvSpPr>
          <p:spPr>
            <a:xfrm flipH="1">
              <a:off x="1703160" y="1979640"/>
              <a:ext cx="757080" cy="60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70120" y="1995480"/>
              <a:ext cx="2916360" cy="547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663720" y="2554200"/>
            <a:ext cx="549180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nge:    3 - 6 % cover (GP length?)  &gt; LCCS: sparse herbac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parse%20herbeceous2" descr=""/>
          <p:cNvPicPr/>
          <p:nvPr/>
        </p:nvPicPr>
        <p:blipFill>
          <a:blip r:embed="rId3"/>
          <a:stretch/>
        </p:blipFill>
        <p:spPr>
          <a:xfrm>
            <a:off x="5749920" y="2867040"/>
            <a:ext cx="3295800" cy="876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667680" y="2879640"/>
            <a:ext cx="49233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quam:   6 - 10 % cover (GP length?)  &gt; LCCS: herbac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sparse-open%20herbeceous2" descr=""/>
          <p:cNvPicPr/>
          <p:nvPr/>
        </p:nvPicPr>
        <p:blipFill>
          <a:blip r:embed="rId4"/>
          <a:stretch/>
        </p:blipFill>
        <p:spPr>
          <a:xfrm>
            <a:off x="5346720" y="3189240"/>
            <a:ext cx="3686040" cy="914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671640" y="3189240"/>
            <a:ext cx="3929760" cy="307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1: 10 - 20 % cover (GP length?)  &gt; LC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71640" y="3506760"/>
            <a:ext cx="3929760" cy="3070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2: 20 - 40 % cover (GP length?)  &gt; LC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022480" y="4041720"/>
            <a:ext cx="6118200" cy="2644920"/>
            <a:chOff x="2022480" y="4041720"/>
            <a:chExt cx="6118200" cy="2644920"/>
          </a:xfrm>
        </p:grpSpPr>
        <p:sp>
          <p:nvSpPr>
            <p:cNvPr id="176" name=""/>
            <p:cNvSpPr/>
            <p:nvPr/>
          </p:nvSpPr>
          <p:spPr>
            <a:xfrm>
              <a:off x="2650680" y="404172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G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IGBP-AIR" descr=""/>
            <p:cNvPicPr/>
            <p:nvPr/>
          </p:nvPicPr>
          <p:blipFill>
            <a:blip r:embed="rId5"/>
            <a:stretch/>
          </p:blipFill>
          <p:spPr>
            <a:xfrm>
              <a:off x="2022480" y="4111560"/>
              <a:ext cx="2892600" cy="2575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78" name=""/>
            <p:cNvSpPr/>
            <p:nvPr/>
          </p:nvSpPr>
          <p:spPr>
            <a:xfrm>
              <a:off x="5786280" y="4213080"/>
              <a:ext cx="2354400" cy="227664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5003280" y="4221000"/>
              <a:ext cx="682920" cy="54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025600" y="6473880"/>
              <a:ext cx="66060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70320" y="4748040"/>
              <a:ext cx="20952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89800" y="4591080"/>
              <a:ext cx="201600" cy="1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79000" y="407340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G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460680" y="579600"/>
            <a:ext cx="5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hys-stratif" descr=""/>
          <p:cNvPicPr/>
          <p:nvPr/>
        </p:nvPicPr>
        <p:blipFill>
          <a:blip r:embed="rId1"/>
          <a:stretch/>
        </p:blipFill>
        <p:spPr>
          <a:xfrm>
            <a:off x="1074600" y="2430360"/>
            <a:ext cx="8069400" cy="2895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54080" y="1046160"/>
            <a:ext cx="8043840" cy="4203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producing yearly composit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DVI image  Max, Min, amplitude + statistics (st.dev…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DWI image Max, Mean, Min, amplitude +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 B0, B2, B3, M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stratification of land-units based on classification of band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soclass and re-group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non-supervised classification (isoclass) within landunits using yearly derived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grouping of ‘non-vegetation’ vs ‘vegetation’ cla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nd re-iterate isoclass and regrouping (min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ased on subjective interpretation of all available data and field 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final grouping of  all ‘non-vegetation’ and ‘vegetation’ mas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differentiation of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hysical features using isoclass on bands and regroup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ithin ‘non-vegetation’,  = optimizing first stra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fferent ‘life forms’ within ‘vegetation’ pa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NDVI time series statistics and ancillar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3080" y="5915160"/>
            <a:ext cx="406224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to attach further info to vegetation class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ccs-surface" descr=""/>
          <p:cNvPicPr/>
          <p:nvPr/>
        </p:nvPicPr>
        <p:blipFill>
          <a:blip r:embed="rId2"/>
          <a:stretch/>
        </p:blipFill>
        <p:spPr>
          <a:xfrm>
            <a:off x="5124600" y="4962600"/>
            <a:ext cx="4019400" cy="124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82800" y="2128680"/>
            <a:ext cx="8161200" cy="4081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1080" y="1050840"/>
            <a:ext cx="706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ation of ‘vegetation’ character of individual pixe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detection of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ignificant </a:t>
            </a:r>
            <a:r>
              <a:rPr b="1" lang="en-US" sz="1600" spc="-1" strike="noStrike" u="sng">
                <a:solidFill>
                  <a:srgbClr val="009900"/>
                </a:solidFill>
                <a:uFillTx/>
                <a:latin typeface="Arial"/>
              </a:rPr>
              <a:t>NDVI chan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uring year 2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paration of ‘background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’ from ‘signal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ing long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0960"/>
                <a:tab algn="l" pos="574560"/>
                <a:tab algn="l" pos="858960"/>
                <a:tab algn="l" pos="1998720"/>
                <a:tab algn="l" pos="2093760"/>
                <a:tab algn="l" pos="2187720"/>
                <a:tab algn="l" pos="3046320"/>
                <a:tab algn="l" pos="3432240"/>
                <a:tab algn="l" pos="4092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series to establish ‘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 level per pixel (*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60680" y="579600"/>
            <a:ext cx="5400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24360" y="2954160"/>
          <a:ext cx="6107040" cy="27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360" y="2954160"/>
                    <a:ext cx="610704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3390840" y="3808440"/>
            <a:ext cx="5619600" cy="331560"/>
            <a:chOff x="3390840" y="3808440"/>
            <a:chExt cx="5619600" cy="331560"/>
          </a:xfrm>
        </p:grpSpPr>
        <p:sp>
          <p:nvSpPr>
            <p:cNvPr id="195" name=""/>
            <p:cNvSpPr/>
            <p:nvPr/>
          </p:nvSpPr>
          <p:spPr>
            <a:xfrm>
              <a:off x="3390840" y="4140000"/>
              <a:ext cx="5619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93480" y="3808440"/>
              <a:ext cx="199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st average - weight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523960" y="4159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390840" y="4435560"/>
            <a:ext cx="5619600" cy="114120"/>
            <a:chOff x="3390840" y="4435560"/>
            <a:chExt cx="5619600" cy="114120"/>
          </a:xfrm>
        </p:grpSpPr>
        <p:sp>
          <p:nvSpPr>
            <p:cNvPr id="199" name=""/>
            <p:cNvSpPr/>
            <p:nvPr/>
          </p:nvSpPr>
          <p:spPr>
            <a:xfrm>
              <a:off x="3390840" y="4549680"/>
              <a:ext cx="56196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820000" y="4454280"/>
              <a:ext cx="0" cy="6660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48480" y="4492440"/>
              <a:ext cx="0" cy="4716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14840" y="4435560"/>
              <a:ext cx="9360" cy="9504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947960" y="2644920"/>
            <a:ext cx="1395360" cy="3219480"/>
            <a:chOff x="1947960" y="2644920"/>
            <a:chExt cx="1395360" cy="3219480"/>
          </a:xfrm>
        </p:grpSpPr>
        <p:sp>
          <p:nvSpPr>
            <p:cNvPr id="204" name=""/>
            <p:cNvSpPr/>
            <p:nvPr/>
          </p:nvSpPr>
          <p:spPr>
            <a:xfrm>
              <a:off x="1962000" y="4416480"/>
              <a:ext cx="13813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47960" y="3530880"/>
              <a:ext cx="471240" cy="1552680"/>
            </a:xfrm>
            <a:custGeom>
              <a:avLst/>
              <a:gdLst/>
              <a:ahLst/>
              <a:rect l="l" t="t" r="r" b="b"/>
              <a:pathLst>
                <a:path w="297" h="978">
                  <a:moveTo>
                    <a:pt x="297" y="0"/>
                  </a:moveTo>
                  <a:cubicBezTo>
                    <a:pt x="280" y="71"/>
                    <a:pt x="263" y="142"/>
                    <a:pt x="225" y="204"/>
                  </a:cubicBezTo>
                  <a:cubicBezTo>
                    <a:pt x="187" y="266"/>
                    <a:pt x="105" y="314"/>
                    <a:pt x="69" y="372"/>
                  </a:cubicBezTo>
                  <a:cubicBezTo>
                    <a:pt x="33" y="430"/>
                    <a:pt x="18" y="451"/>
                    <a:pt x="9" y="552"/>
                  </a:cubicBezTo>
                  <a:cubicBezTo>
                    <a:pt x="0" y="653"/>
                    <a:pt x="7" y="815"/>
                    <a:pt x="15" y="978"/>
                  </a:cubicBezTo>
                </a:path>
              </a:pathLst>
            </a:custGeom>
            <a:noFill/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00160" y="5150160"/>
              <a:ext cx="45720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438280" y="2644920"/>
              <a:ext cx="381240" cy="81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997920" y="2712960"/>
            <a:ext cx="2364480" cy="1926360"/>
            <a:chOff x="997920" y="2712960"/>
            <a:chExt cx="2364480" cy="1926360"/>
          </a:xfrm>
        </p:grpSpPr>
        <p:sp>
          <p:nvSpPr>
            <p:cNvPr id="209" name=""/>
            <p:cNvSpPr/>
            <p:nvPr/>
          </p:nvSpPr>
          <p:spPr>
            <a:xfrm>
              <a:off x="1571400" y="4549680"/>
              <a:ext cx="1791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39640" y="4406760"/>
              <a:ext cx="74880" cy="142920"/>
            </a:xfrm>
            <a:custGeom>
              <a:avLst/>
              <a:gdLst>
                <a:gd name="textAreaLeft" fmla="*/ 47880 w 74880"/>
                <a:gd name="textAreaRight" fmla="*/ 75240 w 74880"/>
                <a:gd name="textAreaTop" fmla="*/ 3600 h 142920"/>
                <a:gd name="textAreaBottom" fmla="*/ 13932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7920" y="27129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fference 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an1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process sto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76480" y="43322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585080" y="2135160"/>
            <a:ext cx="7423920" cy="4066200"/>
            <a:chOff x="1585080" y="2135160"/>
            <a:chExt cx="7423920" cy="4066200"/>
          </a:xfrm>
        </p:grpSpPr>
        <p:sp>
          <p:nvSpPr>
            <p:cNvPr id="214" name=""/>
            <p:cNvSpPr/>
            <p:nvPr/>
          </p:nvSpPr>
          <p:spPr>
            <a:xfrm flipH="1">
              <a:off x="2453760" y="4140000"/>
              <a:ext cx="82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30360" y="3263760"/>
              <a:ext cx="470880" cy="1552680"/>
            </a:xfrm>
            <a:custGeom>
              <a:avLst/>
              <a:gdLst/>
              <a:ahLst/>
              <a:rect l="l" t="t" r="r" b="b"/>
              <a:pathLst>
                <a:path w="297" h="978">
                  <a:moveTo>
                    <a:pt x="297" y="0"/>
                  </a:moveTo>
                  <a:cubicBezTo>
                    <a:pt x="280" y="71"/>
                    <a:pt x="263" y="142"/>
                    <a:pt x="225" y="204"/>
                  </a:cubicBezTo>
                  <a:cubicBezTo>
                    <a:pt x="187" y="266"/>
                    <a:pt x="105" y="314"/>
                    <a:pt x="69" y="372"/>
                  </a:cubicBezTo>
                  <a:cubicBezTo>
                    <a:pt x="33" y="430"/>
                    <a:pt x="18" y="451"/>
                    <a:pt x="9" y="552"/>
                  </a:cubicBezTo>
                  <a:cubicBezTo>
                    <a:pt x="0" y="653"/>
                    <a:pt x="7" y="815"/>
                    <a:pt x="15" y="97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5080" y="2322360"/>
              <a:ext cx="516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ecreasing weight with increasing NDVI value above the m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00280" y="5894280"/>
              <a:ext cx="437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ame weight (1) for the NDVI values under the m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400" y="4902120"/>
              <a:ext cx="6660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863440" y="2644560"/>
              <a:ext cx="1047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71560" y="2135160"/>
              <a:ext cx="183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Using Gaussian den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bability func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371760" y="4159080"/>
            <a:ext cx="5619960" cy="318240"/>
            <a:chOff x="3371760" y="4159080"/>
            <a:chExt cx="5619960" cy="318240"/>
          </a:xfrm>
        </p:grpSpPr>
        <p:sp>
          <p:nvSpPr>
            <p:cNvPr id="222" name=""/>
            <p:cNvSpPr/>
            <p:nvPr/>
          </p:nvSpPr>
          <p:spPr>
            <a:xfrm>
              <a:off x="3371760" y="4416120"/>
              <a:ext cx="56199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10640" y="4159080"/>
              <a:ext cx="9360" cy="2476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638400" y="4178160"/>
              <a:ext cx="9720" cy="2476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24200" y="4168800"/>
              <a:ext cx="0" cy="23796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3200" y="4170240"/>
              <a:ext cx="21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nd average - weight=G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099080" y="6381720"/>
            <a:ext cx="35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*) in cooperation with Univ. UCL, Belg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225440" y="866880"/>
            <a:ext cx="2646360" cy="1160280"/>
            <a:chOff x="1225440" y="866880"/>
            <a:chExt cx="2646360" cy="1160280"/>
          </a:xfrm>
        </p:grpSpPr>
        <p:pic>
          <p:nvPicPr>
            <p:cNvPr id="229" name="mean-av" descr=""/>
            <p:cNvPicPr/>
            <p:nvPr/>
          </p:nvPicPr>
          <p:blipFill>
            <a:blip r:embed="rId1"/>
            <a:stretch/>
          </p:blipFill>
          <p:spPr>
            <a:xfrm>
              <a:off x="1225440" y="866880"/>
              <a:ext cx="2646360" cy="1160280"/>
            </a:xfrm>
            <a:prstGeom prst="rect">
              <a:avLst/>
            </a:prstGeom>
            <a:ln w="28440">
              <a:solidFill>
                <a:srgbClr val="009900"/>
              </a:solidFill>
              <a:miter/>
            </a:ln>
          </p:spPr>
        </p:pic>
        <p:sp>
          <p:nvSpPr>
            <p:cNvPr id="230" name=""/>
            <p:cNvSpPr/>
            <p:nvPr/>
          </p:nvSpPr>
          <p:spPr>
            <a:xfrm>
              <a:off x="1293840" y="871560"/>
              <a:ext cx="187632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mage of ME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f ‘dry’ sea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48440" y="858960"/>
            <a:ext cx="2684160" cy="1171440"/>
            <a:chOff x="5248440" y="858960"/>
            <a:chExt cx="2684160" cy="1171440"/>
          </a:xfrm>
        </p:grpSpPr>
        <p:pic>
          <p:nvPicPr>
            <p:cNvPr id="232" name="stadev-av" descr=""/>
            <p:cNvPicPr/>
            <p:nvPr/>
          </p:nvPicPr>
          <p:blipFill>
            <a:blip r:embed="rId2"/>
            <a:stretch/>
          </p:blipFill>
          <p:spPr>
            <a:xfrm>
              <a:off x="5248440" y="858960"/>
              <a:ext cx="2684160" cy="1171440"/>
            </a:xfrm>
            <a:prstGeom prst="rect">
              <a:avLst/>
            </a:prstGeom>
            <a:ln w="38160">
              <a:solidFill>
                <a:srgbClr val="ffcc99"/>
              </a:solidFill>
              <a:miter/>
            </a:ln>
          </p:spPr>
        </p:pic>
        <p:sp>
          <p:nvSpPr>
            <p:cNvPr id="233" name=""/>
            <p:cNvSpPr/>
            <p:nvPr/>
          </p:nvSpPr>
          <p:spPr>
            <a:xfrm>
              <a:off x="5713200" y="871560"/>
              <a:ext cx="187632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mage of STAND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V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of dry sea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560760" y="2271600"/>
            <a:ext cx="1876320" cy="1095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Pixel FLAG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NDVI &gt; Mean + nS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63960" y="3096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 of the iterative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79880" y="2033640"/>
            <a:ext cx="542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284800" y="2023920"/>
            <a:ext cx="419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04840" y="3413160"/>
            <a:ext cx="3452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lects a status of CHANGE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able’ vegetation co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ed to its “dry season”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whatever that is .... Soil or vegetation....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411800" y="3506760"/>
          <a:ext cx="4619520" cy="2803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1800" y="3506760"/>
                    <a:ext cx="46195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099080" y="6381720"/>
            <a:ext cx="35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*) in cooperation with Univ. UCL, Belg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197240" y="3603600"/>
          <a:ext cx="4838760" cy="2619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7240" y="3603600"/>
                    <a:ext cx="48387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6388200" y="4770360"/>
            <a:ext cx="1363680" cy="417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136520" y="1030320"/>
          <a:ext cx="78454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030320"/>
                    <a:ext cx="78454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6876360" y="326556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Avg + 2*ST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GPDFvegx2.-maskjpg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3952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792880" y="5532480"/>
            <a:ext cx="5382000" cy="58068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f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used as base “probable vegetation” - non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25240" y="304920"/>
            <a:ext cx="3623400" cy="337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mask …… and spatial m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838080"/>
            <a:ext cx="796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of arid regions in N. Africa, middle East and Southeast Asia using VGT S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CC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5258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60200" y="1720800"/>
            <a:ext cx="4113360" cy="4600800"/>
            <a:chOff x="160200" y="1720800"/>
            <a:chExt cx="4113360" cy="4600800"/>
          </a:xfrm>
        </p:grpSpPr>
        <p:sp>
          <p:nvSpPr>
            <p:cNvPr id="53" name=""/>
            <p:cNvSpPr/>
            <p:nvPr/>
          </p:nvSpPr>
          <p:spPr>
            <a:xfrm>
              <a:off x="3954600" y="3878280"/>
              <a:ext cx="318960" cy="301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jebelUweinat" descr=""/>
            <p:cNvPicPr/>
            <p:nvPr/>
          </p:nvPicPr>
          <p:blipFill>
            <a:blip r:embed="rId2"/>
            <a:stretch/>
          </p:blipFill>
          <p:spPr>
            <a:xfrm>
              <a:off x="160200" y="1720800"/>
              <a:ext cx="3295800" cy="46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 flipV="1">
              <a:off x="3603600" y="2522160"/>
              <a:ext cx="642960" cy="12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621240" y="4290840"/>
              <a:ext cx="582480" cy="163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keith-uweinx2" descr=""/>
          <p:cNvPicPr/>
          <p:nvPr/>
        </p:nvPicPr>
        <p:blipFill>
          <a:blip r:embed="rId3"/>
          <a:stretch/>
        </p:blipFill>
        <p:spPr>
          <a:xfrm>
            <a:off x="4343400" y="2179800"/>
            <a:ext cx="4800600" cy="33051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241800" y="1247760"/>
            <a:ext cx="5902200" cy="3352680"/>
            <a:chOff x="3241800" y="1247760"/>
            <a:chExt cx="5902200" cy="3352680"/>
          </a:xfrm>
        </p:grpSpPr>
        <p:pic>
          <p:nvPicPr>
            <p:cNvPr id="59" name="keith-uweinx1" descr=""/>
            <p:cNvPicPr/>
            <p:nvPr/>
          </p:nvPicPr>
          <p:blipFill>
            <a:blip r:embed="rId4"/>
            <a:stretch/>
          </p:blipFill>
          <p:spPr>
            <a:xfrm>
              <a:off x="4343400" y="1247760"/>
              <a:ext cx="48006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flipH="1">
              <a:off x="3241800" y="1630440"/>
              <a:ext cx="10922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784520" y="2717640"/>
            <a:ext cx="7359480" cy="3600720"/>
            <a:chOff x="1784520" y="2717640"/>
            <a:chExt cx="7359480" cy="3600720"/>
          </a:xfrm>
        </p:grpSpPr>
        <p:pic>
          <p:nvPicPr>
            <p:cNvPr id="62" name="keith-uweinx3" descr=""/>
            <p:cNvPicPr/>
            <p:nvPr/>
          </p:nvPicPr>
          <p:blipFill>
            <a:blip r:embed="rId5"/>
            <a:stretch/>
          </p:blipFill>
          <p:spPr>
            <a:xfrm>
              <a:off x="4343400" y="2717640"/>
              <a:ext cx="4800600" cy="36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flipH="1" flipV="1">
              <a:off x="1784520" y="4462560"/>
              <a:ext cx="2549520" cy="12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26960" y="1873080"/>
            <a:ext cx="5792040" cy="307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5400000"/>
          </a:gra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 1 &amp; 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traightforward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eed for ‘ground’ 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u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ot very repea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till to be validated tech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ine tuning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obj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epea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‘ground’ knowledge only required in final s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838080"/>
            <a:ext cx="796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of arid regions in N. Africa, middle East and Southeast Asia using VGT S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CC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52584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35040" y="3006720"/>
            <a:ext cx="3790800" cy="3309840"/>
            <a:chOff x="635040" y="3006720"/>
            <a:chExt cx="3790800" cy="3309840"/>
          </a:xfrm>
        </p:grpSpPr>
        <p:pic>
          <p:nvPicPr>
            <p:cNvPr id="67" name="mauritvegzoom" descr=""/>
            <p:cNvPicPr/>
            <p:nvPr/>
          </p:nvPicPr>
          <p:blipFill>
            <a:blip r:embed="rId2"/>
            <a:stretch/>
          </p:blipFill>
          <p:spPr>
            <a:xfrm>
              <a:off x="1073160" y="3006720"/>
              <a:ext cx="335268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35040" y="3732120"/>
              <a:ext cx="239760" cy="258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7880" y="3131640"/>
              <a:ext cx="317520" cy="49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2320" y="4119480"/>
              <a:ext cx="325440" cy="163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mau2000f3f21b" descr=""/>
          <p:cNvPicPr/>
          <p:nvPr/>
        </p:nvPicPr>
        <p:blipFill>
          <a:blip r:embed="rId3"/>
          <a:stretch/>
        </p:blipFill>
        <p:spPr>
          <a:xfrm>
            <a:off x="3800520" y="1177920"/>
            <a:ext cx="5343480" cy="348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3852720" y="4512960"/>
            <a:ext cx="325440" cy="90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au2000f2f5b" descr=""/>
          <p:cNvPicPr/>
          <p:nvPr/>
        </p:nvPicPr>
        <p:blipFill>
          <a:blip r:embed="rId4"/>
          <a:stretch/>
        </p:blipFill>
        <p:spPr>
          <a:xfrm>
            <a:off x="39600" y="1201680"/>
            <a:ext cx="6826320" cy="4492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1880" y="1368360"/>
            <a:ext cx="6628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Low cover vegetation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  &gt;&gt;  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3% - 40%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LCCS: sparse to op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xed with background s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66920" y="2320920"/>
            <a:ext cx="58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0 NDVI produ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high 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Arial"/>
              </a:rPr>
              <a:t>variability of ND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9900"/>
                </a:solidFill>
                <a:uFillTx/>
                <a:latin typeface="Arial"/>
              </a:rPr>
              <a:t>not explained only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by veg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76400" y="2711520"/>
            <a:ext cx="7956360" cy="3887640"/>
            <a:chOff x="1076400" y="2711520"/>
            <a:chExt cx="7956360" cy="3887640"/>
          </a:xfrm>
        </p:grpSpPr>
        <p:graphicFrame>
          <p:nvGraphicFramePr>
            <p:cNvPr id="78" name=""/>
            <p:cNvGraphicFramePr/>
            <p:nvPr/>
          </p:nvGraphicFramePr>
          <p:xfrm>
            <a:off x="1076400" y="3168720"/>
            <a:ext cx="5148360" cy="3146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6400" y="3168720"/>
                      <a:ext cx="5148360" cy="31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0" name="no-seasonalityx2-insalah" descr=""/>
            <p:cNvPicPr/>
            <p:nvPr/>
          </p:nvPicPr>
          <p:blipFill>
            <a:blip r:embed="rId3"/>
            <a:stretch/>
          </p:blipFill>
          <p:spPr>
            <a:xfrm>
              <a:off x="6310440" y="2711520"/>
              <a:ext cx="2722320" cy="38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1084320" y="125280"/>
            <a:ext cx="7935840" cy="4023000"/>
            <a:chOff x="1084320" y="125280"/>
            <a:chExt cx="7935840" cy="4023000"/>
          </a:xfrm>
        </p:grpSpPr>
        <p:graphicFrame>
          <p:nvGraphicFramePr>
            <p:cNvPr id="82" name=""/>
            <p:cNvGraphicFramePr/>
            <p:nvPr/>
          </p:nvGraphicFramePr>
          <p:xfrm>
            <a:off x="1084320" y="125280"/>
            <a:ext cx="5127480" cy="313380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84320" y="125280"/>
                      <a:ext cx="5127480" cy="31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4" name="no-seasonalityx2-insalah-rock" descr=""/>
            <p:cNvPicPr/>
            <p:nvPr/>
          </p:nvPicPr>
          <p:blipFill>
            <a:blip r:embed="rId6"/>
            <a:stretch/>
          </p:blipFill>
          <p:spPr>
            <a:xfrm>
              <a:off x="6299280" y="142920"/>
              <a:ext cx="2720880" cy="400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gbp-nafr2tif" descr=""/>
          <p:cNvPicPr/>
          <p:nvPr/>
        </p:nvPicPr>
        <p:blipFill>
          <a:blip r:embed="rId1"/>
          <a:stretch/>
        </p:blipFill>
        <p:spPr>
          <a:xfrm>
            <a:off x="884160" y="1536840"/>
            <a:ext cx="7977240" cy="381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71800" y="2577960"/>
            <a:ext cx="898560" cy="53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911320"/>
            <a:ext cx="898560" cy="5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7320" y="1579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81240" y="1541520"/>
            <a:ext cx="7506720" cy="4413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iming of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seasonal variability related to vegetation is difficult to determ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atic character of rainfall in space an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uence of two climatic z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&gt; Mediterranean infl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&gt; ‘tropical’ ITCZ infl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 possible to ‘choose’ best period for vegetation development throughout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&gt; difficult to use S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0400" y="1541520"/>
            <a:ext cx="7860240" cy="4110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Using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SPOT VGT S10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or longer composites based on MVC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tmospheric, aerosol or clouds contamination is limi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n S10 over arid areas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(no persist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cc99"/>
                </a:solidFill>
                <a:latin typeface="Arial"/>
              </a:rPr>
              <a:t>BRDF effect which is probably ‘enhanced’ in relation to </a:t>
            </a:r>
            <a:r>
              <a:rPr b="0" lang="en-GB" sz="1600" spc="-1" strike="noStrike" u="sng">
                <a:solidFill>
                  <a:srgbClr val="ffcc99"/>
                </a:solidFill>
                <a:uFillTx/>
                <a:latin typeface="Arial"/>
              </a:rPr>
              <a:t>topogra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cc99"/>
                </a:solidFill>
                <a:latin typeface="Arial"/>
              </a:rPr>
              <a:t>Spectral behaviour related to </a:t>
            </a:r>
            <a:r>
              <a:rPr b="0" lang="en-GB" sz="1600" spc="-1" strike="noStrike" u="sng">
                <a:solidFill>
                  <a:srgbClr val="ffcc99"/>
                </a:solidFill>
                <a:uFillTx/>
                <a:latin typeface="Arial"/>
              </a:rPr>
              <a:t>lithology and geology</a:t>
            </a:r>
            <a:r>
              <a:rPr b="0" lang="en-GB" sz="1600" spc="-1" strike="noStrike">
                <a:solidFill>
                  <a:srgbClr val="ffcc99"/>
                </a:solidFill>
                <a:latin typeface="Arial"/>
              </a:rPr>
              <a:t> (colo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cc99"/>
                </a:solidFill>
                <a:uFillTx/>
                <a:latin typeface="Arial"/>
              </a:rPr>
              <a:t>confusion</a:t>
            </a:r>
            <a:r>
              <a:rPr b="1" lang="en-GB" sz="1600" spc="-1" strike="noStrike">
                <a:solidFill>
                  <a:srgbClr val="ffcc99"/>
                </a:solidFill>
                <a:latin typeface="Arial"/>
              </a:rPr>
              <a:t> between low cover vegetation and sandy soils/sand-ston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92240" y="3687840"/>
            <a:ext cx="6240600" cy="98748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266840" y="482760"/>
            <a:ext cx="7878240" cy="3909240"/>
            <a:chOff x="1266840" y="482760"/>
            <a:chExt cx="7878240" cy="3909240"/>
          </a:xfrm>
        </p:grpSpPr>
        <p:pic>
          <p:nvPicPr>
            <p:cNvPr id="95" name="afstdefinedcc-3deksx2" descr=""/>
            <p:cNvPicPr/>
            <p:nvPr/>
          </p:nvPicPr>
          <p:blipFill>
            <a:blip r:embed="rId1"/>
            <a:stretch/>
          </p:blipFill>
          <p:spPr>
            <a:xfrm>
              <a:off x="1266840" y="482760"/>
              <a:ext cx="5967360" cy="22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968480" y="1822320"/>
              <a:ext cx="523800" cy="3614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5000" y="1908000"/>
              <a:ext cx="704880" cy="3614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73560" y="898200"/>
              <a:ext cx="704880" cy="36180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7280" y="1317600"/>
              <a:ext cx="704880" cy="3614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1920" y="1326960"/>
              <a:ext cx="428400" cy="26640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07960" y="1560240"/>
              <a:ext cx="2337120" cy="2831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Oct dek 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Un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.505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Cloud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0.059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ov dek 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Un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.715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Cloud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0.029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ov dek 2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Unsure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0.915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Cloud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:0.009 %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f 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2" name=""/>
          <p:cNvGraphicFramePr/>
          <p:nvPr/>
        </p:nvGraphicFramePr>
        <p:xfrm>
          <a:off x="1592280" y="3132000"/>
          <a:ext cx="4849920" cy="300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2280" y="3132000"/>
                    <a:ext cx="48499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0960" y="3164040"/>
            <a:ext cx="539748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shold on ratio MIR/BO improves classification of unsure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51400" y="1246320"/>
            <a:ext cx="19454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tion on S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19600" y="1541520"/>
            <a:ext cx="7860240" cy="4110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POT VGT S1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longer composites based on MVC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atmospheric, aerosol or clouds contamination is limited over arid are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(no persist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DF effect which is probably ‘enhanced’ in relation to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opogra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Spectral behaviour related to </a:t>
            </a:r>
            <a:r>
              <a:rPr b="0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lithology and geology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(colo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 u="sng">
                <a:solidFill>
                  <a:srgbClr val="ffcc99"/>
                </a:solidFill>
                <a:uFillTx/>
                <a:latin typeface="Arial"/>
              </a:rPr>
              <a:t>confusion</a:t>
            </a:r>
            <a:r>
              <a:rPr b="1" lang="en-GB" sz="1600" spc="-1" strike="noStrike">
                <a:solidFill>
                  <a:srgbClr val="ffcc99"/>
                </a:solidFill>
                <a:latin typeface="Arial"/>
              </a:rPr>
              <a:t> between low cover vegetation and sandy soils/sand-ston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92240" y="3687840"/>
            <a:ext cx="6721560" cy="987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0160" y="736560"/>
            <a:ext cx="7883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Problematic for Mapping Land Cover in Arid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4:02:28Z</dcterms:created>
  <dc:creator>Cherlet Michael</dc:creator>
  <dc:description/>
  <dc:language>en-US</dc:language>
  <cp:lastModifiedBy>etienne</cp:lastModifiedBy>
  <dcterms:modified xsi:type="dcterms:W3CDTF">2001-05-07T13:15:05Z</dcterms:modified>
  <cp:revision>33</cp:revision>
  <dc:subject/>
  <dc:title>No Slide Title</dc:title>
</cp:coreProperties>
</file>