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2825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36734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36734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6400" y="36734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5160" y="15238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039080" y="15238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36734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5160" y="36734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039080" y="36734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36734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0" y="36734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0" y="15238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36734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106668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816200" y="1676520"/>
            <a:ext cx="6931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58000"/>
            <a:ext cx="990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66680" y="6324480"/>
            <a:ext cx="777240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06560" y="6296040"/>
            <a:ext cx="6043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ace Applications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jmg/fireglob/Gba_vgt/GBA_MethodsWorkshop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Global Vegetation Monitoring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SAI_Logo" descr=""/>
          <p:cNvPicPr/>
          <p:nvPr/>
        </p:nvPicPr>
        <p:blipFill>
          <a:blip r:embed="rId5"/>
          <a:stretch/>
        </p:blipFill>
        <p:spPr>
          <a:xfrm>
            <a:off x="0" y="0"/>
            <a:ext cx="1109520" cy="998640"/>
          </a:xfrm>
          <a:prstGeom prst="rect">
            <a:avLst/>
          </a:prstGeom>
          <a:ln w="0">
            <a:noFill/>
          </a:ln>
        </p:spPr>
      </p:pic>
      <p:pic>
        <p:nvPicPr>
          <p:cNvPr id="8" name="CTEMPnsmailUI" descr=""/>
          <p:cNvPicPr/>
          <p:nvPr/>
        </p:nvPicPr>
        <p:blipFill>
          <a:blip r:embed="rId6"/>
          <a:stretch/>
        </p:blipFill>
        <p:spPr>
          <a:xfrm>
            <a:off x="8902800" y="6334200"/>
            <a:ext cx="1000080" cy="5238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12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6b61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676767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0788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The Global Burnt Area 2000 initiative: GBA-2000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Comic Sans MS"/>
              </a:rPr>
              <a:t>Mapping, from SPOT-VEGETATION S1 imagery, of the areas burnt globally during the year 2000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-M. Grégoire</a:t>
            </a:r>
            <a:endParaRPr b="1" lang="en-US" sz="14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AI-GVM</a:t>
            </a:r>
            <a:endParaRPr b="1" lang="en-US" sz="14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March 2001</a:t>
            </a:r>
            <a:endParaRPr b="1" lang="en-US" sz="1400" spc="-1" strike="noStrike">
              <a:solidFill>
                <a:srgbClr val="00279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7920" y="27936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The Global Burnt Area 2000 initiative: GBA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523880"/>
            <a:ext cx="838188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27280" y="1535040"/>
            <a:ext cx="73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ribution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Land Cover (GLC 2000)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22960" y="2868480"/>
            <a:ext cx="7499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sponse to the needs for environmental assessment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biomass burning and land cover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diversity, Desertification and Climate Change Conven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biomass burning and emissions of GHG &amp; aeroso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Change 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3440" y="1046160"/>
            <a:ext cx="74646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a binary map (burnt-unbur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non-accumulative global burn scar map,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km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statistics of burnt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burnt in 2000 per country, per month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main types of vegetation cover (IGBP-DI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sen 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49280" y="4906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GBA-2000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4880" y="603360"/>
            <a:ext cx="44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GBA-2000 Genera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80240" y="1681200"/>
            <a:ext cx="8283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a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limited number of co-investiga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 access to validation data sets &amp; field expertise/cont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regional algorith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processing VGT S1 ima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urnt area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the regional algorithms into a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global processing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J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03280" y="581040"/>
            <a:ext cx="8923320" cy="4927680"/>
            <a:chOff x="503280" y="581040"/>
            <a:chExt cx="8923320" cy="49276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03280" y="2217600"/>
              <a:ext cx="891216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503280" y="3040200"/>
              <a:ext cx="89121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503280" y="3862440"/>
              <a:ext cx="89121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503280" y="4684680"/>
              <a:ext cx="891216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503280" y="1393920"/>
              <a:ext cx="8912160" cy="8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514440" y="581040"/>
              <a:ext cx="8912160" cy="8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2909520" y="16020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GBA 2000 Co-Investig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9120" y="592200"/>
            <a:ext cx="613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IRO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- UTL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- NRI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- CNR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- CCR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- CRG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- IFI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- SAI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31840" y="5435640"/>
            <a:ext cx="754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BA test-sites (white rectangles; indicative position), with corresponding geographical coordinates (Ul; LR corn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6440" y="2679840"/>
            <a:ext cx="1689120" cy="393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27680" y="2057400"/>
            <a:ext cx="253800" cy="21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03520" y="2565360"/>
            <a:ext cx="469800" cy="368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390840"/>
            <a:ext cx="432000" cy="330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3276720"/>
            <a:ext cx="266760" cy="190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7600" y="3225960"/>
            <a:ext cx="254160" cy="330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86760" y="1793880"/>
            <a:ext cx="225360" cy="193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5080" y="1663560"/>
            <a:ext cx="171360" cy="16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32120" y="1714680"/>
            <a:ext cx="298440" cy="330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77040" y="3340080"/>
            <a:ext cx="266760" cy="317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0480" y="51260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1960" y="1239840"/>
            <a:ext cx="78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3N - 81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N - 55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88920" y="1330200"/>
            <a:ext cx="84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.5N-112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7N-104.5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C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96080" y="2979720"/>
            <a:ext cx="78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N - 93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N - 77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R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6520" y="38433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S - 75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S - 45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T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35440" y="4046400"/>
            <a:ext cx="74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S - 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S - 29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R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0280" y="3855960"/>
            <a:ext cx="74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S - 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S - 4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T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50840" y="3132000"/>
            <a:ext cx="78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N - 18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- 5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N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2840" y="1925640"/>
            <a:ext cx="78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N - 10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N -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T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22680" y="3995640"/>
            <a:ext cx="81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S - 125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S - 135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SI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43600" y="1341360"/>
            <a:ext cx="81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N - 118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N - 140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IF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49920" y="1590840"/>
            <a:ext cx="225360" cy="193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4720" y="1190520"/>
            <a:ext cx="71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8N - 45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N - 60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IF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37520" y="2035080"/>
            <a:ext cx="162000" cy="155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34040" y="1951200"/>
            <a:ext cx="81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N - 115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N - 135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T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84480" y="2921040"/>
            <a:ext cx="406440" cy="633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828800" y="1802880"/>
            <a:ext cx="482760" cy="637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37040" y="1701720"/>
            <a:ext cx="203040" cy="637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8640" y="1943280"/>
            <a:ext cx="419040" cy="1015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8240" y="1257480"/>
            <a:ext cx="304920" cy="3171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7504200" y="1790280"/>
            <a:ext cx="241200" cy="88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503840" y="2209680"/>
            <a:ext cx="431640" cy="2793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235200" y="3072960"/>
            <a:ext cx="203400" cy="507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727600" y="3543480"/>
            <a:ext cx="114480" cy="3045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37240" y="3708000"/>
            <a:ext cx="482400" cy="3301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3492000" y="3454560"/>
            <a:ext cx="165240" cy="380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01080" y="3301920"/>
            <a:ext cx="457200" cy="254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024760" y="3645000"/>
            <a:ext cx="152280" cy="3427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822880" y="2649600"/>
            <a:ext cx="81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S - 125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S - 146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V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558280" y="3187440"/>
            <a:ext cx="266760" cy="1141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58600" y="37476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GBA-2000 Methodology: Pre-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4360" y="1154160"/>
            <a:ext cx="745164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M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louds &amp; cloud shadows (adapted fro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mpeneers et al.,2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treme viewing zenith angles (&gt; 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ax. NDVI composite areas (+/- 3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on-burnabl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GBP-DIS (EDC/US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Biosphere Model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ryland Global Landcover Dataset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nsen et al., 200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37320" y="438120"/>
            <a:ext cx="85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GBA-2000 Methodology: Processing to burnt area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84040" y="2259000"/>
            <a:ext cx="781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temporal change detection techniques, on a pixel b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o single date imag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NRI, Flasse et al.; UTL, Pereira et al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consecutive images: 5-day cycl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Boschetti et al.,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temporal change detection techniques, on a pixel ba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o composite imag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JRC, Stroppiana et al., 2001; IFI, Ershov et al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ing = 10-day, min N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temporal change detection techniques, on a pixel basis 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 spatial dependenc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CNR, Brivio et al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o single date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ual window 3x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network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7560" y="1325520"/>
            <a:ext cx="772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3 approaches currently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All based on change detection techniques in NIR, SWIR &amp; ND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10720" y="53964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GBA-2000 Methodology: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9760" y="1285920"/>
            <a:ext cx="81756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Performance analysis of the algorithm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estimator, restricted to the regions covered by hi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 imagery (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overall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under and overestimation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Validation fo the final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validate a global map of burnt areas 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Comparison with other global burnt area product for the yea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SCAR product – from ATSR imagery (ESA/ESR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84720" y="399960"/>
            <a:ext cx="49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Comic Sans MS"/>
              </a:rPr>
              <a:t>GBA-2000 Status on 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8160" y="130032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Data distribution to co-investigators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6720" y="1935000"/>
            <a:ext cx="74944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Development of regional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completed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test-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early completed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,  Northern hemi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, Namibia/Botswana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initiated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, Mozambic test-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, Far East Sib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evaluation during the GOFC-Fire workshop, Lisbon, July 9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85280" y="4754520"/>
            <a:ext cx="7230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Global processing chain at J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re-processing module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rocessing module: tests started over the African conti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16:55:41Z</dcterms:created>
  <dc:creator>Apostolia Karamali</dc:creator>
  <dc:description/>
  <dc:language>en-US</dc:language>
  <cp:lastModifiedBy>etienne</cp:lastModifiedBy>
  <cp:lastPrinted>2001-01-15T15:29:32Z</cp:lastPrinted>
  <dcterms:modified xsi:type="dcterms:W3CDTF">2001-05-07T13:17:46Z</dcterms:modified>
  <cp:revision>292</cp:revision>
  <dc:subject/>
  <dc:title>No Slide Title</dc:title>
</cp:coreProperties>
</file>