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144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952-93CF-4659-8D7F-0F5508F0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233-9BDF-4442-A48F-1FEE3C24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AC7-97AD-4E98-9B0E-0EC3D94C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915-2827-4D2A-ACF9-41B2D82C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99B-1366-42FB-BBCC-F802A0F0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1CB-0803-42F6-9820-277CE182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925-E0E7-49A0-B499-57DE7E5D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5B9-B4EF-4C91-8A68-5A005DFF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667-A3D1-4ADC-B9F4-C95838A4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622-E5DA-4ABA-9150-65E56FF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6B4-8F18-4851-84EA-0D803B87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761-B907-4B93-B066-C7BFCFBA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C32E-3B9D-4621-87F8-E470130C925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bc" descr=""/>
          <p:cNvPicPr/>
          <p:nvPr/>
        </p:nvPicPr>
        <p:blipFill>
          <a:blip r:embed="rId1"/>
          <a:stretch/>
        </p:blipFill>
        <p:spPr>
          <a:xfrm>
            <a:off x="0" y="228600"/>
            <a:ext cx="1752480" cy="58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8000" y="2212920"/>
            <a:ext cx="6966000" cy="69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fr-FR" sz="4800" spc="-1" strike="noStrike">
                <a:solidFill>
                  <a:srgbClr val="0000ff"/>
                </a:solidFill>
                <a:latin typeface="Times New Roman"/>
              </a:rPr>
              <a:t>Some preliminary tests  on VGT data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Times New Roman"/>
              </a:rPr>
              <a:t>over Fra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J-L CHAMPEAUX, L FRANCHISTEGU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S. GARRIG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NRM/GMME/MAT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2200" y="366840"/>
            <a:ext cx="6221520" cy="84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1520" y="247680"/>
            <a:ext cx="6172200" cy="85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2040" y="692280"/>
            <a:ext cx="64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Times New Roman"/>
              </a:rPr>
              <a:t>What strategy for the cloud mas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680" y="1809720"/>
            <a:ext cx="340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use the status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(poor qua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760" y="3714840"/>
            <a:ext cx="64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use the VITO thresho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Must be applied to TOA reflec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760" y="5867280"/>
            <a:ext cx="570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determine new thresholds on B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for specific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73760" y="438120"/>
            <a:ext cx="50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imes New Roman"/>
              </a:rPr>
              <a:t>Work on bidirectional eff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2920" y="1752480"/>
            <a:ext cx="6040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Evaluation of bidirectional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in different solar-target-sens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configurations over homogene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landcover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000" y="4057560"/>
            <a:ext cx="437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Implementation and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of BDC meth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(B.Duchemin, CESBI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960" y="6381720"/>
            <a:ext cx="55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Proposal VEGA2000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Determination of global albe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0000ff"/>
                </a:solidFill>
                <a:latin typeface="Times New Roman"/>
              </a:rPr>
              <a:t>from VGT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6858000" cy="88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GA2000 proposal : Determination of global albedo products from VGT instrument data for use in numerical weather forecast and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mate models.</a:t>
            </a:r>
            <a:br>
              <a:rPr sz="2400"/>
            </a:b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. FRANCHISTEGUY(CNRM/GMME) </a:t>
            </a:r>
            <a:br>
              <a:rPr sz="20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liminary study with a data set 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 VGT-P  products (April 1998 – March 1999)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fr-F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      Atmospheric corrections : 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SMAC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A reflectances 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surface reflectances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)      BRDF kernel-driven model inversion : correction of bidirectional effects (30 days compositing period with a sliding period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f 10 days).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)    Retrieval of land surface albedo (directional albedo) for a 100*100 km domain located 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utheast part of Franc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333360"/>
            <a:ext cx="60199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ff0000"/>
                </a:solidFill>
                <a:uFillTx/>
                <a:latin typeface="Verdana"/>
              </a:rPr>
              <a:t>Method for retrieval </a:t>
            </a:r>
            <a:br>
              <a:rPr sz="2600"/>
            </a:br>
            <a:r>
              <a:rPr b="1" lang="fr-FR" sz="2600" spc="-1" strike="noStrike" u="sng">
                <a:solidFill>
                  <a:srgbClr val="ff0000"/>
                </a:solidFill>
                <a:uFillTx/>
                <a:latin typeface="Verdana"/>
              </a:rPr>
              <a:t>of surface proper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879560"/>
            <a:ext cx="685800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entury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Century"/>
              </a:rPr>
              <a:t>Inversion of a BRDF model</a:t>
            </a:r>
            <a:r>
              <a:rPr b="0" lang="fr-FR" sz="2200" spc="-1" strike="noStrike">
                <a:solidFill>
                  <a:srgbClr val="ff0000"/>
                </a:solidFill>
                <a:latin typeface="Century"/>
              </a:rPr>
              <a:t>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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s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, </a:t>
            </a: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v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, </a:t>
            </a: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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 = k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0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 + k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1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 f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1</a:t>
            </a: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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s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, </a:t>
            </a: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v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, </a:t>
            </a: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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 + k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2 </a:t>
            </a: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 f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2</a:t>
            </a: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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s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, </a:t>
            </a: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fr-FR" sz="2200" spc="-1" strike="noStrike" baseline="-25000">
                <a:solidFill>
                  <a:srgbClr val="000000"/>
                </a:solidFill>
                <a:latin typeface="Century"/>
              </a:rPr>
              <a:t>v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, </a:t>
            </a:r>
            <a:r>
              <a:rPr b="1" lang="fr-FR" sz="2200" spc="-1" strike="noStrike">
                <a:solidFill>
                  <a:srgbClr val="000000"/>
                </a:solidFill>
                <a:latin typeface="symbol"/>
                <a:ea typeface="symbol"/>
              </a:rPr>
              <a:t></a:t>
            </a:r>
            <a:r>
              <a:rPr b="1" lang="fr-FR" sz="2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"/>
              </a:rPr>
              <a:t>(model of Roujean et al., 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0: Normalized reflectance for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entury"/>
              </a:rPr>
              <a:t>s</a:t>
            </a:r>
            <a:r>
              <a:rPr b="0" lang="fr-FR" sz="2400" spc="-1" strike="noStrike">
                <a:solidFill>
                  <a:srgbClr val="000000"/>
                </a:solidFill>
                <a:latin typeface="Century"/>
              </a:rPr>
              <a:t>=0 and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entury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Century"/>
              </a:rPr>
              <a:t>=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6360" y="538200"/>
            <a:ext cx="5705280" cy="8067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07120" y="0"/>
            <a:ext cx="53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DECIDUOUS PIXELS ( South of Fr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3760" y="8513640"/>
            <a:ext cx="18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6360" y="538200"/>
            <a:ext cx="5705280" cy="8067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7360" y="-49320"/>
            <a:ext cx="61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supervised classification using 10 days MV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 from 1/1/2000 to 31/09/2000 over SO 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6160" y="868680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rine Land Cover dataset at 1km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6440" y="797040"/>
            <a:ext cx="5715000" cy="8083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6560" y="0"/>
            <a:ext cx="61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supervised classification using 10 days MV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rom 1/1/2000 to 31/09/2000 over SO 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7760" y="214200"/>
            <a:ext cx="6162480" cy="871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31760" y="2556000"/>
            <a:ext cx="439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5760" y="2841480"/>
            <a:ext cx="437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0440" y="708120"/>
            <a:ext cx="58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Times New Roman"/>
              </a:rPr>
              <a:t>Cloud mask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7516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Status map cloud mas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4441680"/>
            <a:ext cx="68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New VITO cloud mask (Lissens and al, Belgi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2000) with thresholds tuned over the world appli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to TOA reflec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a pixel is declared cle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B0&lt;493  OR SWIR&lt;180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1840" y="6670800"/>
            <a:ext cx="594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New tuned cloud mask with thresholds tu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over France for surface reflectance (S1 dat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a pixel is declared clou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if  </a:t>
            </a: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B0&gt;=220 AND SWIR&gt;=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63800" y="20415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mparison betwe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4880" y="293760"/>
            <a:ext cx="5975280" cy="84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6560" y="422280"/>
            <a:ext cx="5811840" cy="82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1520" y="277920"/>
            <a:ext cx="6172200" cy="853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04840" y="3381480"/>
            <a:ext cx="4705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14560" y="7115040"/>
            <a:ext cx="4686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58840"/>
            <a:ext cx="6359400" cy="8616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09800" y="3505320"/>
            <a:ext cx="4848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09800" y="7286760"/>
            <a:ext cx="4838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0600" y="274680"/>
            <a:ext cx="6095880" cy="86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7360" y="287280"/>
            <a:ext cx="6137280" cy="84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5:07:43Z</dcterms:created>
  <dc:creator>champjl</dc:creator>
  <dc:description/>
  <dc:language>en-US</dc:language>
  <cp:lastModifiedBy>etienne</cp:lastModifiedBy>
  <dcterms:modified xsi:type="dcterms:W3CDTF">2001-05-07T13:14:41Z</dcterms:modified>
  <cp:revision>39</cp:revision>
  <dc:subject/>
  <dc:title>Présentation PowerPoint</dc:title>
</cp:coreProperties>
</file>