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9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667-AE2F-47DB-8316-4D4C6BF5E22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143920" y="6334200"/>
            <a:ext cx="1000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74600" cy="6681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0" y="596880"/>
            <a:ext cx="1060560" cy="57229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4051440" y="6326280"/>
            <a:ext cx="709560" cy="531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-26676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8a"/>
              </a:solidFill>
              <a:latin typeface="Arial"/>
            </a:endParaRPr>
          </a:p>
          <a:p>
            <a:pPr lvl="4" marL="1943280" indent="-228600"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5" marL="19432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6" marL="19432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6924-1653-4BFD-BA2B-3A313F4FB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1"/>
          </p:nvPr>
        </p:nvSpPr>
        <p:spPr>
          <a:xfrm>
            <a:off x="4889160" y="6375240"/>
            <a:ext cx="314964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47080" y="6283440"/>
            <a:ext cx="109692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081320" y="6338880"/>
          <a:ext cx="72864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6338880"/>
                    <a:ext cx="728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4284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0" y="6350040"/>
          <a:ext cx="1104840" cy="50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350040"/>
                    <a:ext cx="1104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8560" y="1587600"/>
            <a:ext cx="7772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Towards a global Land Cover 2000 product: the preliminary version of the global product and how it can be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5240" y="2692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Steffen Frit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GVM/J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Thanks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Etienne Bartholom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Alan Bel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28880" y="31680"/>
            <a:ext cx="73594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Steps cont.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48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Instead of using borders between datasets use a rule based approach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e.g. if 3 windows overlap use classification where 2 agre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a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e.g. If one class is better mapped in one dataset (e.g. forest) use it for the whole overlap otherwise map until border lin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Advantage: global map is improved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Disadvantage: border between windows might be visible</a:t>
            </a:r>
            <a:endParaRPr b="1" lang="en-US" sz="2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issues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30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ly consistent Urban class?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Night time luminosity as an option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This has been done for India, South America, Africa, Eurasia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Possibility of using ancillary datasets e.g. for Europe (Pelkom, Global Insight)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Similar issue with water bodies (e.g. Europe)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work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5408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Identify further user needs (aggregated version, forest/non-forest map, etc.)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What can be extracted from GLC2000/ were are the limits and error bars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Validation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Which areas are well mapped/ How can we show that?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How does GLC2000 compare to other global products / regional products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3160" y="-736560"/>
            <a:ext cx="8070840" cy="704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32720" y="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a"/>
                </a:solidFill>
                <a:latin typeface="Times New Roman"/>
              </a:rPr>
              <a:t>GLC2000 - The different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922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Method used for mosaic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397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The best window was chosen according to expert knowledge and ancill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Data was checked for geore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All regional maps were re-classified into the global 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Borders between the different dataset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Natural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When the two maps had identical land cov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320" y="571320"/>
            <a:ext cx="80773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2084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24960" y="6337440"/>
            <a:ext cx="419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770120"/>
            <a:ext cx="8501040" cy="655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056040"/>
            <a:ext cx="882648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53880" y="0"/>
            <a:ext cx="94978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7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Method used for mosaicing co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 map can be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new regional versions becom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borders between datasets (windows)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If global legend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Where are w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e is mapped except: mainly islands and eastern part of Eurasia, North and South of 75 degrees latitude (Eurasia 72.3 deg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For most windows mapping has been comple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obal map will not change significantly except legend, gaps, updated versions, possible classific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1467000"/>
            <a:ext cx="380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33680"/>
            <a:ext cx="114300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30798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76480"/>
            <a:ext cx="53352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143160"/>
            <a:ext cx="4572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4097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42080" y="4064040"/>
            <a:ext cx="558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3098880"/>
            <a:ext cx="596880" cy="711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Further ste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Making the global product available – Propos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version light – without regional le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version  - with regional le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a"/>
                </a:solidFill>
                <a:latin typeface="Arial"/>
              </a:rPr>
              <a:t>How can we maintain the regional lege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Each pixel gets a regional legen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All regional legends provided in an exce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 legend and regional legen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Globally consistent regional classes could have the same 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a"/>
                </a:solidFill>
                <a:latin typeface="Arial"/>
              </a:rPr>
              <a:t>Makes it an extremely ‘detailed’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09:05:02Z</dcterms:created>
  <dc:creator>Tim Richards</dc:creator>
  <dc:description/>
  <dc:language>en-US</dc:language>
  <cp:lastModifiedBy>hartlan</cp:lastModifiedBy>
  <cp:lastPrinted>1999-04-13T08:46:29Z</cp:lastPrinted>
  <dcterms:modified xsi:type="dcterms:W3CDTF">2003-04-23T07:59:12Z</dcterms:modified>
  <cp:revision>162</cp:revision>
  <dc:subject/>
  <dc:title>No Slide Title</dc:title>
</cp:coreProperties>
</file>