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2EE-0CDD-428A-954D-80DFF1F4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8D0-7354-488A-9512-94C161CB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BC4-37A8-48D7-A3F4-930DB060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D6C-DAEE-4023-8B93-ABDE8559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302-0B6E-42B0-AFD8-6ACD1DC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D68-EE40-420A-996A-F09AA45E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6F1-A5B1-4C28-8F2D-726BC6DE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114-CBB5-49C2-990B-E73CD870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9C6-29A9-4CD7-A452-528946B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D5B-96C1-49D3-855A-AEAA026C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0F8-F7A2-4C35-BA4E-69FF4EC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3CC-E657-4CE2-8469-5C317B0D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F873-3DB6-4B51-9407-79BBA0AC52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17082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00"/>
                </a:solidFill>
                <a:latin typeface="Times New Roman"/>
              </a:rPr>
              <a:t>A Comparison Between GLC2000 Results and Brazilian Censu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952880"/>
            <a:ext cx="91440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Evaristo Eduardo de Mir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Marcelo Guimarã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Eliane Gonçalves G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8000"/>
                </a:solidFill>
                <a:latin typeface="Times New Roman"/>
              </a:rPr>
              <a:t>Alejandro Jorge D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2362320" cy="78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160020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696080" y="4648320"/>
            <a:ext cx="1447920" cy="79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696080" y="5715000"/>
            <a:ext cx="144792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COMPARATIVE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TATISTICAL CORRELATION BETWEEN CENSUS DATA AND SPOT VGT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2767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GRICULTURE AND PASTURE (HIGH COR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OREST REMNANTS IN AGRICULTURAL AREAS VS. AGRICULTURAL PATCHES IN FORESTED AREAS (LOWER COR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Univers"/>
              </a:rPr>
              <a:t>AGRICULTURE AND PA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7200" y="1039680"/>
            <a:ext cx="8305920" cy="5818320"/>
            <a:chOff x="457200" y="1039680"/>
            <a:chExt cx="8305920" cy="5818320"/>
          </a:xfrm>
        </p:grpSpPr>
        <p:graphicFrame>
          <p:nvGraphicFramePr>
            <p:cNvPr id="68" name=""/>
            <p:cNvGraphicFramePr/>
            <p:nvPr/>
          </p:nvGraphicFramePr>
          <p:xfrm>
            <a:off x="457200" y="1039680"/>
            <a:ext cx="8305920" cy="581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1039680"/>
                      <a:ext cx="8305920" cy="58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762120" y="3124080"/>
            <a:ext cx="257040" cy="129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120" y="3124080"/>
                      <a:ext cx="257040" cy="12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152280" y="76320"/>
            <a:ext cx="929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Univers"/>
              </a:rPr>
              <a:t>FORESTS REMNANTS IN AGRICULTUR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760" y="598320"/>
          <a:ext cx="8935920" cy="625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598320"/>
                    <a:ext cx="893592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04760" y="598320"/>
            <a:ext cx="8935920" cy="6259680"/>
            <a:chOff x="104760" y="598320"/>
            <a:chExt cx="8935920" cy="6259680"/>
          </a:xfrm>
        </p:grpSpPr>
        <p:graphicFrame>
          <p:nvGraphicFramePr>
            <p:cNvPr id="76" name=""/>
            <p:cNvGraphicFramePr/>
            <p:nvPr/>
          </p:nvGraphicFramePr>
          <p:xfrm>
            <a:off x="104760" y="598320"/>
            <a:ext cx="8935920" cy="625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4760" y="598320"/>
                      <a:ext cx="8935920" cy="625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57200" y="2666880"/>
            <a:ext cx="287280" cy="1447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666880"/>
                      <a:ext cx="28728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0" y="76320"/>
            <a:ext cx="89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Univers"/>
              </a:rPr>
              <a:t>FORESTS REMNANTS IN AGRICULTUR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ALUABLE COMPARISON FOR 40% OF BRAZIL (DOES NOT INCLUDE LARGE NATURAL AR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EST RESULTS FOR CROPS AND PASTURE MAINLY BECAUSE OF THE LARGE SIZE OF BRAZILIAN AGRICULTURAL P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IMILAR CLASSES IN DISTINCT CLASSIFICATION SCHEMES HAVE LOWER CORRELATION VALUES (e.g., DRY FORESTS - CAATIN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RTHER STEPS INCLUDE MORE DETAILED COMPARISONS FOR COUNTIES WITHIN EACH BRAZILIA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266760"/>
            <a:ext cx="9144000" cy="6285960"/>
            <a:chOff x="0" y="266760"/>
            <a:chExt cx="9144000" cy="62859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0" y="1002960"/>
              <a:ext cx="9110520" cy="55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266760"/>
              <a:ext cx="9144000" cy="704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2514600"/>
            <a:ext cx="889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Times New Roman"/>
              </a:rPr>
              <a:t>http://www.cnpm.embrapa.br/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095800"/>
            <a:ext cx="9144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Garamond"/>
              </a:rPr>
              <a:t>Evaristo Eduardo de Mir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Garamond"/>
              </a:rPr>
              <a:t>mir@cnpm.embrapa.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54280" y="152280"/>
            <a:ext cx="389880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39600"/>
            <a:ext cx="6858000" cy="681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4038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ZIL SEEN THROUGH A SPOT VGT MOS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46080"/>
            <a:ext cx="693396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403848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500 COUN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SPOT VGT LAND-COVER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915840"/>
            <a:ext cx="640080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371600"/>
            <a:ext cx="23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T FOR BRAZILIAN SOUTHER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47768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60" y="990720"/>
            <a:ext cx="21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41120"/>
            <a:ext cx="800100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RESEARCH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 PRELIMINARY STATISTICAL COMPARISON BETWEEN CENSUS DATA (REGIONS, STATES, AND COUNTIES) AND SPOT VGT LAND-COVER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6320"/>
            <a:ext cx="92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Univers"/>
              </a:rPr>
              <a:t>BRAZILIAN CEN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1849320"/>
            <a:ext cx="93726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EN YEAR  BASIS  SINCE 1870 (YEAR 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NLY RURAL AREAS, BUT ALL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ESTIMATIVES BASED ON FARMERS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OMOGENEOUS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LASSIFICATION SCHEME &lt;=&gt; VGT LAND COV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6:40:07Z</dcterms:created>
  <dc:creator>Embrapa - CNPM</dc:creator>
  <dc:description/>
  <dc:language>en-US</dc:language>
  <cp:lastModifiedBy>hartlan</cp:lastModifiedBy>
  <dcterms:modified xsi:type="dcterms:W3CDTF">2003-04-17T16:08:06Z</dcterms:modified>
  <cp:revision>105</cp:revision>
  <dc:subject/>
  <dc:title>Slide sem título </dc:title>
</cp:coreProperties>
</file>