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BD9-AFEB-40C8-8B9F-44732BD2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A470-C128-44C6-8AAB-AEC21545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662-2A7C-4F9C-9C69-7C3206DB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708-87C2-49EC-BC5D-DD28C0D2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27F-D7C5-4100-B9A3-4AF43F27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ED1-F883-4A95-A809-FF9F3CF8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C87-B52D-4B48-9A04-68C22961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2C61-EC4F-476C-89D8-8F110E4D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4A77-505D-4C5E-BA40-7964DA3C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1FE0-EF15-4D71-99B4-7AE9D46D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8E4-F5FE-4041-B75E-2F2F66FC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9B7-598B-4534-9D12-B316D38C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75B3-2D69-4583-9D58-14B3D7385E1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520" y="17082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00"/>
                </a:solidFill>
                <a:latin typeface="Times New Roman"/>
              </a:rPr>
              <a:t>A Comparison Between GLC2000 Results and Brazilian Census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952880"/>
            <a:ext cx="914400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8000"/>
                </a:solidFill>
                <a:latin typeface="Times New Roman"/>
              </a:rPr>
              <a:t>Evaristo Eduardo de Mir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8000"/>
                </a:solidFill>
                <a:latin typeface="Times New Roman"/>
              </a:rPr>
              <a:t>Marcelo Guimarã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8000"/>
                </a:solidFill>
                <a:latin typeface="Times New Roman"/>
              </a:rPr>
              <a:t>Eliane Gonçalves G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8000"/>
                </a:solidFill>
                <a:latin typeface="Times New Roman"/>
              </a:rPr>
              <a:t>Alejandro Jorge Do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2362320" cy="787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495680"/>
            <a:ext cx="1600200" cy="1047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696080" y="4648320"/>
            <a:ext cx="1447920" cy="79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696080" y="5715000"/>
            <a:ext cx="1447920" cy="11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76320"/>
            <a:ext cx="92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Univers"/>
              </a:rPr>
              <a:t>COMPARATIVE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676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TATISTICAL CORRELATION BETWEEN CENSUS DATA AND SPOT VGT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327672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GRICULTURE AND PASTURE (HIGH CORRE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FOREST REMNANTS IN AGRICULTURAL AREAS VS. AGRICULTURAL PATCHES IN FORESTED AREAS (LOWER CORRE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76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Univers"/>
              </a:rPr>
              <a:t>AGRICULTURE AND PAS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57200" y="1039680"/>
            <a:ext cx="8305920" cy="5818320"/>
            <a:chOff x="457200" y="1039680"/>
            <a:chExt cx="8305920" cy="5818320"/>
          </a:xfrm>
        </p:grpSpPr>
        <p:graphicFrame>
          <p:nvGraphicFramePr>
            <p:cNvPr id="68" name=""/>
            <p:cNvGraphicFramePr/>
            <p:nvPr/>
          </p:nvGraphicFramePr>
          <p:xfrm>
            <a:off x="457200" y="1039680"/>
            <a:ext cx="8305920" cy="5818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" y="1039680"/>
                      <a:ext cx="8305920" cy="581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762120" y="3124080"/>
            <a:ext cx="257040" cy="129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2120" y="3124080"/>
                      <a:ext cx="257040" cy="129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152280" y="76320"/>
            <a:ext cx="9296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Univers"/>
              </a:rPr>
              <a:t>FORESTS REMNANTS IN AGRICULTURA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4760" y="598320"/>
          <a:ext cx="8935920" cy="625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598320"/>
                    <a:ext cx="893592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04760" y="598320"/>
            <a:ext cx="8935920" cy="6259680"/>
            <a:chOff x="104760" y="598320"/>
            <a:chExt cx="8935920" cy="6259680"/>
          </a:xfrm>
        </p:grpSpPr>
        <p:graphicFrame>
          <p:nvGraphicFramePr>
            <p:cNvPr id="76" name=""/>
            <p:cNvGraphicFramePr/>
            <p:nvPr/>
          </p:nvGraphicFramePr>
          <p:xfrm>
            <a:off x="104760" y="598320"/>
            <a:ext cx="8935920" cy="6259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4760" y="598320"/>
                      <a:ext cx="8935920" cy="625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457200" y="2666880"/>
            <a:ext cx="287280" cy="1447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" y="2666880"/>
                      <a:ext cx="28728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" name=""/>
          <p:cNvSpPr/>
          <p:nvPr/>
        </p:nvSpPr>
        <p:spPr>
          <a:xfrm>
            <a:off x="0" y="76320"/>
            <a:ext cx="891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Univers"/>
              </a:rPr>
              <a:t>FORESTS REMNANTS IN AGRICULTURA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76320"/>
            <a:ext cx="92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Univers"/>
              </a:rPr>
              <a:t>CONCLUDING REMA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00200"/>
            <a:ext cx="91440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VALUABLE COMPARISON FOR 40% OF BRAZIL (DOES NOT INCLUDE LARGE NATURAL AR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BEST RESULTS FOR CROPS AND PASTURE MAINLY BECAUSE OF THE LARGE SIZE OF BRAZILIAN AGRICULTURAL P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IMILAR CLASSES IN DISTINCT CLASSIFICATION SCHEMES HAVE LOWER CORRELATION VALUES (e.g., DRY FORESTS - CAATING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FURTHER STEPS INCLUDE MORE DETAILED COMPARISONS FOR COUNTIES WITHIN EACH BRAZILIA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0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266760"/>
            <a:ext cx="9144000" cy="6285960"/>
            <a:chOff x="0" y="266760"/>
            <a:chExt cx="9144000" cy="628596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0" y="1002960"/>
              <a:ext cx="9110520" cy="554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0" y="266760"/>
              <a:ext cx="9144000" cy="704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2360" y="2514600"/>
            <a:ext cx="889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00"/>
                </a:solidFill>
                <a:latin typeface="Times New Roman"/>
              </a:rPr>
              <a:t>http://www.cnpm.embrapa.br/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095800"/>
            <a:ext cx="9144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Garamond"/>
              </a:rPr>
              <a:t>Evaristo Eduardo de Mira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Garamond"/>
              </a:rPr>
              <a:t>mir@cnpm.embrapa.b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654280" y="152280"/>
            <a:ext cx="389880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39600"/>
            <a:ext cx="6858000" cy="6818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403848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ZIL SEEN THROUGH A SPOT VGT MOS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9320" y="46080"/>
            <a:ext cx="6933960" cy="681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403848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,500 COUN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SPOT VGT LAND-COVER M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7920" y="915840"/>
            <a:ext cx="6400800" cy="591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371600"/>
            <a:ext cx="237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ET FOR BRAZILIAN SOUTHER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362320" y="0"/>
            <a:ext cx="47768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2360" y="990720"/>
            <a:ext cx="21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141120"/>
            <a:ext cx="8001000" cy="65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6320"/>
            <a:ext cx="92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Univers"/>
              </a:rPr>
              <a:t>RESEARCH GO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337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 PRELIMINARY STATISTICAL COMPARISON BETWEEN CENSUS DATA (REGIONS, STATES, AND COUNTIES) AND SPOT VGT LAND-COVER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76320"/>
            <a:ext cx="92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Univers"/>
              </a:rPr>
              <a:t>BRAZILIAN CEN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76320" y="1849320"/>
            <a:ext cx="93726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EN YEAR  BASIS  SINCE 1870 (YEAR 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NLY RURAL AREAS, BUT ALL 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ESTIMATIVES BASED ON FARMERS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HOMOGENEOUS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LASSIFICATION SCHEME &lt;=&gt; VGT LAND COV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6:40:07Z</dcterms:created>
  <dc:creator>Embrapa - CNPM</dc:creator>
  <dc:description/>
  <dc:language>en-US</dc:language>
  <cp:lastModifiedBy>hartlan</cp:lastModifiedBy>
  <dcterms:modified xsi:type="dcterms:W3CDTF">2003-04-17T16:08:06Z</dcterms:modified>
  <cp:revision>105</cp:revision>
  <dc:subject/>
  <dc:title>Slide sem título </dc:title>
</cp:coreProperties>
</file>