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12.wmf" ContentType="image/x-wmf"/>
  <Override PartName="/ppt/media/image9.wmf" ContentType="image/x-wmf"/>
  <Override PartName="/ppt/media/image17.wmf" ContentType="image/x-wmf"/>
  <Override PartName="/ppt/media/image16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14.wmf" ContentType="image/x-wmf"/>
  <Override PartName="/ppt/media/image6.png" ContentType="image/png"/>
  <Override PartName="/ppt/media/image10.wmf" ContentType="image/x-wmf"/>
  <Override PartName="/ppt/media/image15.wmf" ContentType="image/x-wmf"/>
  <Override PartName="/ppt/media/image7.png" ContentType="image/png"/>
  <Override PartName="/ppt/media/image11.wmf" ContentType="image/x-wmf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1D6955-BD04-47D4-84E6-ED4AFD01EF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06C596-1373-4A0C-A23B-25909B4A23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22EEAC-28D5-42E2-97F1-9419F2AEA5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C534B8-1151-4A8B-8110-F72927BBA3F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E85620-6A55-48F8-8D43-E804F0C342E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199EE2-110F-43EB-A8FA-7D859D4DBC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691B0E-F185-4753-9C17-ED1DA6B0E9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73A020-B9DD-49D4-8ADB-523CD669FE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EF3600-9080-4DAE-8F2F-BF1AA7C674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F7CA12-D017-4036-A181-492A66D460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42AC19-17AA-4254-B246-164E131283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00A8D5-8673-43A5-8190-4781464803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440" y="655272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8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333399"/>
                </a:solidFill>
                <a:latin typeface="Arial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1746A-2BD5-487D-B4CF-2FBD1347C0B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4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5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6.wmf"/><Relationship Id="rId8" Type="http://schemas.openxmlformats.org/officeDocument/2006/relationships/package" Target="../embeddings/oleObject4.xlsx"/><Relationship Id="rId9" Type="http://schemas.openxmlformats.org/officeDocument/2006/relationships/image" Target="../media/image17.wmf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1371600" y="5181480"/>
            <a:ext cx="6553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Verdana"/>
              </a:rPr>
              <a:t>Giancarlo Pin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Institute of BioMeteorology (IBIMET) - National Research Council (CN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1523880" y="1600200"/>
            <a:ext cx="6056280" cy="114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333399"/>
                    </a:gs>
                    <a:gs pos="100000">
                      <a:srgbClr val="cccc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IMPROVEMENT OF EWS PRODUCTS</a:t>
            </a:r>
            <a:endParaRPr b="0" lang="en-US" sz="2400" spc="1" strike="noStrike">
              <a:ln w="936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333399"/>
                  </a:gs>
                  <a:gs pos="100000">
                    <a:srgbClr val="cccc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333399"/>
                    </a:gs>
                    <a:gs pos="100000">
                      <a:srgbClr val="cccc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BY LAND COVER DATA</a:t>
            </a:r>
            <a:endParaRPr b="0" lang="en-US" sz="2400" spc="1" strike="noStrike">
              <a:ln w="936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333399"/>
                  </a:gs>
                  <a:gs pos="100000">
                    <a:srgbClr val="cccc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8686800" y="6459480"/>
            <a:ext cx="380880" cy="322200"/>
          </a:xfrm>
          <a:prstGeom prst="rect">
            <a:avLst/>
          </a:prstGeom>
          <a:ln w="9360">
            <a:solidFill>
              <a:srgbClr val="000080"/>
            </a:solidFill>
            <a:miter/>
          </a:ln>
        </p:spPr>
      </p:pic>
      <p:sp>
        <p:nvSpPr>
          <p:cNvPr id="43" name=""/>
          <p:cNvSpPr/>
          <p:nvPr/>
        </p:nvSpPr>
        <p:spPr>
          <a:xfrm>
            <a:off x="138240" y="181080"/>
            <a:ext cx="535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333399"/>
                </a:solidFill>
                <a:uFillTx/>
                <a:latin typeface="Arial"/>
              </a:rPr>
              <a:t>JRC - GLC 2000 "Final Results" Workshop - Ispra 24-26/03/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3276720"/>
            <a:ext cx="502920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MPROVEMENT OF EWS BY LAND COVER DATA – Giancarlo Pini – IBIMET-CN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"/>
          <p:cNvGrpSpPr/>
          <p:nvPr/>
        </p:nvGrpSpPr>
        <p:grpSpPr>
          <a:xfrm>
            <a:off x="533520" y="1765440"/>
            <a:ext cx="4038480" cy="2808000"/>
            <a:chOff x="533520" y="1765440"/>
            <a:chExt cx="4038480" cy="2808000"/>
          </a:xfrm>
        </p:grpSpPr>
        <p:pic>
          <p:nvPicPr>
            <p:cNvPr id="119" name="" descr=""/>
            <p:cNvPicPr/>
            <p:nvPr/>
          </p:nvPicPr>
          <p:blipFill>
            <a:blip r:embed="rId1"/>
            <a:stretch/>
          </p:blipFill>
          <p:spPr>
            <a:xfrm>
              <a:off x="533520" y="1765440"/>
              <a:ext cx="4038480" cy="280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1981080" y="2896920"/>
              <a:ext cx="304920" cy="30456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228600" y="228600"/>
            <a:ext cx="868680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2 - identification of monitoring areas (100% agricultur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80880" y="10033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onitoring areas (100% agriculture) identified by using Africo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5029200" y="838080"/>
          <a:ext cx="3886200" cy="19051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029200" y="838080"/>
                    <a:ext cx="3886200" cy="19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"/>
          <p:cNvGraphicFramePr/>
          <p:nvPr/>
        </p:nvGraphicFramePr>
        <p:xfrm>
          <a:off x="5029200" y="2655720"/>
          <a:ext cx="3886200" cy="191628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029200" y="2655720"/>
                    <a:ext cx="3886200" cy="19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5029200" y="4483080"/>
          <a:ext cx="3886200" cy="199404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029200" y="4483080"/>
                    <a:ext cx="3886200" cy="199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504720" y="4249800"/>
          <a:ext cx="3305160" cy="334800"/>
        </p:xfrm>
        <a:graphic>
          <a:graphicData uri="http://schemas.openxmlformats.org/presentationml/2006/ole">
            <p:oleObj progId="Excel.Sheet.12" r:id="rId8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04720" y="4249800"/>
                    <a:ext cx="3305160" cy="3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 flipV="1">
            <a:off x="2133720" y="2146320"/>
            <a:ext cx="28191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133720" y="3060720"/>
            <a:ext cx="2743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133720" y="3060720"/>
            <a:ext cx="281916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-76320" y="4737240"/>
            <a:ext cx="5181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 GLC2000, croplands are always mixed with different land cover typolog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t the moment, area identification is not possi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600200" y="5486400"/>
            <a:ext cx="1905120" cy="533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83760" y="609480"/>
            <a:ext cx="255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xample of monitoring activ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11840" y="556272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0" y="0"/>
            <a:ext cx="9144000" cy="459720"/>
            <a:chOff x="0" y="0"/>
            <a:chExt cx="9144000" cy="459720"/>
          </a:xfrm>
        </p:grpSpPr>
        <p:sp>
          <p:nvSpPr>
            <p:cNvPr id="139" name=""/>
            <p:cNvSpPr/>
            <p:nvPr/>
          </p:nvSpPr>
          <p:spPr>
            <a:xfrm>
              <a:off x="0" y="0"/>
              <a:ext cx="914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Arial"/>
                </a:rPr>
                <a:t>JRC - GLC 2000 "Final Results" Workshop - Ispra 24-26/03/03</a:t>
              </a: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52280" y="228600"/>
              <a:ext cx="8763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1" name="" descr=""/>
          <p:cNvPicPr/>
          <p:nvPr/>
        </p:nvPicPr>
        <p:blipFill>
          <a:blip r:embed="rId10"/>
          <a:stretch/>
        </p:blipFill>
        <p:spPr>
          <a:xfrm>
            <a:off x="8686800" y="6459480"/>
            <a:ext cx="380880" cy="322200"/>
          </a:xfrm>
          <a:prstGeom prst="rect">
            <a:avLst/>
          </a:prstGeom>
          <a:ln w="9360">
            <a:solidFill>
              <a:srgbClr val="000080"/>
            </a:solidFill>
            <a:miter/>
          </a:ln>
        </p:spPr>
      </p:pic>
      <p:sp>
        <p:nvSpPr>
          <p:cNvPr id="142" name=""/>
          <p:cNvSpPr/>
          <p:nvPr/>
        </p:nvSpPr>
        <p:spPr>
          <a:xfrm>
            <a:off x="76320" y="1143000"/>
            <a:ext cx="304560" cy="304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4724280"/>
            <a:ext cx="44956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MPROVEMENT OF EWS BY LAND COVER DATA – Giancarlo Pini – IBIMET-CN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457200" y="685800"/>
            <a:ext cx="8381880" cy="58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GB" sz="2200" spc="-1" strike="noStrike" u="sng">
                <a:solidFill>
                  <a:srgbClr val="000000"/>
                </a:solidFill>
                <a:uFillTx/>
                <a:latin typeface="Arial"/>
              </a:rPr>
              <a:t>first test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: the main limit is the estimation of cropland area extens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GB" sz="2200" spc="-1" strike="noStrike" u="sng">
                <a:solidFill>
                  <a:srgbClr val="000000"/>
                </a:solidFill>
                <a:uFillTx/>
                <a:latin typeface="Arial"/>
              </a:rPr>
              <a:t>second test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: the main limit is the identification of area totally occupied by agriculture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limits come directly from the interpretation of the legend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agriculture areas are not clearly defined, on the contrary the croplands are mixed with different land cover typologies and in different percentages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s consequence, for the moment, it is difficult to use the GLC2000 into EW and food security analysis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8600" y="228600"/>
            <a:ext cx="838188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RESULTS and LIMITS IN APPLYING GLC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191120" y="3505320"/>
            <a:ext cx="1143000" cy="5331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91120" y="5181480"/>
            <a:ext cx="1143000" cy="533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0" y="0"/>
            <a:ext cx="9144000" cy="459720"/>
            <a:chOff x="0" y="0"/>
            <a:chExt cx="9144000" cy="459720"/>
          </a:xfrm>
        </p:grpSpPr>
        <p:sp>
          <p:nvSpPr>
            <p:cNvPr id="149" name=""/>
            <p:cNvSpPr/>
            <p:nvPr/>
          </p:nvSpPr>
          <p:spPr>
            <a:xfrm>
              <a:off x="0" y="0"/>
              <a:ext cx="914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Arial"/>
                </a:rPr>
                <a:t>JRC - GLC 2000 "Final Results" Workshop - Ispra 24-26/03/03</a:t>
              </a: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52280" y="228600"/>
              <a:ext cx="8763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8686800" y="6459480"/>
            <a:ext cx="380880" cy="322200"/>
          </a:xfrm>
          <a:prstGeom prst="rect">
            <a:avLst/>
          </a:prstGeom>
          <a:ln w="9360">
            <a:solidFill>
              <a:srgbClr val="000080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MPROVEMENT OF EWS BY LAND COVER DATA – Giancarlo Pini – IBIMET-CN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228600" y="228600"/>
            <a:ext cx="838188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GLC2000 in EW and FOOD SECURITY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914400" y="1066680"/>
            <a:ext cx="7543800" cy="51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GLC2000 </a:t>
            </a:r>
            <a:r>
              <a:rPr b="0" lang="en-GB" sz="2200" spc="-1" strike="noStrike" u="sng">
                <a:solidFill>
                  <a:srgbClr val="000000"/>
                </a:solidFill>
                <a:uFillTx/>
                <a:latin typeface="Arial"/>
              </a:rPr>
              <a:t>merits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global coverag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ossibility to be regularly updat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free access to information (internet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GLC2000 </a:t>
            </a:r>
            <a:r>
              <a:rPr b="0" lang="en-GB" sz="2200" spc="-1" strike="noStrike" u="sng">
                <a:solidFill>
                  <a:srgbClr val="000000"/>
                </a:solidFill>
                <a:uFillTx/>
                <a:latin typeface="Arial"/>
              </a:rPr>
              <a:t>limitations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lassification mainly oriented to natural vegetatio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griculture classes not clearly defined and identifi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revalence of remote sensing analysis approach, poor attention to territorial reality (field validation, utilisation of local knowledge,…..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0" y="0"/>
            <a:ext cx="9144000" cy="459720"/>
            <a:chOff x="0" y="0"/>
            <a:chExt cx="9144000" cy="459720"/>
          </a:xfrm>
        </p:grpSpPr>
        <p:sp>
          <p:nvSpPr>
            <p:cNvPr id="155" name=""/>
            <p:cNvSpPr/>
            <p:nvPr/>
          </p:nvSpPr>
          <p:spPr>
            <a:xfrm>
              <a:off x="0" y="0"/>
              <a:ext cx="914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Arial"/>
                </a:rPr>
                <a:t>JRC - GLC 2000 "Final Results" Workshop - Ispra 24-26/03/03</a:t>
              </a: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52280" y="228600"/>
              <a:ext cx="8763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8686800" y="6459480"/>
            <a:ext cx="380880" cy="322200"/>
          </a:xfrm>
          <a:prstGeom prst="rect">
            <a:avLst/>
          </a:prstGeom>
          <a:ln w="9360">
            <a:solidFill>
              <a:srgbClr val="000080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MPROVEMENT OF EWS BY LAND COVER DATA – Giancarlo Pini – IBIMET-CN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228600" y="685800"/>
            <a:ext cx="8686800" cy="56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Land Cover is a fundamental information for EW and food security analysis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t has to be accurate, clear, reliable and usable for the different international and national us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final validation has to consider the users need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by means of effective and operating networks of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LC information meets with users needs and can be used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for different applications (EW, FS,…..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666880" y="1447920"/>
            <a:ext cx="4038840" cy="457200"/>
          </a:xfrm>
          <a:prstGeom prst="downArrow">
            <a:avLst>
              <a:gd name="adj1" fmla="val 50546"/>
              <a:gd name="adj2" fmla="val 60417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419720" y="14479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666880" y="2666880"/>
            <a:ext cx="4038840" cy="457200"/>
          </a:xfrm>
          <a:prstGeom prst="downArrow">
            <a:avLst>
              <a:gd name="adj1" fmla="val 50546"/>
              <a:gd name="adj2" fmla="val 60417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495680" y="26668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666880" y="3581280"/>
            <a:ext cx="4038840" cy="457200"/>
          </a:xfrm>
          <a:prstGeom prst="downArrow">
            <a:avLst>
              <a:gd name="adj1" fmla="val 50546"/>
              <a:gd name="adj2" fmla="val 60417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343400" y="35812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h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666880" y="5105520"/>
            <a:ext cx="4038840" cy="457200"/>
          </a:xfrm>
          <a:prstGeom prst="downArrow">
            <a:avLst>
              <a:gd name="adj1" fmla="val 49926"/>
              <a:gd name="adj2" fmla="val 51736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267080" y="51055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28600" y="228600"/>
            <a:ext cx="838188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CONCLU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0" y="0"/>
            <a:ext cx="9144000" cy="459720"/>
            <a:chOff x="0" y="0"/>
            <a:chExt cx="9144000" cy="459720"/>
          </a:xfrm>
        </p:grpSpPr>
        <p:sp>
          <p:nvSpPr>
            <p:cNvPr id="169" name=""/>
            <p:cNvSpPr/>
            <p:nvPr/>
          </p:nvSpPr>
          <p:spPr>
            <a:xfrm>
              <a:off x="0" y="0"/>
              <a:ext cx="914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Arial"/>
                </a:rPr>
                <a:t>JRC - GLC 2000 "Final Results" Workshop - Ispra 24-26/03/03</a:t>
              </a: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52280" y="228600"/>
              <a:ext cx="8763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8686800" y="6459480"/>
            <a:ext cx="380880" cy="322200"/>
          </a:xfrm>
          <a:prstGeom prst="rect">
            <a:avLst/>
          </a:prstGeom>
          <a:ln w="9360">
            <a:solidFill>
              <a:srgbClr val="000080"/>
            </a:solidFill>
            <a:miter/>
          </a:ln>
        </p:spPr>
      </p:pic>
      <p:sp>
        <p:nvSpPr>
          <p:cNvPr id="172" name=""/>
          <p:cNvSpPr/>
          <p:nvPr/>
        </p:nvSpPr>
        <p:spPr>
          <a:xfrm>
            <a:off x="-1006560" y="2936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1219320" y="4343400"/>
            <a:ext cx="6172200" cy="703800"/>
            <a:chOff x="1219320" y="4343400"/>
            <a:chExt cx="6172200" cy="703800"/>
          </a:xfrm>
        </p:grpSpPr>
        <p:sp>
          <p:nvSpPr>
            <p:cNvPr id="174" name=""/>
            <p:cNvSpPr/>
            <p:nvPr/>
          </p:nvSpPr>
          <p:spPr>
            <a:xfrm>
              <a:off x="1219320" y="4343400"/>
              <a:ext cx="31240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mote sensing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and cover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29200" y="4343400"/>
              <a:ext cx="2362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users commun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ocal experti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6" name=""/>
            <p:cNvGrpSpPr/>
            <p:nvPr/>
          </p:nvGrpSpPr>
          <p:grpSpPr>
            <a:xfrm>
              <a:off x="4267080" y="4572000"/>
              <a:ext cx="762120" cy="457200"/>
              <a:chOff x="4267080" y="4572000"/>
              <a:chExt cx="762120" cy="457200"/>
            </a:xfrm>
          </p:grpSpPr>
          <p:sp>
            <p:nvSpPr>
              <p:cNvPr id="177" name=""/>
              <p:cNvSpPr/>
              <p:nvPr/>
            </p:nvSpPr>
            <p:spPr>
              <a:xfrm>
                <a:off x="4267080" y="4572000"/>
                <a:ext cx="762120" cy="457200"/>
              </a:xfrm>
              <a:prstGeom prst="leftRightArrow">
                <a:avLst>
                  <a:gd name="adj1" fmla="val 50000"/>
                  <a:gd name="adj2" fmla="val 33184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4419720" y="4648320"/>
                <a:ext cx="5331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00"/>
                    </a:solidFill>
                    <a:latin typeface="Arial"/>
                  </a:rPr>
                  <a:t>an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MPROVEMENT OF EWS BY LAND COVER DATA – Giancarlo Pini – IBIMET-CN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"/>
          <p:cNvGrpSpPr/>
          <p:nvPr/>
        </p:nvGrpSpPr>
        <p:grpSpPr>
          <a:xfrm>
            <a:off x="0" y="0"/>
            <a:ext cx="9144000" cy="459720"/>
            <a:chOff x="0" y="0"/>
            <a:chExt cx="9144000" cy="459720"/>
          </a:xfrm>
        </p:grpSpPr>
        <p:sp>
          <p:nvSpPr>
            <p:cNvPr id="180" name=""/>
            <p:cNvSpPr/>
            <p:nvPr/>
          </p:nvSpPr>
          <p:spPr>
            <a:xfrm>
              <a:off x="0" y="0"/>
              <a:ext cx="914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Arial"/>
                </a:rPr>
                <a:t>JRC - GLC 2000 "Final Results" Workshop - Ispra 24-26/03/03</a:t>
              </a: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52280" y="228600"/>
              <a:ext cx="8763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1676520" y="3048120"/>
            <a:ext cx="5790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cc66"/>
                </a:solidFill>
                <a:latin typeface="Arial"/>
              </a:rPr>
              <a:t>thank you !!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MPROVEMENT OF EWS BY LAND COVER DATA – Giancarlo Pini – IBIMET-CN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4920" y="685800"/>
            <a:ext cx="8610480" cy="18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“Eritrea EWS for Food Security and Environmental Monitoring based on Africover database”  is a pilot project, funded by FAO, to test Early Warning System development under limited data availability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2222640"/>
            <a:ext cx="8001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 Eritrea data on population, food crops, livestock, and meteorology are very limited in terms of time series and geographical distrib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pilot project has been developed in a particularly difficult environ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228600"/>
            <a:ext cx="838188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PROJECT BACKGR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86000" y="4233960"/>
            <a:ext cx="5105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ff0000"/>
                </a:solidFill>
                <a:uFillTx/>
                <a:latin typeface="Arial"/>
              </a:rPr>
              <a:t>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Data retriev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Database buil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Conceptual system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Vulnerability assessment (structural analysis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Food crisis prevention (current analysi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0"/>
            <a:ext cx="9144000" cy="459720"/>
            <a:chOff x="0" y="0"/>
            <a:chExt cx="9144000" cy="459720"/>
          </a:xfrm>
        </p:grpSpPr>
        <p:sp>
          <p:nvSpPr>
            <p:cNvPr id="50" name=""/>
            <p:cNvSpPr/>
            <p:nvPr/>
          </p:nvSpPr>
          <p:spPr>
            <a:xfrm>
              <a:off x="0" y="0"/>
              <a:ext cx="914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Arial"/>
                </a:rPr>
                <a:t>JRC - GLC 2000 "Final Results" Workshop - Ispra 24-26/03/03</a:t>
              </a: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52280" y="228600"/>
              <a:ext cx="8763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8686800" y="6459480"/>
            <a:ext cx="380880" cy="322200"/>
          </a:xfrm>
          <a:prstGeom prst="rect">
            <a:avLst/>
          </a:prstGeom>
          <a:ln w="9360">
            <a:solidFill>
              <a:srgbClr val="000080"/>
            </a:solidFill>
            <a:miter/>
          </a:ln>
        </p:spPr>
      </p:pic>
      <p:sp>
        <p:nvSpPr>
          <p:cNvPr id="53" name=""/>
          <p:cNvSpPr/>
          <p:nvPr/>
        </p:nvSpPr>
        <p:spPr>
          <a:xfrm>
            <a:off x="2743200" y="2971800"/>
            <a:ext cx="3352680" cy="533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508920" y="3048120"/>
            <a:ext cx="184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s consequ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MPROVEMENT OF EWS BY LAND COVER DATA – Giancarlo Pini – IBIMET-CN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04920" y="609480"/>
            <a:ext cx="86104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ff0000"/>
                </a:solidFill>
                <a:uFillTx/>
                <a:latin typeface="Arial"/>
              </a:rPr>
              <a:t>Databa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upgraded version of Crop Production System Zone (FAO) database using Africover and new administrative divis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long series Meteosat dekadal rainfall data and profiles related to CPSZ and selected areas (agriculture and pastor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NDVI dekadal data (1981-2000 series) and profiles related to CPSZ and selected areas (agriculture and pastor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ff0000"/>
                </a:solidFill>
                <a:uFillTx/>
                <a:latin typeface="Arial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Land characterisation based on land cover database (Africov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NDVI dekadal inter-annual variability and land characteris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Selection of monitoring area for agriculture and pasture (using Africover) and application of dekadal monitoring (rainfall and NDVI) for the season 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28600" y="228600"/>
            <a:ext cx="838188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PRESENT PROJECT PRODU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0" y="0"/>
            <a:ext cx="9144000" cy="459720"/>
            <a:chOff x="0" y="0"/>
            <a:chExt cx="9144000" cy="459720"/>
          </a:xfrm>
        </p:grpSpPr>
        <p:sp>
          <p:nvSpPr>
            <p:cNvPr id="58" name=""/>
            <p:cNvSpPr/>
            <p:nvPr/>
          </p:nvSpPr>
          <p:spPr>
            <a:xfrm>
              <a:off x="0" y="0"/>
              <a:ext cx="914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Arial"/>
                </a:rPr>
                <a:t>JRC - GLC 2000 "Final Results" Workshop - Ispra 24-26/03/03</a:t>
              </a: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52280" y="228600"/>
              <a:ext cx="8763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8686800" y="6459480"/>
            <a:ext cx="380880" cy="322200"/>
          </a:xfrm>
          <a:prstGeom prst="rect">
            <a:avLst/>
          </a:prstGeom>
          <a:ln w="9360">
            <a:solidFill>
              <a:srgbClr val="000080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MPROVEMENT OF EWS BY LAND COVER DATA – Giancarlo Pini – IBIMET-CN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28600" y="2666880"/>
            <a:ext cx="8686800" cy="33530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2590920"/>
            <a:ext cx="3635280" cy="2717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2743200" y="2597040"/>
            <a:ext cx="3660840" cy="27370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5483160" y="2597040"/>
            <a:ext cx="3660840" cy="27370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04920" y="76212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finition of zones interested by rainfed cereal culti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ased on CPS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9720" y="2208240"/>
            <a:ext cx="136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SZ (199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279960" y="1598760"/>
            <a:ext cx="24714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Zone of interest using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AO Africover databas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zone with cereal are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3000 ha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23520" y="1595520"/>
            <a:ext cx="25275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Zone of interest using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AO Africover databas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zone with cereal are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5000 ha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3962520" y="5257800"/>
            <a:ext cx="1376280" cy="4777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8600" y="228600"/>
            <a:ext cx="838188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SOME PRODUCTS obtained by LAND COVER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0" y="0"/>
            <a:ext cx="9144000" cy="459720"/>
            <a:chOff x="0" y="0"/>
            <a:chExt cx="9144000" cy="459720"/>
          </a:xfrm>
        </p:grpSpPr>
        <p:sp>
          <p:nvSpPr>
            <p:cNvPr id="72" name=""/>
            <p:cNvSpPr/>
            <p:nvPr/>
          </p:nvSpPr>
          <p:spPr>
            <a:xfrm>
              <a:off x="0" y="0"/>
              <a:ext cx="914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Arial"/>
                </a:rPr>
                <a:t>JRC - GLC 2000 "Final Results" Workshop - Ispra 24-26/03/03</a:t>
              </a: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52280" y="228600"/>
              <a:ext cx="8763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4" name="" descr=""/>
          <p:cNvPicPr/>
          <p:nvPr/>
        </p:nvPicPr>
        <p:blipFill>
          <a:blip r:embed="rId5"/>
          <a:stretch/>
        </p:blipFill>
        <p:spPr>
          <a:xfrm>
            <a:off x="8686800" y="6459480"/>
            <a:ext cx="380880" cy="322200"/>
          </a:xfrm>
          <a:prstGeom prst="rect">
            <a:avLst/>
          </a:prstGeom>
          <a:ln w="9360">
            <a:solidFill>
              <a:srgbClr val="000080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MPROVEMENT OF EWS BY LAND COVER DATA – Giancarlo Pini – IBIMET-CN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28600" y="100656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nd characterization based on the Africover database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stribution of agriculture and natural vegetation based on CPSZ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80880" y="2313000"/>
            <a:ext cx="4264200" cy="32464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4572000" y="2282760"/>
            <a:ext cx="4267080" cy="32799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380880" y="2282760"/>
            <a:ext cx="8458200" cy="3276720"/>
          </a:xfrm>
          <a:prstGeom prst="rect">
            <a:avLst/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8600" y="228600"/>
            <a:ext cx="838188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SOME PRODUCTS obtained by LAND COVER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0" y="0"/>
            <a:ext cx="9144000" cy="459720"/>
            <a:chOff x="0" y="0"/>
            <a:chExt cx="9144000" cy="459720"/>
          </a:xfrm>
        </p:grpSpPr>
        <p:sp>
          <p:nvSpPr>
            <p:cNvPr id="81" name=""/>
            <p:cNvSpPr/>
            <p:nvPr/>
          </p:nvSpPr>
          <p:spPr>
            <a:xfrm>
              <a:off x="0" y="0"/>
              <a:ext cx="914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Arial"/>
                </a:rPr>
                <a:t>JRC - GLC 2000 "Final Results" Workshop - Ispra 24-26/03/03</a:t>
              </a: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52280" y="228600"/>
              <a:ext cx="8763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8686800" y="6459480"/>
            <a:ext cx="380880" cy="322200"/>
          </a:xfrm>
          <a:prstGeom prst="rect">
            <a:avLst/>
          </a:prstGeom>
          <a:ln w="9360">
            <a:solidFill>
              <a:srgbClr val="000080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MPROVEMENT OF EWS BY LAND COVER DATA – Giancarlo Pini – IBIMET-CN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76320" y="1122480"/>
            <a:ext cx="8915400" cy="329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est of </a:t>
            </a:r>
            <a:r>
              <a:rPr b="0" lang="en-GB" sz="2200" spc="-1" strike="noStrike" u="sng">
                <a:solidFill>
                  <a:srgbClr val="000000"/>
                </a:solidFill>
                <a:uFillTx/>
                <a:latin typeface="Arial"/>
              </a:rPr>
              <a:t>Africover and GLC2000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2819520"/>
            <a:ext cx="3352680" cy="5331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228600"/>
            <a:ext cx="838188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LAND COVER DATA 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21160" y="289548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371600" y="3962520"/>
            <a:ext cx="678168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1 - simulation of coping capacity by cereal produ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2 - identification of monitoring areas with the characteristics to be totally occupied by agriculture (100%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0" y="0"/>
            <a:ext cx="9144000" cy="459720"/>
            <a:chOff x="0" y="0"/>
            <a:chExt cx="9144000" cy="459720"/>
          </a:xfrm>
        </p:grpSpPr>
        <p:sp>
          <p:nvSpPr>
            <p:cNvPr id="90" name=""/>
            <p:cNvSpPr/>
            <p:nvPr/>
          </p:nvSpPr>
          <p:spPr>
            <a:xfrm>
              <a:off x="0" y="0"/>
              <a:ext cx="914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Arial"/>
                </a:rPr>
                <a:t>JRC - GLC 2000 "Final Results" Workshop - Ispra 24-26/03/03</a:t>
              </a: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52280" y="228600"/>
              <a:ext cx="8763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8686800" y="6459480"/>
            <a:ext cx="380880" cy="322200"/>
          </a:xfrm>
          <a:prstGeom prst="rect">
            <a:avLst/>
          </a:prstGeom>
          <a:ln w="9360">
            <a:solidFill>
              <a:srgbClr val="000080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MPROVEMENT OF EWS BY LAND COVER DATA – Giancarlo Pini – IBIMET-CN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191120" y="2514600"/>
            <a:ext cx="4851360" cy="2092320"/>
          </a:xfrm>
          <a:prstGeom prst="rect">
            <a:avLst/>
          </a:prstGeom>
          <a:ln w="25560">
            <a:solidFill>
              <a:srgbClr val="000080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840600" y="684360"/>
            <a:ext cx="29588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ritrea GLC2000 v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January 20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39880" y="5256360"/>
            <a:ext cx="236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itrea Afric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191120" y="304920"/>
            <a:ext cx="4851360" cy="2101680"/>
          </a:xfrm>
          <a:prstGeom prst="rect">
            <a:avLst/>
          </a:prstGeom>
          <a:ln w="25560">
            <a:solidFill>
              <a:srgbClr val="000080"/>
            </a:solidFill>
            <a:miter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4191120" y="4724280"/>
            <a:ext cx="4851360" cy="2106720"/>
          </a:xfrm>
          <a:prstGeom prst="rect">
            <a:avLst/>
          </a:prstGeom>
          <a:ln w="25560">
            <a:solidFill>
              <a:srgbClr val="000080"/>
            </a:solidFill>
            <a:miter/>
          </a:ln>
        </p:spPr>
      </p:pic>
      <p:sp>
        <p:nvSpPr>
          <p:cNvPr id="98" name=""/>
          <p:cNvSpPr/>
          <p:nvPr/>
        </p:nvSpPr>
        <p:spPr>
          <a:xfrm>
            <a:off x="840600" y="2817720"/>
            <a:ext cx="29588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ritrea GLC2000 v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rch 20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7760" y="6186600"/>
            <a:ext cx="286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cc"/>
                </a:solidFill>
                <a:latin typeface="Arial"/>
              </a:rPr>
              <a:t>Agriculture areas in pi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6248520"/>
            <a:ext cx="762120" cy="304560"/>
          </a:xfrm>
          <a:prstGeom prst="rightArrow">
            <a:avLst>
              <a:gd name="adj1" fmla="val 50000"/>
              <a:gd name="adj2" fmla="val 62559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16200000">
            <a:off x="-2466720" y="2845800"/>
            <a:ext cx="563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OOMING ON MAIN AGRICULTURE ARE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0" y="0"/>
            <a:ext cx="9144000" cy="459720"/>
            <a:chOff x="0" y="0"/>
            <a:chExt cx="9144000" cy="459720"/>
          </a:xfrm>
        </p:grpSpPr>
        <p:sp>
          <p:nvSpPr>
            <p:cNvPr id="103" name=""/>
            <p:cNvSpPr/>
            <p:nvPr/>
          </p:nvSpPr>
          <p:spPr>
            <a:xfrm>
              <a:off x="0" y="0"/>
              <a:ext cx="914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Arial"/>
                </a:rPr>
                <a:t>JRC - GLC 2000 "Final Results" Workshop - Ispra 24-26/03/03</a:t>
              </a: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52280" y="228600"/>
              <a:ext cx="8763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MPROVEMENT OF EWS BY LAND COVER DATA – Giancarlo Pini – IBIMET-CN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28600" y="228600"/>
            <a:ext cx="838188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1 - simulation of coping capacity by cereal produ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0" y="0"/>
            <a:ext cx="9144000" cy="459720"/>
            <a:chOff x="0" y="0"/>
            <a:chExt cx="9144000" cy="45972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Arial"/>
                </a:rPr>
                <a:t>JRC - GLC 2000 "Final Results" Workshop - Ispra 24-26/03/03</a:t>
              </a: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52280" y="228600"/>
              <a:ext cx="8763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8686800" y="6459480"/>
            <a:ext cx="380880" cy="322200"/>
          </a:xfrm>
          <a:prstGeom prst="rect">
            <a:avLst/>
          </a:prstGeom>
          <a:ln w="9360">
            <a:solidFill>
              <a:srgbClr val="000080"/>
            </a:solidFill>
            <a:miter/>
          </a:ln>
        </p:spPr>
      </p:pic>
      <p:graphicFrame>
        <p:nvGraphicFramePr>
          <p:cNvPr id="110" name=""/>
          <p:cNvGraphicFramePr/>
          <p:nvPr/>
        </p:nvGraphicFramePr>
        <p:xfrm>
          <a:off x="228600" y="873000"/>
          <a:ext cx="12877920" cy="53755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873000"/>
                    <a:ext cx="12877920" cy="537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MPROVEMENT OF EWS BY LAND COVER DATA – Giancarlo Pini – IBIMET-CN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2" name=""/>
          <p:cNvGraphicFramePr/>
          <p:nvPr/>
        </p:nvGraphicFramePr>
        <p:xfrm>
          <a:off x="152280" y="977760"/>
          <a:ext cx="9258480" cy="4965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977760"/>
                    <a:ext cx="9258480" cy="496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4" name=""/>
          <p:cNvGrpSpPr/>
          <p:nvPr/>
        </p:nvGrpSpPr>
        <p:grpSpPr>
          <a:xfrm>
            <a:off x="0" y="0"/>
            <a:ext cx="9144000" cy="459720"/>
            <a:chOff x="0" y="0"/>
            <a:chExt cx="9144000" cy="45972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914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Arial"/>
                </a:rPr>
                <a:t>JRC - GLC 2000 "Final Results" Workshop - Ispra 24-26/03/03</a:t>
              </a: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52280" y="228600"/>
              <a:ext cx="8763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8686800" y="6459480"/>
            <a:ext cx="380880" cy="322200"/>
          </a:xfrm>
          <a:prstGeom prst="rect">
            <a:avLst/>
          </a:prstGeom>
          <a:ln w="9360">
            <a:solidFill>
              <a:srgbClr val="000080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MPROVEMENT OF EWS BY LAND COVER DATA – Giancarlo Pini – IBIMET-CN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3:25:27Z</dcterms:created>
  <dc:creator>g</dc:creator>
  <dc:description/>
  <dc:language>en-US</dc:language>
  <cp:lastModifiedBy>hartlan</cp:lastModifiedBy>
  <dcterms:modified xsi:type="dcterms:W3CDTF">2003-04-17T16:06:46Z</dcterms:modified>
  <cp:revision>155</cp:revision>
  <dc:subject/>
  <dc:title>Nessun titolo diapositiva</dc:title>
</cp:coreProperties>
</file>