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3ED-7CA6-4DC4-810B-7A9C302C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C77-398B-4828-927B-C0CCC62E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922-814B-44EA-BCF6-A7142985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B86-B733-477D-89AC-B819BE06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8A7-27CD-4503-8F40-FCF463D1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0B2-A465-48DC-A8CF-732D498C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834-0849-4B1A-A13E-EC668617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EC0-F770-4E63-9DA8-87A47E7A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966-89DA-4B83-B51E-2CB08B89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D3B-8AC3-455E-A19A-2A0BE456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FE7-A1D2-4E5B-9A8A-49F97D16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508-7C08-4BDC-9E40-7431320E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5990-7198-4D22-86B6-C34AFF1D4E1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05120"/>
            <a:ext cx="914400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CLIMAP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A GLOBAL DATABASE OF LAND SURFACE PARAMETERS AT 1KM RESOLUTION </a:t>
            </a: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L. CHAMPEAUX</a:t>
            </a:r>
            <a:r>
              <a:rPr b="1" lang="fr-F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V. MASSON, F. CHAUV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O-FRANCE/CNRM, 42, Av Coriolis, 31057 Toulouse Cedex, Fr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ph : (0)5 61 07 93 55, Fax : (0)5 61 07 96 26, email : Jean-louis.champeaux@meteo.f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s-clé : Landcover,surface  parameters, leaf area index, atmospheric mod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40652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14680" y="-100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00200" y="-152280"/>
            <a:ext cx="6119640" cy="89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-1066680"/>
            <a:ext cx="6199200" cy="8978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71600" y="62485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LAI=LAI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m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(LAI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-LAI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m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) * (NDVI-NDVI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m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)/(NDVI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-NDVI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m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fr-FR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18080" y="609588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af Area Index for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21000" y="59086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nual mean Albe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6858000" cy="678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88560" y="-34920"/>
            <a:ext cx="193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paris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A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OCLI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in Y-ax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AI in si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in X-ax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4824360" cy="7010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" y="228600"/>
            <a:ext cx="1939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pa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AI J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etw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OCLI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L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SCLSC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-76320"/>
            <a:ext cx="4370400" cy="6934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3657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ily Tmax Anomalie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years of  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y  compa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ith the climatolog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RU(1961-199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or  ECOCLI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d the old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Henderson-Sel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54360" y="685800"/>
            <a:ext cx="72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08360" y="2895480"/>
            <a:ext cx="75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55800" y="4800600"/>
            <a:ext cx="75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94000" y="1523880"/>
            <a:ext cx="4357800" cy="1191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ject: UPDATE ECOCLI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sing GLC2000 landcover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d Corine 2000 for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971800"/>
            <a:ext cx="8566200" cy="19227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tribution of the GLC 2000 land cover map at global sca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Consistent legend with LCCS class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ood description of the different bi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al 1km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760" y="5181480"/>
            <a:ext cx="8610480" cy="825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he knowledge of regional experts will be very useful to spec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he surface parameters: fraction of vegetation, LAI 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760" y="228600"/>
            <a:ext cx="8610480" cy="862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HE DATABASE IS AVAILABLE ON THE WEB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ttp://www.cnrm.meteo.fr/gmme/PROJETS/ECOCLIMAP/page_ecoclimap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406520" cy="400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129120" y="7621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LUS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1000" y="1905120"/>
            <a:ext cx="731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lobal database of surface parameters at  1km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minimum)   complete, robust and  et coh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sed in all the operational NWP and research mode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f Meteo-Fr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ARPEGE CLI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ARPEGE NW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ALAD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MESO-N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10120" y="762120"/>
            <a:ext cx="4133880" cy="586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6440" y="803160"/>
            <a:ext cx="5045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put paramet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epending  on  s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ercentage of  sand and c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oil dep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epending on vege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raction of végétation (VE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af area index (LA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Minimal stomatal re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ugosity (Z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épending on soil and vege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lbe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Emiss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914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Times New Roman"/>
              </a:rPr>
              <a:t>Atmospheric for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5029200"/>
            <a:ext cx="4343400" cy="1828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685800"/>
            <a:ext cx="457200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685800"/>
            <a:ext cx="304920" cy="4648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92000" y="2286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VAT SCH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2743200" cy="198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 pro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D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A/AVH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SPOT/VG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304920"/>
            <a:ext cx="2743200" cy="160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d c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52280"/>
            <a:ext cx="2743200" cy="160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imate ma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1828800"/>
            <a:ext cx="16002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2590920"/>
            <a:ext cx="2743200" cy="160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25 eco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19051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1981080"/>
            <a:ext cx="9907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029200"/>
            <a:ext cx="2743200" cy="160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tabas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1911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209680"/>
            <a:ext cx="1905120" cy="304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191120"/>
            <a:ext cx="1752480" cy="1143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l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019560" y="5105520"/>
            <a:ext cx="10666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76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080" y="6035760"/>
            <a:ext cx="71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d cover map at 1km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University of Marylan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176040"/>
            <a:ext cx="9144000" cy="7064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365840" y="6172200"/>
            <a:ext cx="641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rine Land cover over Europe at 250m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203040"/>
            <a:ext cx="9144000" cy="7061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66200" y="617220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imate global map (Koeppe et de Lond, 195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829480" cy="7543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17000" y="609588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fférent crop typ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5440" y="27432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fferent woodland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87120" y="6095880"/>
            <a:ext cx="67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DVI profiles (Wooded grassland, closed shrubl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7:54:27Z</dcterms:created>
  <dc:creator>champjl</dc:creator>
  <dc:description/>
  <dc:language>en-US</dc:language>
  <cp:lastModifiedBy>hartlan</cp:lastModifiedBy>
  <dcterms:modified xsi:type="dcterms:W3CDTF">2003-04-17T16:06:19Z</dcterms:modified>
  <cp:revision>32</cp:revision>
  <dc:subject/>
  <dc:title>Présentation PowerPoint</dc:title>
</cp:coreProperties>
</file>