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1.jpeg" ContentType="image/jpe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22.jpeg" ContentType="image/jpeg"/>
  <Override PartName="/ppt/media/image14.jpeg" ContentType="image/jpeg"/>
  <Override PartName="/ppt/media/image16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9184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0316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8052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9184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0316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12360" y="-360"/>
            <a:ext cx="79167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-36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723080" y="6172200"/>
            <a:ext cx="1420920" cy="577800"/>
            <a:chOff x="7723080" y="6172200"/>
            <a:chExt cx="1420920" cy="577800"/>
          </a:xfrm>
        </p:grpSpPr>
        <p:sp>
          <p:nvSpPr>
            <p:cNvPr id="4" name=""/>
            <p:cNvSpPr/>
            <p:nvPr/>
          </p:nvSpPr>
          <p:spPr>
            <a:xfrm>
              <a:off x="772308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88240" y="666288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70680" y="666288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32600" y="666108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3592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9784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4720" y="665964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46880" y="665964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64240" y="666108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43800" y="666108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9200" y="665964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40720" y="66596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745480" y="666288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77160" y="666108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43760" y="666108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45280" y="666108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47160" y="665964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86560" y="617868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53160" y="617364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00760" y="617868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36040" y="617220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56640" y="617868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0240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9312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65840" y="632952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980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27840" y="632628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5636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935920" y="632952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48600" y="633096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94480" y="648324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508960" y="648504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91400" y="647856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708760" y="648504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793000" y="648504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878680" y="648504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15400" y="666288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145200"/>
            <a:ext cx="9176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6334200"/>
            <a:ext cx="108432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 of the GLC2000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ilippe Mayau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emple in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2640" y="915840"/>
            <a:ext cx="8116920" cy="502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2640" y="915840"/>
            <a:ext cx="8116920" cy="502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12640" y="915840"/>
            <a:ext cx="81169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-based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Objective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o provide a statistical assessment of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ccuracy by clas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overall accurac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e global map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straints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udge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(data, interpreta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atial complexity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easona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5032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issues for th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078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Sampling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issues (scheme, frame, siz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Reference material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nature, interpreta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Accurac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statements (contigency matrix, fuzzy logic, double regress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ingle pixels or pixel block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pscaling of 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legend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(mosaic classes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Spatial patter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(linear, massive, diffus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Rar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classes important for several us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niversal datas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ailed discussion during the CEOS workshop “Validation of Global Land-Cover Products”, 27-28 Mar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1712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-cover clas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275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1219320" y="2895480"/>
          <a:ext cx="6781680" cy="323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95480"/>
                    <a:ext cx="678168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2962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1981080" y="2590920"/>
          <a:ext cx="5562720" cy="398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590920"/>
                    <a:ext cx="55627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cover area per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125360"/>
          <a:ext cx="8485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485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ampling equally distributed per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052640"/>
          <a:ext cx="849600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4960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sampling per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981000"/>
          <a:ext cx="871380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7138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sampling per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990720"/>
          <a:ext cx="868680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87200" y="990720"/>
          <a:ext cx="8775720" cy="44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990720"/>
                    <a:ext cx="87757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sampling per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C 2000 validation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fidence-building meth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ystematic review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experts and comparison with reference 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sign-based meth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Quantitative accuracy assessment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produc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sing a stratified random sampling of high-resolution sites (in agreement with the CEOS-IGOS recommendation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360" y="152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referenc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ference materia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high spatial resolution interpret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NES &amp; NASA / USGS / UNEP-GRI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sting sources of image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pretation b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ocal expe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ery-well focused (better 1 or 2 good experts than a pool of less qualified expert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acts with GVM Unit when necessary (realised on-sit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isual interpre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CCS-based interpret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high-resolution im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66800" y="633240"/>
            <a:ext cx="5810400" cy="5591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66800" y="609480"/>
            <a:ext cx="5810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1712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jectives of the qualit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o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void macroscopic error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before the quantitative accuracy 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Wrong labels &amp; limi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Inter- and intra-continental inconsistenc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ocation of the errors (thematic or geographical)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improve the global acceptance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f GLC2000 produc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llaboration with local partn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1712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-build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ematic descriptive protocol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o document the verification per cell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proposed size = 2 by 2 degrees at the equator ~ 50,000 km</a:t>
            </a:r>
            <a:r>
              <a:rPr b="0" lang="en-GB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e of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cillary data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(maps, Landsat &amp; SPOT images, aerial photographs…),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ert opinion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intrinsic properties of the datase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temporal profiles, colour composites…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chive the evaluation in a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databa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alitative validation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3080" y="1752480"/>
            <a:ext cx="8458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check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of the expe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Type of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reference mater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: high-resolution image, quick-look, thematic map, aerial photograph, field photograp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patial patter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: from homogenous to heterogeneou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(4 level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Overall qual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of the GLC product, very good, good, acceptable, unaccept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C classe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well-identifie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and LC classe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oorly identifi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ature of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roble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: label, limit, missing class, oth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of the qualit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Arial"/>
              </a:rPr>
              <a:t>Regions covered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: Eurasia, Asia, Scandinavia, Africa,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840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16760" cy="6098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1720" y="2289240"/>
          <a:ext cx="8102520" cy="272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2289240"/>
                    <a:ext cx="810252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16760" cy="60948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in 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7320" y="1676520"/>
            <a:ext cx="8829360" cy="222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7320" y="1676520"/>
            <a:ext cx="8816760" cy="221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7320" y="1676520"/>
            <a:ext cx="878508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7:04:00Z</dcterms:created>
  <dc:creator>Philippe Mayaux</dc:creator>
  <dc:description/>
  <dc:language>en-US</dc:language>
  <cp:lastModifiedBy>hartlan</cp:lastModifiedBy>
  <dcterms:modified xsi:type="dcterms:W3CDTF">2003-04-17T16:08:01Z</dcterms:modified>
  <cp:revision>50</cp:revision>
  <dc:subject/>
  <dc:title>The TREES Project</dc:title>
</cp:coreProperties>
</file>