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928000" cy="106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http://www.gvm.jrc.it/glc2000/Products/Metadata/RegionalProductInfo.asp?hola=Africa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duct Availability via the GLC2000 Websi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1062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4572000" y="5029200"/>
            <a:ext cx="4253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ew Hart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C2000 Web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 : andrew.hartley@jrc.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743200"/>
            <a:ext cx="80010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ff"/>
                </a:solidFill>
                <a:uFillTx/>
                <a:latin typeface="Arial"/>
              </a:rPr>
              <a:t>http://www.gvm.jrc.it/glc2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2743200"/>
            <a:ext cx="80010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ff"/>
                </a:solidFill>
                <a:uFillTx/>
                <a:latin typeface="Arial"/>
              </a:rPr>
              <a:t>http://www.gvm.jrc.it/glc2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81080" y="44197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ail : andrew.hartley@jrc.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1062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52480" y="24382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the sit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34290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adata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44197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wnload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3422880" cy="218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928000" cy="1062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38080" y="50292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tion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24280" y="3200400"/>
            <a:ext cx="4038840" cy="139212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1981080" y="3733920"/>
            <a:ext cx="3505320" cy="1447560"/>
            <a:chOff x="1981080" y="3733920"/>
            <a:chExt cx="3505320" cy="1447560"/>
          </a:xfrm>
        </p:grpSpPr>
        <p:sp>
          <p:nvSpPr>
            <p:cNvPr id="53" name=""/>
            <p:cNvSpPr/>
            <p:nvPr/>
          </p:nvSpPr>
          <p:spPr>
            <a:xfrm>
              <a:off x="3200400" y="5181480"/>
              <a:ext cx="2286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1981080" y="3733920"/>
              <a:ext cx="2667240" cy="304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5638680" y="50292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5562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kie stored on user’s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1294920"/>
            <a:ext cx="4038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1062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216240" cy="4843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643280" y="2590920"/>
            <a:ext cx="3873600" cy="144468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1979640" y="2514600"/>
            <a:ext cx="2439720" cy="1922400"/>
            <a:chOff x="1979640" y="2514600"/>
            <a:chExt cx="2439720" cy="1922400"/>
          </a:xfrm>
        </p:grpSpPr>
        <p:sp>
          <p:nvSpPr>
            <p:cNvPr id="62" name=""/>
            <p:cNvSpPr/>
            <p:nvPr/>
          </p:nvSpPr>
          <p:spPr>
            <a:xfrm flipV="1">
              <a:off x="1979640" y="2514600"/>
              <a:ext cx="2291760" cy="19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3384360" y="2674080"/>
              <a:ext cx="1035000" cy="176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427640" y="20858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wnload recorded i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700360" y="4648320"/>
            <a:ext cx="1795320" cy="21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44197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nk to a Metadata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995720"/>
            <a:ext cx="3887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ditable by GLC2000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iewed by the internet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lies with ISO stand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6075360"/>
            <a:ext cx="388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gvm.jrc.it/glc2000/Products/Metadata/RegionalProductInfo.asp?hola=Afr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14440" y="1219320"/>
            <a:ext cx="4419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roducts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tistics - Regist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220968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Registrations 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5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n 3 months, of which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19520" y="3581280"/>
            <a:ext cx="3124080" cy="3086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" y="37339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from approx.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itutions world-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31240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9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pressed an interest in ‘Global Landcover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26668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9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wnloaded at least 1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419112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tional Organisations – World Bank, UN, FAO,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4648320"/>
            <a:ext cx="69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ies – Brasilia, Maryland, Addis Ababa, Moscow, Mun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510552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onal / International Institutions – NASA, European Forest Institute, CIRAD, Syktyvkar Forest In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244520"/>
            <a:ext cx="914400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430280"/>
            <a:ext cx="8839080" cy="5427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90920" y="12193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Daily Down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66680" y="29718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download ‘clicks’ 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12949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atistics – Downlo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43434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s added at different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22860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lick is recorded in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36576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on totals normalised to account for multiple cli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14600" y="1295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ownloads, per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867280" y="236232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-1295280" y="1600200"/>
            <a:ext cx="927576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13:30:24Z</dcterms:created>
  <dc:creator>hartlan</dc:creator>
  <dc:description/>
  <dc:language>en-US</dc:language>
  <cp:lastModifiedBy>hartlan</cp:lastModifiedBy>
  <dcterms:modified xsi:type="dcterms:W3CDTF">2003-04-23T08:00:49Z</dcterms:modified>
  <cp:revision>10</cp:revision>
  <dc:subject/>
  <dc:title>Product Availability via the GLC2000 Websi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96075387</vt:r8>
  </property>
  <property fmtid="{D5CDD505-2E9C-101B-9397-08002B2CF9AE}" pid="3" name="_AuthorEmail">
    <vt:lpwstr>andyandlucyinitaly@libero.it</vt:lpwstr>
  </property>
  <property fmtid="{D5CDD505-2E9C-101B-9397-08002B2CF9AE}" pid="4" name="_AuthorEmailDisplayName">
    <vt:lpwstr>Lucy Mottram</vt:lpwstr>
  </property>
  <property fmtid="{D5CDD505-2E9C-101B-9397-08002B2CF9AE}" pid="5" name="_EmailSubject">
    <vt:lpwstr>presentation</vt:lpwstr>
  </property>
  <property fmtid="{D5CDD505-2E9C-101B-9397-08002B2CF9AE}" pid="6" name="_ReviewingToolsShownOnce">
    <vt:lpwstr/>
  </property>
</Properties>
</file>