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DF4-3481-4972-83B7-9589EE3C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1B1-575E-47C6-A1AC-914C977F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01F-A3B4-467B-ADEF-E5B2F40A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C94-815A-4002-A2B6-F90FF754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69A-8D02-425C-AA33-359E89F5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7AD-BCAC-4B36-92C4-1BBAE97B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49C-1F5C-494B-86F5-F2B90E54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7CB-BF2B-4957-9BEF-A9FE8B39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C84-B9B3-4AAD-8C2B-E4FC5236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DD7-AFCE-473C-98B8-B8806BDD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E36-5082-4224-84F6-7ECBDE77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CE7-2EA7-45BA-A745-A3D36142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C707-2BE4-4014-B18E-DD029B1C0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12040" y="6324480"/>
            <a:ext cx="831960" cy="435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370560"/>
            <a:ext cx="63972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914400"/>
            <a:ext cx="716292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The Global Burnt Area 2000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GBA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pping, from SPOT-VEGETATION S1 imagery, of the areas burnt globally during the year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-M. Grégoire &amp; K. Tans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. Binaghi, L. Boschetti, P.A. Brivio, D. Ershov, S. Flasse, R. Fraser, D. Graetz, M. Maggi, P. Peduzzi, J.M.C. Pereira, J.M.N. Silva, A. Sousa and D. Stroppi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ch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6320" y="1085760"/>
          <a:ext cx="53316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85760"/>
                    <a:ext cx="53316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06160" y="4906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GBA-2000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371600"/>
            <a:ext cx="74646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 binary map (burnt-unbur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non-accumulative global burn scar map,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km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statistics of burnt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burnt in 2000 per country, per month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main types of vegetation c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1923" r="0" b="3846"/>
          <a:stretch/>
        </p:blipFill>
        <p:spPr>
          <a:xfrm>
            <a:off x="1852560" y="3124080"/>
            <a:ext cx="5438880" cy="3581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6598" t="2704" r="11598" b="2704"/>
          <a:stretch/>
        </p:blipFill>
        <p:spPr>
          <a:xfrm>
            <a:off x="2701800" y="3124080"/>
            <a:ext cx="3740400" cy="3514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11039" t="2131" r="3447" b="2131"/>
          <a:stretch/>
        </p:blipFill>
        <p:spPr>
          <a:xfrm>
            <a:off x="2209680" y="3124080"/>
            <a:ext cx="47246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63680" y="304920"/>
            <a:ext cx="8216640" cy="2651040"/>
            <a:chOff x="463680" y="304920"/>
            <a:chExt cx="8216640" cy="2651040"/>
          </a:xfrm>
        </p:grpSpPr>
        <p:pic>
          <p:nvPicPr>
            <p:cNvPr id="52" name="" descr=""/>
            <p:cNvPicPr/>
            <p:nvPr/>
          </p:nvPicPr>
          <p:blipFill>
            <a:blip r:embed="rId4"/>
            <a:srcRect l="0" t="0" r="0" b="49990"/>
            <a:stretch/>
          </p:blipFill>
          <p:spPr>
            <a:xfrm>
              <a:off x="463680" y="304920"/>
              <a:ext cx="8216640" cy="26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398040" y="2362320"/>
              <a:ext cx="421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tal annual burned area estimated at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3.5 million k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 600,000 burn scars det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/>
          <a:srcRect l="1808" t="3318" r="1808" b="3318"/>
          <a:stretch/>
        </p:blipFill>
        <p:spPr>
          <a:xfrm>
            <a:off x="1905120" y="3276720"/>
            <a:ext cx="5333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" dur="1" fill="hold"/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482840"/>
            <a:ext cx="4049640" cy="3890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689280"/>
            <a:ext cx="1919160" cy="993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7640" y="5565600"/>
            <a:ext cx="421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ric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annual burned area estimated a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.6 million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300,000 burn scars det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800" y="762120"/>
            <a:ext cx="375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sonal distribution of burning activity in 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the Year 20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rcRect l="4745" t="2752" r="4745" b="1456"/>
          <a:stretch/>
        </p:blipFill>
        <p:spPr>
          <a:xfrm>
            <a:off x="4419720" y="609480"/>
            <a:ext cx="4724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361320" y="2286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More on GBA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3360" y="762120"/>
            <a:ext cx="8318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sey K., 200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 regional burnt area algorithms for the GBA2000 initi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ublications of the European Commis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EUR 20532, December 2002, pp. 1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sey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., J-M. Grégoire, I. Marengo, L. Boschetti, P.A. Brivio, D. Ershov, R. Fras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. Maggi, P. Peduzzi, J.M.C. Pereira, J.M.N. Silva and D. Stroppiana , 2002, A global 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burnt vegetation at 1km resolution for the year 2000 derived from SPOT VG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antifying Terrestrial Carbon Sink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ngen, Switzerland, Sep. 25 - 27, 200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matic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eview phase, March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égoire J-M., K. Tansey, and J.M.N. Silva, 2003, The GBA2000 initiative: Develo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global burned area database from SPOT-VEGETATION imag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nt. J. Remote Sens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Volume 24, Number 6/March 20, 2003, 1369 - 137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sey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. et al., 2003,Vegetation burning in the year 2000: Global burned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s from SPOT VEGETATION data,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J. of Geophysical Resear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pecial Issue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Trace Gaz Emissions from Biomass Burning, submitted, March 2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960" y="4981680"/>
            <a:ext cx="791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ttp://www.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gvm.jr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it/fire/gba2000/index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ttp://www.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grid.une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ch/activities/earlywarning/preview/ims/gba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5960" y="57960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8880" y="31240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lection of GBA2000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05160" y="30481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3809880"/>
            <a:ext cx="358164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 init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land products 1998-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PAR &amp; L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645160" y="2743200"/>
            <a:ext cx="212724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3:05:39Z</dcterms:created>
  <dc:creator>Tansey</dc:creator>
  <dc:description/>
  <dc:language>en-US</dc:language>
  <cp:lastModifiedBy>hartlan</cp:lastModifiedBy>
  <dcterms:modified xsi:type="dcterms:W3CDTF">2003-04-17T16:07:10Z</dcterms:modified>
  <cp:revision>15</cp:revision>
  <dc:subject/>
  <dc:title>PowerPoint Presentation</dc:title>
</cp:coreProperties>
</file>