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12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3A06-F7FC-4DAE-B43C-AB2511F0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557-08B3-4764-B987-E5A926C5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B0FB-B3B5-4D97-A16E-26071DA0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E8A-E70C-4987-B932-CD589E95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538-3E24-4726-BF71-0BC9A543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526-1748-47A7-8072-FE1572B3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E35-3D16-4FEA-B5AD-2601A7AC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8EB-E189-4DD1-86BE-63B477ED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B4CB-B430-4AFF-81F0-53F024B5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8BD-B224-4AE9-A49F-05A310D4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191-3547-4E29-ACE5-2F70EA65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B35-49F7-48C8-AF98-650CE27C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8E1C-8EB8-4481-BA71-6F9B5CA6C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12040" y="6324480"/>
            <a:ext cx="831960" cy="4352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370560"/>
            <a:ext cx="63972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43000" y="914400"/>
            <a:ext cx="7162920" cy="50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The Global Burnt Area 2000 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GBA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apping, from SPOT-VEGETATION S1 imagery, of the areas burnt globally during the year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Final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-M. Grégoire &amp; K. Tans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. Binaghi, L. Boschetti, P.A. Brivio, D. Ershov, S. Flasse, R. Fraser, D. Graetz, M. Maggi, P. Peduzzi, J.M.C. Pereira, J.M.N. Silva, A. Sousa and D. Stroppia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arch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6320" y="1085760"/>
          <a:ext cx="53316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085760"/>
                    <a:ext cx="53316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06160" y="49068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GBA-2000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371600"/>
            <a:ext cx="74646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a binary map (burnt-unbur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ly non-accumulative global burn scar map, 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km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statistics of burnt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burnt in 2000 per country, per month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main types of vegetation c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1923" r="0" b="3846"/>
          <a:stretch/>
        </p:blipFill>
        <p:spPr>
          <a:xfrm>
            <a:off x="1852560" y="3124080"/>
            <a:ext cx="5438880" cy="3581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6598" t="2704" r="11598" b="2704"/>
          <a:stretch/>
        </p:blipFill>
        <p:spPr>
          <a:xfrm>
            <a:off x="2701800" y="3124080"/>
            <a:ext cx="3740400" cy="3514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11039" t="2131" r="3447" b="2131"/>
          <a:stretch/>
        </p:blipFill>
        <p:spPr>
          <a:xfrm>
            <a:off x="2209680" y="3124080"/>
            <a:ext cx="4724640" cy="3429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463680" y="304920"/>
            <a:ext cx="8216640" cy="2651040"/>
            <a:chOff x="463680" y="304920"/>
            <a:chExt cx="8216640" cy="2651040"/>
          </a:xfrm>
        </p:grpSpPr>
        <p:pic>
          <p:nvPicPr>
            <p:cNvPr id="52" name="" descr=""/>
            <p:cNvPicPr/>
            <p:nvPr/>
          </p:nvPicPr>
          <p:blipFill>
            <a:blip r:embed="rId4"/>
            <a:srcRect l="0" t="0" r="0" b="49990"/>
            <a:stretch/>
          </p:blipFill>
          <p:spPr>
            <a:xfrm>
              <a:off x="463680" y="304920"/>
              <a:ext cx="8216640" cy="26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398040" y="2362320"/>
              <a:ext cx="421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tal annual burned area estimated at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3.5 million km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&gt; 600,000 burn scars dete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/>
          <a:srcRect l="1808" t="3318" r="1808" b="3318"/>
          <a:stretch/>
        </p:blipFill>
        <p:spPr>
          <a:xfrm>
            <a:off x="1905120" y="3276720"/>
            <a:ext cx="53337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" dur="1" fill="hold"/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1482840"/>
            <a:ext cx="4049640" cy="3890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3689280"/>
            <a:ext cx="1919160" cy="993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7640" y="5565600"/>
            <a:ext cx="421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ric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tal annual burned area estimated at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2.6 million k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300,000 burn scars det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800" y="762120"/>
            <a:ext cx="375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sonal distribution of burning activity in Af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the Year 20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rcRect l="4745" t="2752" r="4745" b="1456"/>
          <a:stretch/>
        </p:blipFill>
        <p:spPr>
          <a:xfrm>
            <a:off x="4419720" y="609480"/>
            <a:ext cx="4724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361320" y="22860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More on GBA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3360" y="762120"/>
            <a:ext cx="83188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sey K., 200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of regional burnt area algorithms for the GBA2000 initi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ublications of the European Commis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EUR 20532, December 2002, pp. 1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sey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., J-M. Grégoire, I. Marengo, L. Boschetti, P.A. Brivio, D. Ershov, R. Fras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. Maggi, P. Peduzzi, J.M.C. Pereira, J.M.N. Silva and D. Stroppiana , 2002, A global 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burnt vegetation at 1km resolution for the year 2000 derived from SPOT VG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uantifying Terrestrial Carbon Sink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engen, Switzerland, Sep. 25 - 27, 200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matic 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eview phase, March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égoire J-M., K. Tansey, and J.M.N. Silva, 2003, The GBA2000 initiative: Develo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global burned area database from SPOT-VEGETATION imag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Int. J. Remote Sensin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Volume 24, Number 6/March 20, 2003, 1369 - 137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sey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. et al., 2003,Vegetation burning in the year 2000: Global burned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s from SPOT VEGETATION data,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J. of Geophysical Resear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special Issue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Trace Gaz Emissions from Biomass Burning, submitted, March 200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960" y="4981680"/>
            <a:ext cx="791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ttp://www.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gvm.jr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it/fire/gba2000/index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ttp://www.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grid.une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ch/activities/earlywarning/preview/ims/gba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5960" y="579600"/>
            <a:ext cx="21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8880" y="31240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lection of GBA2000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05160" y="30481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3809880"/>
            <a:ext cx="358164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 init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land products 1998-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PAR &amp; L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645160" y="2743200"/>
            <a:ext cx="212724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3:05:39Z</dcterms:created>
  <dc:creator>Tansey</dc:creator>
  <dc:description/>
  <dc:language>en-US</dc:language>
  <cp:lastModifiedBy>hartlan</cp:lastModifiedBy>
  <dcterms:modified xsi:type="dcterms:W3CDTF">2003-04-17T16:07:10Z</dcterms:modified>
  <cp:revision>15</cp:revision>
  <dc:subject/>
  <dc:title>PowerPoint Presentation</dc:title>
</cp:coreProperties>
</file>