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6640"/>
            <a:ext cx="830592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05740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05740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664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6664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66640"/>
            <a:ext cx="26744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830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6664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057400"/>
            <a:ext cx="405324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6640"/>
            <a:ext cx="830592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0" y="62485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ROS 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74600" y="228600"/>
            <a:ext cx="1321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213-74CA-470E-AFFA-C4C2E813C51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.br.ini. 5/11/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361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C-2000 North America: Classification and Results Valid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dra Gi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IC, EROS Data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hiliang Z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GS, EROS Data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9424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ed at the GLC 2000 Final Results Workshop Organized by Joint Research Center, Ispra, Italy from 24-26, March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er of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05120" y="1295280"/>
            <a:ext cx="5562360" cy="4800600"/>
            <a:chOff x="1905120" y="1295280"/>
            <a:chExt cx="5562360" cy="48006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905120" y="1295280"/>
              <a:ext cx="55623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 txBox="1"/>
            <p:nvPr/>
          </p:nvSpPr>
          <p:spPr>
            <a:xfrm>
              <a:off x="2689200" y="2012760"/>
              <a:ext cx="891360" cy="10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raf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C-2000 NA Classification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d Modified FGDC Classification and LC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upervised Class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erative Lab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C-2000 NA Results 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d11"/>
                </a:solidFill>
                <a:latin typeface="Arial"/>
              </a:rPr>
              <a:t>A. Qualitativ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d11"/>
                </a:solidFill>
                <a:latin typeface="Arial"/>
              </a:rPr>
              <a:t>B. Quantitativ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window divided into 3 sub-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 -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 -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o, CA, Caribbean – On-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d61"/>
                </a:solidFill>
                <a:latin typeface="Arial"/>
              </a:rPr>
              <a:t>USA- Referenc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Land Cover Data (NL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at ET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st Cover Types from National Atlas of th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343400"/>
            <a:ext cx="6476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land cov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zed random samp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50 sample points 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58128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d11"/>
                </a:solidFill>
                <a:latin typeface="Arial"/>
                <a:ea typeface="Arial"/>
              </a:rPr>
              <a:t>Accuracy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28600" y="1163520"/>
          <a:ext cx="8686800" cy="4094280"/>
        </p:xfrm>
        <a:graphic>
          <a:graphicData uri="http://schemas.openxmlformats.org/drawingml/2006/table">
            <a:tbl>
              <a:tblPr/>
              <a:tblGrid>
                <a:gridCol w="1066680"/>
                <a:gridCol w="831960"/>
                <a:gridCol w="793800"/>
                <a:gridCol w="793800"/>
                <a:gridCol w="590400"/>
                <a:gridCol w="679680"/>
                <a:gridCol w="806400"/>
                <a:gridCol w="793800"/>
                <a:gridCol w="691920"/>
                <a:gridCol w="819360"/>
                <a:gridCol w="819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889080" y="5259240"/>
            <a:ext cx="41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Accuracy = 66.3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8280" y="562284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Coefficient = 0.622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6320"/>
            <a:ext cx="899136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uracy Assessment Without Smo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1163520"/>
          <a:ext cx="8686800" cy="4094280"/>
        </p:xfrm>
        <a:graphic>
          <a:graphicData uri="http://schemas.openxmlformats.org/drawingml/2006/table">
            <a:tbl>
              <a:tblPr/>
              <a:tblGrid>
                <a:gridCol w="1066680"/>
                <a:gridCol w="831960"/>
                <a:gridCol w="793800"/>
                <a:gridCol w="793800"/>
                <a:gridCol w="590400"/>
                <a:gridCol w="679680"/>
                <a:gridCol w="806400"/>
                <a:gridCol w="793800"/>
                <a:gridCol w="691920"/>
                <a:gridCol w="819360"/>
                <a:gridCol w="819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r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886200" y="52592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Accuracy =68.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8280" y="562284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pa Coefficient =0.656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76320"/>
            <a:ext cx="899136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uracy Assessment With Smo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C-2000 NA Observations/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t areas better discriminated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2183" b="4000"/>
          <a:stretch/>
        </p:blipFill>
        <p:spPr>
          <a:xfrm>
            <a:off x="3352680" y="2666880"/>
            <a:ext cx="5410440" cy="2705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200" y="5410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11"/>
                </a:solidFill>
                <a:latin typeface="Times New Roman"/>
              </a:rPr>
              <a:t>GLC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424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ed11"/>
                </a:solidFill>
                <a:latin typeface="Times New Roman"/>
              </a:rPr>
              <a:t>IG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41877" t="21202" r="10000" b="21202"/>
          <a:stretch/>
        </p:blipFill>
        <p:spPr>
          <a:xfrm>
            <a:off x="457200" y="2666880"/>
            <a:ext cx="289548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4495680"/>
            <a:ext cx="3124440" cy="762120"/>
          </a:xfrm>
          <a:prstGeom prst="line">
            <a:avLst/>
          </a:prstGeom>
          <a:ln w="12600">
            <a:solidFill>
              <a:srgbClr val="f9fd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1320" y="1219320"/>
            <a:ext cx="71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Inclusion of climate/eco-region information 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C-2000 NA Observations/Experiences (Con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d FGDC &amp; LCCS Classification System 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field data/secondary data &amp; VEGETATION data may help improve classification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communication between CCRS and EDC benef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8:45:00Z</dcterms:created>
  <dc:creator>cgiri</dc:creator>
  <dc:description/>
  <dc:language>en-US</dc:language>
  <cp:lastModifiedBy>hartlan</cp:lastModifiedBy>
  <dcterms:modified xsi:type="dcterms:W3CDTF">2003-04-17T16:07:01Z</dcterms:modified>
  <cp:revision>40</cp:revision>
  <dc:subject/>
  <dc:title>GLC-2000 NA Results Validation</dc:title>
</cp:coreProperties>
</file>