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49F-C40A-4CE3-9641-6EC3C99D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1160" y="3719880"/>
            <a:ext cx="84405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EB-A18F-4643-82E9-64FADB0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20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1160" y="371988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200" y="371988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0B-690C-445E-821B-B006B00C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240" y="137160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8960" y="137160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1160" y="371988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240" y="371988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8960" y="3719880"/>
            <a:ext cx="271764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51B-9DF3-4553-8D72-393C529C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25D-07EA-4DF3-9682-5DEF442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620-1635-4ECE-94BB-0E6231B9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41187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200" y="1371600"/>
            <a:ext cx="41187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812-54C8-437E-822B-AA9FDC3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9AA-02DD-4816-9BB9-280ABC4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601720" y="37800"/>
            <a:ext cx="6260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ED5-3661-4BF3-8971-625BE3B1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200" y="1371600"/>
            <a:ext cx="41187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1160" y="371988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CC5-7074-4C52-B290-F8790F4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41187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20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200" y="371988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9C0-24BF-47C6-B2AA-AEC4AB3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200" y="1371600"/>
            <a:ext cx="41187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1160" y="3719880"/>
            <a:ext cx="8440560" cy="2144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E17-8082-4D80-9DA4-21E05B1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00400" y="6400440"/>
            <a:ext cx="2813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footer&gt;</a:t>
            </a:r>
            <a:r>
              <a:rPr b="1" lang="fr-FR" sz="1000" spc="-1" strike="noStrike">
                <a:solidFill>
                  <a:srgbClr val="063de8"/>
                </a:solidFill>
                <a:latin typeface="Arial"/>
              </a:rPr>
              <a:t>GLC 2000 Ispra 03-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427056-36F0-4B26-B3B4-1CA0775CFEDB}" type="slidenum"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833400" indent="-26496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2" marL="1273320" indent="-2494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3" marL="160344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4" marL="1933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5" marL="1933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6" marL="1933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32040" y="6673680"/>
            <a:ext cx="1055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8160" bIns="38160" anchor="t">
            <a:spAutoFit/>
          </a:bodyPr>
          <a:p>
            <a:pPr lvl="1" marL="468360" algn="r">
              <a:lnSpc>
                <a:spcPct val="9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fld id="{A98B8C84-C706-439F-BC4E-7A03794D1765}" type="slidenum">
              <a:rPr b="1" lang="fr-FR" sz="600" spc="-1" strike="noStrike">
                <a:solidFill>
                  <a:srgbClr val="063de8"/>
                </a:solidFill>
                <a:latin typeface="Arial"/>
              </a:rPr>
              <a:t>&lt;number&gt;</a:t>
            </a:fld>
            <a:r>
              <a:rPr b="1" lang="fr-FR" sz="600" spc="-1" strike="noStrike">
                <a:solidFill>
                  <a:srgbClr val="063de8"/>
                </a:solidFill>
                <a:latin typeface="Arial"/>
              </a:rPr>
              <a:t> - </a:t>
            </a:r>
            <a:endParaRPr b="0" lang="en-US" sz="6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6" name="logogs" descr=""/>
          <p:cNvPicPr/>
          <p:nvPr/>
        </p:nvPicPr>
        <p:blipFill>
          <a:blip r:embed="rId2"/>
          <a:stretch/>
        </p:blipFill>
        <p:spPr>
          <a:xfrm>
            <a:off x="210960" y="228600"/>
            <a:ext cx="210204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STATUS OF SPOT VEGETA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81280" y="3200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VEGETATION 2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NEW STANDARD PRODUCT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VEGETATION 2002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8520" y="5510160"/>
            <a:ext cx="587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Gilbert Saint - VEGETATION Programme Scientist</a:t>
            </a:r>
            <a:endParaRPr b="0" lang="en-US" sz="19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1720" y="22824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Latitudinal transect 20°E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20" name="transect_20E" descr=""/>
          <p:cNvPicPr/>
          <p:nvPr/>
        </p:nvPicPr>
        <p:blipFill>
          <a:blip r:embed="rId1"/>
          <a:stretch/>
        </p:blipFill>
        <p:spPr>
          <a:xfrm>
            <a:off x="1758960" y="1447920"/>
            <a:ext cx="56260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01720" y="22824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Latitudinal transect 4°W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22" name="transect_4W" descr=""/>
          <p:cNvPicPr/>
          <p:nvPr/>
        </p:nvPicPr>
        <p:blipFill>
          <a:blip r:embed="rId1"/>
          <a:stretch/>
        </p:blipFill>
        <p:spPr>
          <a:xfrm>
            <a:off x="1758960" y="1447920"/>
            <a:ext cx="56260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Aerosol Optical Thickness at .550µ (09/11/2001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24" name="tp21" descr=""/>
          <p:cNvPicPr/>
          <p:nvPr/>
        </p:nvPicPr>
        <p:blipFill>
          <a:blip r:embed="rId1"/>
          <a:srcRect l="13228" t="29396" r="9449" b="32759"/>
          <a:stretch/>
        </p:blipFill>
        <p:spPr>
          <a:xfrm>
            <a:off x="693720" y="1662120"/>
            <a:ext cx="8158320" cy="32464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209680" y="5334120"/>
            <a:ext cx="4992480" cy="666360"/>
            <a:chOff x="2209680" y="5334120"/>
            <a:chExt cx="4992480" cy="666360"/>
          </a:xfrm>
        </p:grpSpPr>
        <p:grpSp>
          <p:nvGrpSpPr>
            <p:cNvPr id="126" name=""/>
            <p:cNvGrpSpPr/>
            <p:nvPr/>
          </p:nvGrpSpPr>
          <p:grpSpPr>
            <a:xfrm>
              <a:off x="2420640" y="5486040"/>
              <a:ext cx="4430160" cy="228600"/>
              <a:chOff x="2420640" y="5486040"/>
              <a:chExt cx="4430160" cy="22860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242064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30516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19148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96412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07780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850800" y="5486040"/>
                <a:ext cx="0" cy="228600"/>
              </a:xfrm>
              <a:prstGeom prst="line">
                <a:avLst/>
              </a:prstGeom>
              <a:ln w="324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mirejet" descr=""/>
            <p:cNvPicPr/>
            <p:nvPr/>
          </p:nvPicPr>
          <p:blipFill>
            <a:blip r:embed="rId2"/>
            <a:srcRect l="12913" t="41998" r="9449" b="41998"/>
            <a:stretch/>
          </p:blipFill>
          <p:spPr>
            <a:xfrm>
              <a:off x="2420640" y="5334120"/>
              <a:ext cx="4430160" cy="30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2209680" y="5715000"/>
              <a:ext cx="4992480" cy="285480"/>
              <a:chOff x="2209680" y="5715000"/>
              <a:chExt cx="4992480" cy="285480"/>
            </a:xfrm>
          </p:grpSpPr>
          <p:sp>
            <p:nvSpPr>
              <p:cNvPr id="135" name=""/>
              <p:cNvSpPr/>
              <p:nvPr/>
            </p:nvSpPr>
            <p:spPr>
              <a:xfrm>
                <a:off x="2209680" y="5715000"/>
                <a:ext cx="349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96280" y="5715000"/>
                <a:ext cx="521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.4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4720" y="5715000"/>
                <a:ext cx="619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.3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53160" y="5715000"/>
                <a:ext cx="5050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81240" y="5715000"/>
                <a:ext cx="6048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.1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69280" y="5715000"/>
                <a:ext cx="632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92120" y="2895480"/>
            <a:ext cx="2884320" cy="1295640"/>
            <a:chOff x="492120" y="2895480"/>
            <a:chExt cx="2884320" cy="1295640"/>
          </a:xfrm>
        </p:grpSpPr>
        <p:sp>
          <p:nvSpPr>
            <p:cNvPr id="142" name=""/>
            <p:cNvSpPr/>
            <p:nvPr/>
          </p:nvSpPr>
          <p:spPr>
            <a:xfrm>
              <a:off x="492120" y="2895480"/>
              <a:ext cx="2884320" cy="1295640"/>
            </a:xfrm>
            <a:prstGeom prst="rightArrowCallout">
              <a:avLst>
                <a:gd name="adj1" fmla="val 25002"/>
                <a:gd name="adj2" fmla="val 25000"/>
                <a:gd name="adj3" fmla="val 37103"/>
                <a:gd name="adj4" fmla="val 66667"/>
              </a:avLst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2400" y="2952360"/>
              <a:ext cx="17618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Arial"/>
                </a:rPr>
                <a:t>COLLECT LAST N CLOUD FREE DATA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352680" y="2895480"/>
            <a:ext cx="2490840" cy="1295640"/>
          </a:xfrm>
          <a:prstGeom prst="rightArrowCallout">
            <a:avLst>
              <a:gd name="adj1" fmla="val 19641"/>
              <a:gd name="adj2" fmla="val 25000"/>
              <a:gd name="adj3" fmla="val 20827"/>
              <a:gd name="adj4" fmla="val 74185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971800"/>
            <a:ext cx="1660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JUST BRDF MODEL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300" spc="-1" strike="noStrike">
                <a:solidFill>
                  <a:srgbClr val="000099"/>
                </a:solidFill>
                <a:latin typeface="Arial"/>
              </a:rPr>
              <a:t>BI-DIRECTIONAL CORRECTION</a:t>
            </a:r>
            <a:endParaRPr b="1" lang="en-US" sz="23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4960" y="5334120"/>
            <a:ext cx="3231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NORMALISED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FLECTANCES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67560" y="2743200"/>
            <a:ext cx="2814480" cy="2514240"/>
            <a:chOff x="5767560" y="2743200"/>
            <a:chExt cx="2814480" cy="2514240"/>
          </a:xfrm>
        </p:grpSpPr>
        <p:sp>
          <p:nvSpPr>
            <p:cNvPr id="149" name=""/>
            <p:cNvSpPr/>
            <p:nvPr/>
          </p:nvSpPr>
          <p:spPr>
            <a:xfrm>
              <a:off x="5767560" y="2743200"/>
              <a:ext cx="2814480" cy="2514240"/>
            </a:xfrm>
            <a:prstGeom prst="downArrowCallout">
              <a:avLst>
                <a:gd name="adj1" fmla="val 13994"/>
                <a:gd name="adj2" fmla="val 14459"/>
                <a:gd name="adj3" fmla="val 19644"/>
                <a:gd name="adj4" fmla="val 64880"/>
              </a:avLst>
            </a:prstGeom>
            <a:solidFill>
              <a:srgbClr val="ffffff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7560" y="2743200"/>
              <a:ext cx="2673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Arial"/>
                </a:rPr>
                <a:t>USING AJUSTED BRDF,      NORMALISE CLEAR REFLECTANCES OF LAST TEN DAYS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01720" y="22824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DATA SET  (2001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17840" y="3200400"/>
            <a:ext cx="3447720" cy="1752480"/>
            <a:chOff x="3417840" y="3200400"/>
            <a:chExt cx="3447720" cy="1752480"/>
          </a:xfrm>
        </p:grpSpPr>
        <p:sp>
          <p:nvSpPr>
            <p:cNvPr id="153" name=""/>
            <p:cNvSpPr/>
            <p:nvPr/>
          </p:nvSpPr>
          <p:spPr>
            <a:xfrm>
              <a:off x="3417840" y="4724280"/>
              <a:ext cx="140760" cy="15264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43560" y="4648320"/>
              <a:ext cx="140400" cy="15228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15440" y="3200400"/>
              <a:ext cx="140760" cy="15228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99080" y="4648320"/>
              <a:ext cx="140400" cy="15228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9120" y="3276720"/>
              <a:ext cx="140400" cy="15228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4800" y="4800600"/>
              <a:ext cx="140760" cy="152280"/>
            </a:xfrm>
            <a:prstGeom prst="diamond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14400" y="1981080"/>
            <a:ext cx="7667640" cy="4291920"/>
            <a:chOff x="914400" y="1981080"/>
            <a:chExt cx="7667640" cy="4291920"/>
          </a:xfrm>
        </p:grpSpPr>
        <p:sp>
          <p:nvSpPr>
            <p:cNvPr id="160" name=""/>
            <p:cNvSpPr/>
            <p:nvPr/>
          </p:nvSpPr>
          <p:spPr>
            <a:xfrm>
              <a:off x="914400" y="1981080"/>
              <a:ext cx="76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63de8"/>
                  </a:solidFill>
                  <a:latin typeface="Arial"/>
                </a:rPr>
                <a:t> MVC10_8km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376440" y="3048120"/>
              <a:ext cx="3530160" cy="2209680"/>
              <a:chOff x="3376440" y="3048120"/>
              <a:chExt cx="3530160" cy="22096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3376440" y="4876920"/>
                <a:ext cx="224280" cy="228600"/>
                <a:chOff x="3376440" y="4876920"/>
                <a:chExt cx="224280" cy="228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488400" y="487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76440" y="4983480"/>
                  <a:ext cx="22428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600720" y="4343400"/>
                <a:ext cx="223920" cy="228600"/>
                <a:chOff x="3600720" y="4343400"/>
                <a:chExt cx="223920" cy="228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12680" y="4343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00720" y="4449960"/>
                  <a:ext cx="22392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872600" y="3124080"/>
                <a:ext cx="224280" cy="228600"/>
                <a:chOff x="4872600" y="3124080"/>
                <a:chExt cx="224280" cy="228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984560" y="312408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872600" y="3230640"/>
                  <a:ext cx="22428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47720" y="3048120"/>
                <a:ext cx="224280" cy="228600"/>
                <a:chOff x="5247720" y="3048120"/>
                <a:chExt cx="224280" cy="2286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59680" y="3048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247720" y="3154680"/>
                  <a:ext cx="22428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458400" y="4572000"/>
                <a:ext cx="223920" cy="228600"/>
                <a:chOff x="6458400" y="4572000"/>
                <a:chExt cx="223920" cy="228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570360" y="457200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58400" y="4678560"/>
                  <a:ext cx="22392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82320" y="5029200"/>
                <a:ext cx="224280" cy="228600"/>
                <a:chOff x="6682320" y="5029200"/>
                <a:chExt cx="224280" cy="228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94280" y="5029200"/>
                  <a:ext cx="0" cy="228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82320" y="5135760"/>
                  <a:ext cx="22428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63de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 rot="3781200">
              <a:off x="314784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05/0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781200">
              <a:off x="349956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05/1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4664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780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9428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580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4192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3440" y="5334120"/>
              <a:ext cx="0" cy="1522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3781200">
              <a:off x="462528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07/0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3781200">
              <a:off x="497700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071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3781200">
              <a:off x="617256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10/0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3781200">
              <a:off x="6524640" y="5691960"/>
              <a:ext cx="838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10/11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914400" y="144792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NEW BDC SYNTHESES 8KM RES FROM 21/02/2001 TO 31/12/2001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78160" y="5407200"/>
            <a:ext cx="5786280" cy="1440"/>
          </a:xfrm>
          <a:prstGeom prst="line">
            <a:avLst/>
          </a:prstGeom>
          <a:ln w="25560">
            <a:solidFill>
              <a:srgbClr val="063de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378160" y="2319120"/>
            <a:ext cx="1440" cy="3087720"/>
          </a:xfrm>
          <a:prstGeom prst="line">
            <a:avLst/>
          </a:prstGeom>
          <a:ln w="25560">
            <a:solidFill>
              <a:srgbClr val="063de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7520" y="3110040"/>
            <a:ext cx="4670280" cy="1927080"/>
          </a:xfrm>
          <a:custGeom>
            <a:avLst/>
            <a:gdLst/>
            <a:ahLst/>
            <a:rect l="l" t="t" r="r" b="b"/>
            <a:pathLst>
              <a:path w="3216" h="1168">
                <a:moveTo>
                  <a:pt x="0" y="1088"/>
                </a:moveTo>
                <a:cubicBezTo>
                  <a:pt x="192" y="1084"/>
                  <a:pt x="384" y="1080"/>
                  <a:pt x="528" y="1040"/>
                </a:cubicBezTo>
                <a:cubicBezTo>
                  <a:pt x="672" y="1000"/>
                  <a:pt x="712" y="1000"/>
                  <a:pt x="864" y="848"/>
                </a:cubicBezTo>
                <a:cubicBezTo>
                  <a:pt x="1016" y="696"/>
                  <a:pt x="1296" y="256"/>
                  <a:pt x="1440" y="128"/>
                </a:cubicBezTo>
                <a:cubicBezTo>
                  <a:pt x="1584" y="0"/>
                  <a:pt x="1616" y="64"/>
                  <a:pt x="1728" y="80"/>
                </a:cubicBezTo>
                <a:cubicBezTo>
                  <a:pt x="1840" y="96"/>
                  <a:pt x="2024" y="160"/>
                  <a:pt x="2112" y="224"/>
                </a:cubicBezTo>
                <a:cubicBezTo>
                  <a:pt x="2200" y="288"/>
                  <a:pt x="2208" y="368"/>
                  <a:pt x="2256" y="464"/>
                </a:cubicBezTo>
                <a:cubicBezTo>
                  <a:pt x="2304" y="560"/>
                  <a:pt x="2328" y="720"/>
                  <a:pt x="2400" y="800"/>
                </a:cubicBezTo>
                <a:cubicBezTo>
                  <a:pt x="2472" y="880"/>
                  <a:pt x="2584" y="888"/>
                  <a:pt x="2688" y="944"/>
                </a:cubicBezTo>
                <a:cubicBezTo>
                  <a:pt x="2792" y="1000"/>
                  <a:pt x="2936" y="1104"/>
                  <a:pt x="3024" y="1136"/>
                </a:cubicBezTo>
                <a:cubicBezTo>
                  <a:pt x="3112" y="1168"/>
                  <a:pt x="3164" y="1152"/>
                  <a:pt x="3216" y="1136"/>
                </a:cubicBezTo>
              </a:path>
            </a:pathLst>
          </a:custGeom>
          <a:noFill/>
          <a:ln w="255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17840" y="2476440"/>
            <a:ext cx="819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2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8081280" y="51274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3840" y="2476440"/>
            <a:ext cx="0" cy="3009960"/>
          </a:xfrm>
          <a:prstGeom prst="line">
            <a:avLst/>
          </a:prstGeom>
          <a:ln cap="rnd" w="255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04080" y="2476440"/>
            <a:ext cx="0" cy="2930760"/>
          </a:xfrm>
          <a:prstGeom prst="line">
            <a:avLst/>
          </a:prstGeom>
          <a:ln cap="rnd" w="255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60 VALIDATION POINTS FOR TEMPORAL PROFILES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3440" y="2057400"/>
            <a:ext cx="68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ettre la carte avec la totalité des points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202" name="decoupe_zone" descr=""/>
          <p:cNvPicPr/>
          <p:nvPr/>
        </p:nvPicPr>
        <p:blipFill>
          <a:blip r:embed="rId1"/>
          <a:stretch/>
        </p:blipFill>
        <p:spPr>
          <a:xfrm>
            <a:off x="141120" y="1695600"/>
            <a:ext cx="8861760" cy="34668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1828800" y="2057400"/>
            <a:ext cx="352440" cy="1219320"/>
            <a:chOff x="1828800" y="2057400"/>
            <a:chExt cx="352440" cy="1219320"/>
          </a:xfrm>
        </p:grpSpPr>
        <p:grpSp>
          <p:nvGrpSpPr>
            <p:cNvPr id="204" name=""/>
            <p:cNvGrpSpPr/>
            <p:nvPr/>
          </p:nvGrpSpPr>
          <p:grpSpPr>
            <a:xfrm>
              <a:off x="1828800" y="2057400"/>
              <a:ext cx="70560" cy="76320"/>
              <a:chOff x="1828800" y="2057400"/>
              <a:chExt cx="70560" cy="76320"/>
            </a:xfrm>
          </p:grpSpPr>
          <p:sp>
            <p:nvSpPr>
              <p:cNvPr id="205" name=""/>
              <p:cNvSpPr/>
              <p:nvPr/>
            </p:nvSpPr>
            <p:spPr>
              <a:xfrm>
                <a:off x="1828800" y="2057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828800" y="2057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66240" y="2057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28800" y="20955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828800" y="2133720"/>
              <a:ext cx="70560" cy="75960"/>
              <a:chOff x="1828800" y="2133720"/>
              <a:chExt cx="70560" cy="75960"/>
            </a:xfrm>
          </p:grpSpPr>
          <p:sp>
            <p:nvSpPr>
              <p:cNvPr id="210" name=""/>
              <p:cNvSpPr/>
              <p:nvPr/>
            </p:nvSpPr>
            <p:spPr>
              <a:xfrm>
                <a:off x="1828800" y="21337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828800" y="21337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66240" y="21337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28800" y="21715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828800" y="2286000"/>
              <a:ext cx="70560" cy="76320"/>
              <a:chOff x="1828800" y="2286000"/>
              <a:chExt cx="70560" cy="76320"/>
            </a:xfrm>
          </p:grpSpPr>
          <p:sp>
            <p:nvSpPr>
              <p:cNvPr id="215" name=""/>
              <p:cNvSpPr/>
              <p:nvPr/>
            </p:nvSpPr>
            <p:spPr>
              <a:xfrm>
                <a:off x="1828800" y="22860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828800" y="22860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66240" y="2286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28800" y="23241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828800" y="2438280"/>
              <a:ext cx="70560" cy="76320"/>
              <a:chOff x="1828800" y="2438280"/>
              <a:chExt cx="70560" cy="76320"/>
            </a:xfrm>
          </p:grpSpPr>
          <p:sp>
            <p:nvSpPr>
              <p:cNvPr id="220" name=""/>
              <p:cNvSpPr/>
              <p:nvPr/>
            </p:nvSpPr>
            <p:spPr>
              <a:xfrm>
                <a:off x="1828800" y="24382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828800" y="24382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66240" y="24382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28800" y="247644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828800" y="2514600"/>
              <a:ext cx="70560" cy="76320"/>
              <a:chOff x="1828800" y="2514600"/>
              <a:chExt cx="70560" cy="76320"/>
            </a:xfrm>
          </p:grpSpPr>
          <p:sp>
            <p:nvSpPr>
              <p:cNvPr id="225" name=""/>
              <p:cNvSpPr/>
              <p:nvPr/>
            </p:nvSpPr>
            <p:spPr>
              <a:xfrm>
                <a:off x="1828800" y="25146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828800" y="25146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66240" y="25146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800" y="25527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828800" y="2666880"/>
              <a:ext cx="70560" cy="76320"/>
              <a:chOff x="1828800" y="2666880"/>
              <a:chExt cx="70560" cy="76320"/>
            </a:xfrm>
          </p:grpSpPr>
          <p:sp>
            <p:nvSpPr>
              <p:cNvPr id="230" name=""/>
              <p:cNvSpPr/>
              <p:nvPr/>
            </p:nvSpPr>
            <p:spPr>
              <a:xfrm>
                <a:off x="1828800" y="26668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828800" y="26668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66240" y="26668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28800" y="270504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899360" y="2819520"/>
              <a:ext cx="70560" cy="75960"/>
              <a:chOff x="1899360" y="2819520"/>
              <a:chExt cx="70560" cy="75960"/>
            </a:xfrm>
          </p:grpSpPr>
          <p:sp>
            <p:nvSpPr>
              <p:cNvPr id="235" name=""/>
              <p:cNvSpPr/>
              <p:nvPr/>
            </p:nvSpPr>
            <p:spPr>
              <a:xfrm>
                <a:off x="1899360" y="28195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899360" y="28195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36800" y="28195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360" y="28573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040120" y="3048120"/>
              <a:ext cx="70560" cy="75960"/>
              <a:chOff x="2040120" y="3048120"/>
              <a:chExt cx="70560" cy="75960"/>
            </a:xfrm>
          </p:grpSpPr>
          <p:sp>
            <p:nvSpPr>
              <p:cNvPr id="240" name=""/>
              <p:cNvSpPr/>
              <p:nvPr/>
            </p:nvSpPr>
            <p:spPr>
              <a:xfrm>
                <a:off x="2040120" y="30481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040120" y="30481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77560" y="30481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40120" y="30859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110680" y="3200400"/>
              <a:ext cx="70560" cy="76320"/>
              <a:chOff x="2110680" y="3200400"/>
              <a:chExt cx="70560" cy="76320"/>
            </a:xfrm>
          </p:grpSpPr>
          <p:sp>
            <p:nvSpPr>
              <p:cNvPr id="245" name=""/>
              <p:cNvSpPr/>
              <p:nvPr/>
            </p:nvSpPr>
            <p:spPr>
              <a:xfrm>
                <a:off x="2110680" y="3200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110680" y="3200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48120" y="3200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10680" y="32385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2884320" y="3505320"/>
            <a:ext cx="211320" cy="1218960"/>
            <a:chOff x="2884320" y="3505320"/>
            <a:chExt cx="211320" cy="1218960"/>
          </a:xfrm>
        </p:grpSpPr>
        <p:grpSp>
          <p:nvGrpSpPr>
            <p:cNvPr id="250" name=""/>
            <p:cNvGrpSpPr/>
            <p:nvPr/>
          </p:nvGrpSpPr>
          <p:grpSpPr>
            <a:xfrm>
              <a:off x="2884320" y="3505320"/>
              <a:ext cx="70560" cy="75960"/>
              <a:chOff x="2884320" y="3505320"/>
              <a:chExt cx="70560" cy="7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884320" y="35053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884320" y="35053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21760" y="35053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884320" y="35431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884320" y="3581280"/>
              <a:ext cx="70560" cy="76320"/>
              <a:chOff x="2884320" y="3581280"/>
              <a:chExt cx="70560" cy="76320"/>
            </a:xfrm>
          </p:grpSpPr>
          <p:sp>
            <p:nvSpPr>
              <p:cNvPr id="256" name=""/>
              <p:cNvSpPr/>
              <p:nvPr/>
            </p:nvSpPr>
            <p:spPr>
              <a:xfrm>
                <a:off x="2884320" y="35812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2884320" y="35812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21760" y="35812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84320" y="361944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954880" y="3657600"/>
              <a:ext cx="70560" cy="76320"/>
              <a:chOff x="2954880" y="3657600"/>
              <a:chExt cx="70560" cy="7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2954880" y="36576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954880" y="36576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92320" y="36576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54880" y="36957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954880" y="3733920"/>
              <a:ext cx="70560" cy="75960"/>
              <a:chOff x="2954880" y="3733920"/>
              <a:chExt cx="70560" cy="75960"/>
            </a:xfrm>
          </p:grpSpPr>
          <p:sp>
            <p:nvSpPr>
              <p:cNvPr id="266" name=""/>
              <p:cNvSpPr/>
              <p:nvPr/>
            </p:nvSpPr>
            <p:spPr>
              <a:xfrm>
                <a:off x="2954880" y="37339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954880" y="37339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92320" y="37339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54880" y="37717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025080" y="3886200"/>
              <a:ext cx="70560" cy="76320"/>
              <a:chOff x="3025080" y="3886200"/>
              <a:chExt cx="70560" cy="7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3025440" y="3886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025080" y="3886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62520" y="38862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25440" y="39243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954880" y="3962520"/>
              <a:ext cx="70560" cy="75960"/>
              <a:chOff x="2954880" y="3962520"/>
              <a:chExt cx="70560" cy="75960"/>
            </a:xfrm>
          </p:grpSpPr>
          <p:sp>
            <p:nvSpPr>
              <p:cNvPr id="276" name=""/>
              <p:cNvSpPr/>
              <p:nvPr/>
            </p:nvSpPr>
            <p:spPr>
              <a:xfrm>
                <a:off x="2954880" y="39625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954880" y="39625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92320" y="39625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54880" y="40003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954880" y="4191120"/>
              <a:ext cx="70560" cy="75960"/>
              <a:chOff x="2954880" y="4191120"/>
              <a:chExt cx="70560" cy="75960"/>
            </a:xfrm>
          </p:grpSpPr>
          <p:sp>
            <p:nvSpPr>
              <p:cNvPr id="281" name=""/>
              <p:cNvSpPr/>
              <p:nvPr/>
            </p:nvSpPr>
            <p:spPr>
              <a:xfrm>
                <a:off x="2954880" y="41911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954880" y="41911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92320" y="41911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54880" y="42289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954880" y="4343400"/>
              <a:ext cx="70560" cy="76320"/>
              <a:chOff x="2954880" y="4343400"/>
              <a:chExt cx="70560" cy="7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2954880" y="4343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954880" y="434340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992320" y="4343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54880" y="438156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954880" y="4495680"/>
              <a:ext cx="70560" cy="76320"/>
              <a:chOff x="2954880" y="4495680"/>
              <a:chExt cx="70560" cy="76320"/>
            </a:xfrm>
          </p:grpSpPr>
          <p:sp>
            <p:nvSpPr>
              <p:cNvPr id="291" name=""/>
              <p:cNvSpPr/>
              <p:nvPr/>
            </p:nvSpPr>
            <p:spPr>
              <a:xfrm>
                <a:off x="2954880" y="44956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2954880" y="4495680"/>
                <a:ext cx="7056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92320" y="44956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54880" y="453384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54880" y="4648320"/>
              <a:ext cx="70560" cy="75960"/>
              <a:chOff x="2954880" y="4648320"/>
              <a:chExt cx="70560" cy="75960"/>
            </a:xfrm>
          </p:grpSpPr>
          <p:sp>
            <p:nvSpPr>
              <p:cNvPr id="296" name=""/>
              <p:cNvSpPr/>
              <p:nvPr/>
            </p:nvSpPr>
            <p:spPr>
              <a:xfrm>
                <a:off x="2954880" y="46483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954880" y="4648320"/>
                <a:ext cx="7056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92320" y="46483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54880" y="4686120"/>
                <a:ext cx="705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6330600" y="2819520"/>
            <a:ext cx="843120" cy="609480"/>
            <a:chOff x="6330600" y="2819520"/>
            <a:chExt cx="843120" cy="609480"/>
          </a:xfrm>
        </p:grpSpPr>
        <p:grpSp>
          <p:nvGrpSpPr>
            <p:cNvPr id="301" name=""/>
            <p:cNvGrpSpPr/>
            <p:nvPr/>
          </p:nvGrpSpPr>
          <p:grpSpPr>
            <a:xfrm>
              <a:off x="6330600" y="2819520"/>
              <a:ext cx="70560" cy="75960"/>
              <a:chOff x="6330600" y="2819520"/>
              <a:chExt cx="70560" cy="75960"/>
            </a:xfrm>
          </p:grpSpPr>
          <p:sp>
            <p:nvSpPr>
              <p:cNvPr id="302" name=""/>
              <p:cNvSpPr/>
              <p:nvPr/>
            </p:nvSpPr>
            <p:spPr>
              <a:xfrm>
                <a:off x="6330960" y="28195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330600" y="28195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8040" y="28195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30960" y="28573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71000" y="2895480"/>
              <a:ext cx="70560" cy="76320"/>
              <a:chOff x="6471000" y="2895480"/>
              <a:chExt cx="70560" cy="76320"/>
            </a:xfrm>
          </p:grpSpPr>
          <p:sp>
            <p:nvSpPr>
              <p:cNvPr id="307" name=""/>
              <p:cNvSpPr/>
              <p:nvPr/>
            </p:nvSpPr>
            <p:spPr>
              <a:xfrm>
                <a:off x="6471360" y="28954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471000" y="28954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08440" y="28954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71360" y="29336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541200" y="2971800"/>
              <a:ext cx="70560" cy="76320"/>
              <a:chOff x="6541200" y="2971800"/>
              <a:chExt cx="70560" cy="76320"/>
            </a:xfrm>
          </p:grpSpPr>
          <p:sp>
            <p:nvSpPr>
              <p:cNvPr id="312" name=""/>
              <p:cNvSpPr/>
              <p:nvPr/>
            </p:nvSpPr>
            <p:spPr>
              <a:xfrm>
                <a:off x="6541560" y="29718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41200" y="29718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8640" y="29718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41560" y="30099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681600" y="2971800"/>
              <a:ext cx="70560" cy="76320"/>
              <a:chOff x="6681600" y="2971800"/>
              <a:chExt cx="70560" cy="76320"/>
            </a:xfrm>
          </p:grpSpPr>
          <p:sp>
            <p:nvSpPr>
              <p:cNvPr id="317" name=""/>
              <p:cNvSpPr/>
              <p:nvPr/>
            </p:nvSpPr>
            <p:spPr>
              <a:xfrm>
                <a:off x="6681960" y="29718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681600" y="29718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19040" y="29718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81960" y="30099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22720" y="3048120"/>
              <a:ext cx="69840" cy="75960"/>
              <a:chOff x="6822720" y="3048120"/>
              <a:chExt cx="69840" cy="75960"/>
            </a:xfrm>
          </p:grpSpPr>
          <p:sp>
            <p:nvSpPr>
              <p:cNvPr id="322" name=""/>
              <p:cNvSpPr/>
              <p:nvPr/>
            </p:nvSpPr>
            <p:spPr>
              <a:xfrm>
                <a:off x="6822720" y="30481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822720" y="30481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59800" y="30481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22720" y="308592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892560" y="3124080"/>
              <a:ext cx="70560" cy="76320"/>
              <a:chOff x="6892560" y="3124080"/>
              <a:chExt cx="70560" cy="76320"/>
            </a:xfrm>
          </p:grpSpPr>
          <p:sp>
            <p:nvSpPr>
              <p:cNvPr id="327" name=""/>
              <p:cNvSpPr/>
              <p:nvPr/>
            </p:nvSpPr>
            <p:spPr>
              <a:xfrm>
                <a:off x="6892920" y="3124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892560" y="3124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30000" y="31240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92920" y="31622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962760" y="3124080"/>
              <a:ext cx="70560" cy="76320"/>
              <a:chOff x="6962760" y="3124080"/>
              <a:chExt cx="70560" cy="76320"/>
            </a:xfrm>
          </p:grpSpPr>
          <p:sp>
            <p:nvSpPr>
              <p:cNvPr id="332" name=""/>
              <p:cNvSpPr/>
              <p:nvPr/>
            </p:nvSpPr>
            <p:spPr>
              <a:xfrm>
                <a:off x="6963120" y="3124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962760" y="3124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00200" y="31240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63120" y="31622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033680" y="3276720"/>
              <a:ext cx="69840" cy="75960"/>
              <a:chOff x="7033680" y="3276720"/>
              <a:chExt cx="69840" cy="75960"/>
            </a:xfrm>
          </p:grpSpPr>
          <p:sp>
            <p:nvSpPr>
              <p:cNvPr id="337" name=""/>
              <p:cNvSpPr/>
              <p:nvPr/>
            </p:nvSpPr>
            <p:spPr>
              <a:xfrm>
                <a:off x="7033680" y="32767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7033680" y="32767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0760" y="32767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33680" y="331452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103160" y="3352680"/>
              <a:ext cx="70560" cy="76320"/>
              <a:chOff x="7103160" y="3352680"/>
              <a:chExt cx="70560" cy="76320"/>
            </a:xfrm>
          </p:grpSpPr>
          <p:sp>
            <p:nvSpPr>
              <p:cNvPr id="342" name=""/>
              <p:cNvSpPr/>
              <p:nvPr/>
            </p:nvSpPr>
            <p:spPr>
              <a:xfrm>
                <a:off x="7103520" y="3352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103160" y="3352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40600" y="33526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3520" y="33908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737120" y="4191120"/>
            <a:ext cx="561960" cy="533160"/>
            <a:chOff x="7737120" y="4191120"/>
            <a:chExt cx="561960" cy="533160"/>
          </a:xfrm>
        </p:grpSpPr>
        <p:grpSp>
          <p:nvGrpSpPr>
            <p:cNvPr id="347" name=""/>
            <p:cNvGrpSpPr/>
            <p:nvPr/>
          </p:nvGrpSpPr>
          <p:grpSpPr>
            <a:xfrm>
              <a:off x="8088480" y="4191120"/>
              <a:ext cx="69840" cy="75960"/>
              <a:chOff x="8088480" y="4191120"/>
              <a:chExt cx="69840" cy="75960"/>
            </a:xfrm>
          </p:grpSpPr>
          <p:sp>
            <p:nvSpPr>
              <p:cNvPr id="348" name=""/>
              <p:cNvSpPr/>
              <p:nvPr/>
            </p:nvSpPr>
            <p:spPr>
              <a:xfrm>
                <a:off x="8088480" y="41911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088480" y="41911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25560" y="41911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088480" y="422892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8158320" y="4267080"/>
              <a:ext cx="70560" cy="76320"/>
              <a:chOff x="8158320" y="4267080"/>
              <a:chExt cx="70560" cy="7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8158680" y="4267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8158320" y="4267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95760" y="42670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58680" y="43052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28520" y="4343400"/>
              <a:ext cx="70560" cy="76320"/>
              <a:chOff x="8228520" y="4343400"/>
              <a:chExt cx="70560" cy="76320"/>
            </a:xfrm>
          </p:grpSpPr>
          <p:sp>
            <p:nvSpPr>
              <p:cNvPr id="358" name=""/>
              <p:cNvSpPr/>
              <p:nvPr/>
            </p:nvSpPr>
            <p:spPr>
              <a:xfrm>
                <a:off x="8228880" y="4343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8228520" y="4343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65960" y="4343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28880" y="43815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8228520" y="4419720"/>
              <a:ext cx="70560" cy="75960"/>
              <a:chOff x="8228520" y="4419720"/>
              <a:chExt cx="70560" cy="75960"/>
            </a:xfrm>
          </p:grpSpPr>
          <p:sp>
            <p:nvSpPr>
              <p:cNvPr id="363" name=""/>
              <p:cNvSpPr/>
              <p:nvPr/>
            </p:nvSpPr>
            <p:spPr>
              <a:xfrm>
                <a:off x="8228880" y="44197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8228520" y="44197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65960" y="44197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228880" y="44575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228520" y="4572000"/>
              <a:ext cx="70560" cy="76320"/>
              <a:chOff x="8228520" y="4572000"/>
              <a:chExt cx="70560" cy="76320"/>
            </a:xfrm>
          </p:grpSpPr>
          <p:sp>
            <p:nvSpPr>
              <p:cNvPr id="368" name=""/>
              <p:cNvSpPr/>
              <p:nvPr/>
            </p:nvSpPr>
            <p:spPr>
              <a:xfrm>
                <a:off x="822888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822852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65960" y="4572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28880" y="46101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8158320" y="4572000"/>
              <a:ext cx="70560" cy="76320"/>
              <a:chOff x="8158320" y="4572000"/>
              <a:chExt cx="70560" cy="76320"/>
            </a:xfrm>
          </p:grpSpPr>
          <p:sp>
            <p:nvSpPr>
              <p:cNvPr id="373" name=""/>
              <p:cNvSpPr/>
              <p:nvPr/>
            </p:nvSpPr>
            <p:spPr>
              <a:xfrm>
                <a:off x="815868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815832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95760" y="4572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8680" y="46101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8088480" y="4648320"/>
              <a:ext cx="69840" cy="75960"/>
              <a:chOff x="8088480" y="4648320"/>
              <a:chExt cx="69840" cy="75960"/>
            </a:xfrm>
          </p:grpSpPr>
          <p:sp>
            <p:nvSpPr>
              <p:cNvPr id="378" name=""/>
              <p:cNvSpPr/>
              <p:nvPr/>
            </p:nvSpPr>
            <p:spPr>
              <a:xfrm>
                <a:off x="8088480" y="46483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8088480" y="46483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125560" y="46483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88480" y="468612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947720" y="4572000"/>
              <a:ext cx="70560" cy="76320"/>
              <a:chOff x="7947720" y="4572000"/>
              <a:chExt cx="70560" cy="76320"/>
            </a:xfrm>
          </p:grpSpPr>
          <p:sp>
            <p:nvSpPr>
              <p:cNvPr id="383" name=""/>
              <p:cNvSpPr/>
              <p:nvPr/>
            </p:nvSpPr>
            <p:spPr>
              <a:xfrm>
                <a:off x="794808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947720" y="4572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5160" y="4572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948080" y="46101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877880" y="4495680"/>
              <a:ext cx="69840" cy="76320"/>
              <a:chOff x="7877880" y="4495680"/>
              <a:chExt cx="69840" cy="76320"/>
            </a:xfrm>
          </p:grpSpPr>
          <p:sp>
            <p:nvSpPr>
              <p:cNvPr id="388" name=""/>
              <p:cNvSpPr/>
              <p:nvPr/>
            </p:nvSpPr>
            <p:spPr>
              <a:xfrm>
                <a:off x="7877880" y="449568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877880" y="449568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14960" y="44956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7880" y="453384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737120" y="4343400"/>
              <a:ext cx="70560" cy="76320"/>
              <a:chOff x="7737120" y="4343400"/>
              <a:chExt cx="70560" cy="7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7737480" y="4343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737120" y="4343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74560" y="4343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737480" y="43815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807320" y="4267080"/>
              <a:ext cx="70560" cy="76320"/>
              <a:chOff x="7807320" y="4267080"/>
              <a:chExt cx="70560" cy="7632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7680" y="4267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807320" y="42670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44760" y="42670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07680" y="43052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4430520" y="2057400"/>
            <a:ext cx="985680" cy="609480"/>
            <a:chOff x="4430520" y="2057400"/>
            <a:chExt cx="985680" cy="609480"/>
          </a:xfrm>
        </p:grpSpPr>
        <p:grpSp>
          <p:nvGrpSpPr>
            <p:cNvPr id="403" name=""/>
            <p:cNvGrpSpPr/>
            <p:nvPr/>
          </p:nvGrpSpPr>
          <p:grpSpPr>
            <a:xfrm>
              <a:off x="5346360" y="2057400"/>
              <a:ext cx="69840" cy="76320"/>
              <a:chOff x="5346360" y="2057400"/>
              <a:chExt cx="69840" cy="76320"/>
            </a:xfrm>
          </p:grpSpPr>
          <p:sp>
            <p:nvSpPr>
              <p:cNvPr id="404" name=""/>
              <p:cNvSpPr/>
              <p:nvPr/>
            </p:nvSpPr>
            <p:spPr>
              <a:xfrm>
                <a:off x="5346360" y="205740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346360" y="205740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83440" y="2057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46360" y="209556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204880" y="2209680"/>
              <a:ext cx="70560" cy="76320"/>
              <a:chOff x="5204880" y="2209680"/>
              <a:chExt cx="70560" cy="76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205240" y="2209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204880" y="2209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42320" y="22096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05240" y="22478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993560" y="2286000"/>
              <a:ext cx="70560" cy="76320"/>
              <a:chOff x="4993560" y="2286000"/>
              <a:chExt cx="70560" cy="76320"/>
            </a:xfrm>
          </p:grpSpPr>
          <p:sp>
            <p:nvSpPr>
              <p:cNvPr id="414" name=""/>
              <p:cNvSpPr/>
              <p:nvPr/>
            </p:nvSpPr>
            <p:spPr>
              <a:xfrm>
                <a:off x="4993920" y="2286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4993560" y="2286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31000" y="2286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93920" y="23241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852800" y="2362320"/>
              <a:ext cx="70560" cy="75960"/>
              <a:chOff x="4852800" y="2362320"/>
              <a:chExt cx="70560" cy="75960"/>
            </a:xfrm>
          </p:grpSpPr>
          <p:sp>
            <p:nvSpPr>
              <p:cNvPr id="419" name=""/>
              <p:cNvSpPr/>
              <p:nvPr/>
            </p:nvSpPr>
            <p:spPr>
              <a:xfrm>
                <a:off x="4853160" y="23623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852800" y="23623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90240" y="23623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53160" y="24001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712400" y="2438280"/>
              <a:ext cx="69840" cy="76320"/>
              <a:chOff x="4712400" y="2438280"/>
              <a:chExt cx="69840" cy="76320"/>
            </a:xfrm>
          </p:grpSpPr>
          <p:sp>
            <p:nvSpPr>
              <p:cNvPr id="424" name=""/>
              <p:cNvSpPr/>
              <p:nvPr/>
            </p:nvSpPr>
            <p:spPr>
              <a:xfrm>
                <a:off x="4712400" y="243828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712400" y="243828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49480" y="24382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12400" y="247644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641480" y="2438280"/>
              <a:ext cx="70560" cy="76320"/>
              <a:chOff x="4641480" y="2438280"/>
              <a:chExt cx="70560" cy="76320"/>
            </a:xfrm>
          </p:grpSpPr>
          <p:sp>
            <p:nvSpPr>
              <p:cNvPr id="429" name=""/>
              <p:cNvSpPr/>
              <p:nvPr/>
            </p:nvSpPr>
            <p:spPr>
              <a:xfrm>
                <a:off x="4641840" y="24382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641480" y="24382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78920" y="24382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41840" y="24764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570920" y="2438280"/>
              <a:ext cx="70560" cy="76320"/>
              <a:chOff x="4570920" y="2438280"/>
              <a:chExt cx="70560" cy="76320"/>
            </a:xfrm>
          </p:grpSpPr>
          <p:sp>
            <p:nvSpPr>
              <p:cNvPr id="434" name=""/>
              <p:cNvSpPr/>
              <p:nvPr/>
            </p:nvSpPr>
            <p:spPr>
              <a:xfrm>
                <a:off x="4571280" y="24382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4570920" y="24382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08360" y="24382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71280" y="24764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501080" y="2514600"/>
              <a:ext cx="69840" cy="76320"/>
              <a:chOff x="4501080" y="2514600"/>
              <a:chExt cx="69840" cy="76320"/>
            </a:xfrm>
          </p:grpSpPr>
          <p:sp>
            <p:nvSpPr>
              <p:cNvPr id="439" name=""/>
              <p:cNvSpPr/>
              <p:nvPr/>
            </p:nvSpPr>
            <p:spPr>
              <a:xfrm>
                <a:off x="4501080" y="251460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4501080" y="2514600"/>
                <a:ext cx="6984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538160" y="25146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01080" y="255276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501080" y="2590920"/>
              <a:ext cx="69840" cy="75960"/>
              <a:chOff x="4501080" y="2590920"/>
              <a:chExt cx="69840" cy="75960"/>
            </a:xfrm>
          </p:grpSpPr>
          <p:sp>
            <p:nvSpPr>
              <p:cNvPr id="444" name=""/>
              <p:cNvSpPr/>
              <p:nvPr/>
            </p:nvSpPr>
            <p:spPr>
              <a:xfrm>
                <a:off x="4501080" y="25909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501080" y="2590920"/>
                <a:ext cx="6984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38160" y="25909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01080" y="2628720"/>
                <a:ext cx="698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430520" y="2590920"/>
              <a:ext cx="70560" cy="75960"/>
              <a:chOff x="4430520" y="2590920"/>
              <a:chExt cx="70560" cy="75960"/>
            </a:xfrm>
          </p:grpSpPr>
          <p:sp>
            <p:nvSpPr>
              <p:cNvPr id="449" name=""/>
              <p:cNvSpPr/>
              <p:nvPr/>
            </p:nvSpPr>
            <p:spPr>
              <a:xfrm>
                <a:off x="4430880" y="25909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430520" y="25909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467960" y="25909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30880" y="26287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360680" y="2666880"/>
            <a:ext cx="703080" cy="1143000"/>
            <a:chOff x="4360680" y="2666880"/>
            <a:chExt cx="703080" cy="1143000"/>
          </a:xfrm>
        </p:grpSpPr>
        <p:grpSp>
          <p:nvGrpSpPr>
            <p:cNvPr id="454" name=""/>
            <p:cNvGrpSpPr/>
            <p:nvPr/>
          </p:nvGrpSpPr>
          <p:grpSpPr>
            <a:xfrm>
              <a:off x="4430880" y="2743200"/>
              <a:ext cx="70560" cy="76320"/>
              <a:chOff x="4430880" y="2743200"/>
              <a:chExt cx="70560" cy="76320"/>
            </a:xfrm>
          </p:grpSpPr>
          <p:sp>
            <p:nvSpPr>
              <p:cNvPr id="455" name=""/>
              <p:cNvSpPr/>
              <p:nvPr/>
            </p:nvSpPr>
            <p:spPr>
              <a:xfrm>
                <a:off x="4431240" y="2743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430880" y="2743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68320" y="27432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31240" y="27813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360680" y="2743200"/>
              <a:ext cx="70560" cy="76320"/>
              <a:chOff x="4360680" y="2743200"/>
              <a:chExt cx="70560" cy="76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361040" y="2743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60680" y="27432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98120" y="27432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61040" y="27813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430880" y="3048120"/>
              <a:ext cx="70560" cy="75960"/>
              <a:chOff x="4430880" y="3048120"/>
              <a:chExt cx="70560" cy="75960"/>
            </a:xfrm>
          </p:grpSpPr>
          <p:sp>
            <p:nvSpPr>
              <p:cNvPr id="465" name=""/>
              <p:cNvSpPr/>
              <p:nvPr/>
            </p:nvSpPr>
            <p:spPr>
              <a:xfrm>
                <a:off x="4431240" y="30481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430880" y="30481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68320" y="30481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31240" y="30859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430880" y="3200400"/>
              <a:ext cx="70560" cy="76320"/>
              <a:chOff x="4430880" y="3200400"/>
              <a:chExt cx="70560" cy="763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31240" y="3200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430880" y="32004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68320" y="32004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31240" y="32385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430880" y="3352680"/>
              <a:ext cx="70560" cy="76320"/>
              <a:chOff x="4430880" y="3352680"/>
              <a:chExt cx="70560" cy="76320"/>
            </a:xfrm>
          </p:grpSpPr>
          <p:sp>
            <p:nvSpPr>
              <p:cNvPr id="475" name=""/>
              <p:cNvSpPr/>
              <p:nvPr/>
            </p:nvSpPr>
            <p:spPr>
              <a:xfrm>
                <a:off x="4431240" y="3352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430880" y="33526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68320" y="33526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31240" y="33908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430880" y="3429000"/>
              <a:ext cx="70560" cy="76320"/>
              <a:chOff x="4430880" y="3429000"/>
              <a:chExt cx="70560" cy="76320"/>
            </a:xfrm>
          </p:grpSpPr>
          <p:sp>
            <p:nvSpPr>
              <p:cNvPr id="480" name=""/>
              <p:cNvSpPr/>
              <p:nvPr/>
            </p:nvSpPr>
            <p:spPr>
              <a:xfrm>
                <a:off x="4431240" y="3429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430880" y="342900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68320" y="342900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31240" y="346716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430880" y="3276720"/>
              <a:ext cx="70560" cy="75960"/>
              <a:chOff x="4430880" y="3276720"/>
              <a:chExt cx="70560" cy="75960"/>
            </a:xfrm>
          </p:grpSpPr>
          <p:sp>
            <p:nvSpPr>
              <p:cNvPr id="485" name=""/>
              <p:cNvSpPr/>
              <p:nvPr/>
            </p:nvSpPr>
            <p:spPr>
              <a:xfrm>
                <a:off x="4431240" y="32767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4430880" y="32767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468320" y="32767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31240" y="33145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993200" y="3505320"/>
              <a:ext cx="70560" cy="75960"/>
              <a:chOff x="4993200" y="3505320"/>
              <a:chExt cx="70560" cy="75960"/>
            </a:xfrm>
          </p:grpSpPr>
          <p:sp>
            <p:nvSpPr>
              <p:cNvPr id="490" name=""/>
              <p:cNvSpPr/>
              <p:nvPr/>
            </p:nvSpPr>
            <p:spPr>
              <a:xfrm>
                <a:off x="4993560" y="35053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4993200" y="35053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30640" y="35053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93560" y="35431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993200" y="3733920"/>
              <a:ext cx="70560" cy="75960"/>
              <a:chOff x="4993200" y="3733920"/>
              <a:chExt cx="70560" cy="75960"/>
            </a:xfrm>
          </p:grpSpPr>
          <p:sp>
            <p:nvSpPr>
              <p:cNvPr id="495" name=""/>
              <p:cNvSpPr/>
              <p:nvPr/>
            </p:nvSpPr>
            <p:spPr>
              <a:xfrm>
                <a:off x="4993560" y="37339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4993200" y="3733920"/>
                <a:ext cx="7020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30640" y="3733920"/>
                <a:ext cx="0" cy="75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93560" y="377172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4360680" y="2666880"/>
              <a:ext cx="70560" cy="76320"/>
              <a:chOff x="4360680" y="2666880"/>
              <a:chExt cx="70560" cy="76320"/>
            </a:xfrm>
          </p:grpSpPr>
          <p:sp>
            <p:nvSpPr>
              <p:cNvPr id="500" name=""/>
              <p:cNvSpPr/>
              <p:nvPr/>
            </p:nvSpPr>
            <p:spPr>
              <a:xfrm>
                <a:off x="4361040" y="26668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360680" y="2666880"/>
                <a:ext cx="7020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98120" y="2666880"/>
                <a:ext cx="0" cy="76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61040" y="2705040"/>
                <a:ext cx="702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NDVI (2001) NORTH AMERICA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05" name="NDVI1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B2 (2001) EUROPE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07" name="b23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B3 (2001) EUROPE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09" name="b33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NDVI (2001) EUROPE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1" name="NDVI3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VEGETATION 2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Same instrument as VEGETATION 1 with minor improvements on optics (less stray light, better detector homogeneity...) and to increase life time to 5 years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SPOT 5 having a star tracker, should provide better geometry without Ground Control Points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fr-FR" sz="1900" spc="-1" strike="noStrike">
                <a:solidFill>
                  <a:srgbClr val="063de8"/>
                </a:solidFill>
                <a:latin typeface="Arial"/>
              </a:rPr>
              <a:t>(VGT 1 : 0.1 multispectral, 0.3 multitemporal for &gt;90% pixels)</a:t>
            </a:r>
            <a:br>
              <a:rPr sz="1900"/>
            </a:br>
            <a:r>
              <a:rPr b="1" i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Ready for launch, waiting for availability of launch pad : last known date is May 3rd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Commissionning phase should last 2 month, after which the two instruments will be available, VGT 2 as the principal one, VGT 1 to complement for special acquisitions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SWIR (2001) EUROPE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3" name="b43" descr=""/>
          <p:cNvPicPr/>
          <p:nvPr/>
        </p:nvPicPr>
        <p:blipFill>
          <a:blip r:embed="rId1"/>
          <a:srcRect l="9449" t="0" r="7874" b="0"/>
          <a:stretch/>
        </p:blipFill>
        <p:spPr>
          <a:xfrm>
            <a:off x="0" y="158112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B2 (2001) AFRICA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5" name="b24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B3 (2001) AFRICA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7" name="b34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NDVI (2001) AFRICA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9" name="NDVI4" descr=""/>
          <p:cNvPicPr/>
          <p:nvPr/>
        </p:nvPicPr>
        <p:blipFill>
          <a:blip r:embed="rId1"/>
          <a:srcRect l="6562" t="0" r="6562" b="0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B4 (2001) AFRICA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 BDC &amp;&amp;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MVC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21" name="b44" descr=""/>
          <p:cNvPicPr/>
          <p:nvPr/>
        </p:nvPicPr>
        <p:blipFill>
          <a:blip r:embed="rId1"/>
          <a:srcRect l="9449" t="0" r="7874" b="0"/>
          <a:stretch/>
        </p:blipFill>
        <p:spPr>
          <a:xfrm>
            <a:off x="0" y="158112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NEW STANDARD PRODUCTS</a:t>
            </a:r>
            <a:br>
              <a:rPr sz="2600"/>
            </a:b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81160" y="1828800"/>
            <a:ext cx="8440560" cy="40384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Acceptance after long validation phase,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Production began in May 2001 for validation : data are available from that date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Now waiting for next proposals for improvements … but two criteria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833400" indent="-26496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validation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lvl="1" marL="833400" indent="-26496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acceptance by a large community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VEGETATION 2002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As a follow-on to VEGETATION 2000 in Belgirate,</a:t>
            </a: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c0128"/>
                </a:solidFill>
                <a:latin typeface="Arial"/>
              </a:rPr>
              <a:t>VEGETATION 2002</a:t>
            </a:r>
            <a:r>
              <a:rPr b="1" lang="fr-FR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c0128"/>
                </a:solidFill>
                <a:latin typeface="Arial"/>
              </a:rPr>
              <a:t>Nov 19-22, 2002  Antwerp Belgium</a:t>
            </a:r>
            <a:br>
              <a:rPr sz="1900"/>
            </a:br>
            <a:r>
              <a:rPr b="1" lang="fr-FR" sz="19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Open to presentations of any use of VEGETATION products, either for scientific or more applied purposes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Particular attention to VEGA 2000 and GLC 2000 results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Technical news on quality of the two systems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First announcement in press, look after your (e)mai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OTHER MEANS FOR EXCHANGE :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Several VEGETATION Web sites with a common entry point :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c0128"/>
                </a:solidFill>
                <a:latin typeface="Arial"/>
              </a:rPr>
              <a:t>http://www.spot-vegetation.com</a:t>
            </a: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with several sections :</a:t>
            </a: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technical,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scientific,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commercial</a:t>
            </a: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Discussion forum available on the entry point : do not hesitate to ask questions, make proposals…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STATUS OF SPOT VEGETA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81280" y="3200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VEGETATION 2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NEW STANDARD PRODUCT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Symbol" charset="2"/>
              <a:buChar char="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VEGETATION 2002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58520" y="5510160"/>
            <a:ext cx="587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Gilbert Saint - VEGETATION Programme Scientist</a:t>
            </a:r>
            <a:endParaRPr b="0" lang="en-US" sz="19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NEW STANDARD PRODUCTS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952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 fontScale="97000"/>
          </a:bodyPr>
          <a:p>
            <a:pPr marL="280080" indent="-280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From the beginning, Image Processing Center designed to accomodate for regular improvements of standard processing methods.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New methods should be validated globally and accepted by a large community of users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Three improvements selected as a first set :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cloud detection, cloud shadow…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aerosol content correction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bidirectional effects correction on syntheses </a:t>
            </a:r>
            <a:br>
              <a:rPr sz="1500"/>
            </a:b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Development based on :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proposal of methods to various users and acceptance by IUC,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training of algorithms on model, real VGT and Polder data sets, presentation and discussion in Belgirate VEGETATION 2000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-256680">
              <a:lnSpc>
                <a:spcPct val="90000"/>
              </a:lnSpc>
              <a:spcBef>
                <a:spcPts val="561"/>
              </a:spcBef>
              <a:buClr>
                <a:srgbClr val="063de8"/>
              </a:buClr>
              <a:buFont typeface="ZapfDingbats" charset="2"/>
              <a:buChar char="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extensive validation phase on real data : 10 months, global data processed by CTIV</a:t>
            </a:r>
            <a:br>
              <a:rPr sz="1500"/>
            </a:br>
            <a:r>
              <a:rPr b="1" lang="fr-FR" sz="15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Actors : VITO &amp; CESBIO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5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LOUD DETEC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160" y="1676160"/>
            <a:ext cx="8440560" cy="419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9050" t="0" r="12866" b="3122"/>
          <a:stretch/>
        </p:blipFill>
        <p:spPr>
          <a:xfrm>
            <a:off x="4876920" y="1685880"/>
            <a:ext cx="3352680" cy="364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8569" t="0" r="13347" b="3122"/>
          <a:stretch/>
        </p:blipFill>
        <p:spPr>
          <a:xfrm>
            <a:off x="914400" y="1685880"/>
            <a:ext cx="3352680" cy="364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2280" y="5347800"/>
            <a:ext cx="40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B3 (SPOT4-VEGETATION) 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Amazon River, (Venezuela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3160" y="5501520"/>
            <a:ext cx="40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de8"/>
                </a:solidFill>
                <a:latin typeface="Arial"/>
              </a:rPr>
              <a:t>Initial mask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LOUD DETEC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3160" y="5501520"/>
            <a:ext cx="40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BINARY</a:t>
            </a:r>
            <a:r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793" t="0" r="13305" b="2770"/>
          <a:stretch/>
        </p:blipFill>
        <p:spPr>
          <a:xfrm>
            <a:off x="5105520" y="182880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19738" t="0" r="12849" b="3275"/>
          <a:stretch/>
        </p:blipFill>
        <p:spPr>
          <a:xfrm>
            <a:off x="914400" y="182880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2280" y="5347800"/>
            <a:ext cx="40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B3 (SPOT4-VEGETATION) 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Amazon River, (Venezuela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LOUD DETEC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3160" y="5501520"/>
            <a:ext cx="40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3 LEVEL MASK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8660" t="0" r="13438" b="2735"/>
          <a:stretch/>
        </p:blipFill>
        <p:spPr>
          <a:xfrm>
            <a:off x="5029200" y="175248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9398" t="0" r="12700" b="2735"/>
          <a:stretch/>
        </p:blipFill>
        <p:spPr>
          <a:xfrm>
            <a:off x="914400" y="1752480"/>
            <a:ext cx="3200400" cy="3505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2280" y="5347800"/>
            <a:ext cx="40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B3 (SPOT4-VEGETATION) 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Amazon River, (Venezuela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CLOUD SHADOW DETEC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981080"/>
          <a:ext cx="381024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8102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1981080"/>
          <a:ext cx="411480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41148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2280" y="5347800"/>
            <a:ext cx="40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B3 (SPOT4-VEGETATION) 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AHARA</a:t>
            </a: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.   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53160" y="5363640"/>
            <a:ext cx="40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CLOUDS (light green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SHADOWS (magenta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AEROSOL CORRECT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Basis for the method : for dark targets, SWIR/Blue surface reflectance ratio was supposed to be constant.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Analysis on first years of data, Aeronet stations measurements… showed that ratio was function of surface NDVI</a:t>
            </a: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Operational algorithm developped as an approximation of a complete iterative solution. Validation of approximation done on VGT, Polder, Aeronet data.</a:t>
            </a:r>
            <a:br>
              <a:rPr sz="1900"/>
            </a:b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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Complete description available in proceedings of VEGETATION 2000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01720" y="228240"/>
            <a:ext cx="6260760" cy="6858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br>
              <a:rPr sz="2600"/>
            </a:b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Principle of the algorithm</a:t>
            </a:r>
            <a:br>
              <a:rPr sz="2600"/>
            </a:b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4495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890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960" y="1600200"/>
            <a:ext cx="1336680" cy="685800"/>
          </a:xfrm>
          <a:prstGeom prst="rect">
            <a:avLst/>
          </a:prstGeom>
          <a:solidFill>
            <a:srgbClr val="fc0128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63de8"/>
                </a:solidFill>
                <a:latin typeface="Symbol"/>
                <a:ea typeface="Symbol"/>
              </a:rPr>
              <a:t></a:t>
            </a:r>
            <a:r>
              <a:rPr b="1" lang="fr-FR" sz="2000" spc="-1" strike="noStrike">
                <a:solidFill>
                  <a:srgbClr val="063de8"/>
                </a:solidFill>
                <a:latin typeface="Arial"/>
              </a:rPr>
              <a:t>_</a:t>
            </a:r>
            <a:r>
              <a:rPr b="1" lang="fr-FR" sz="2000" spc="-1" strike="noStrike">
                <a:solidFill>
                  <a:srgbClr val="063de8"/>
                </a:solidFill>
                <a:latin typeface="Symbol"/>
                <a:ea typeface="Symbol"/>
              </a:rPr>
              <a:t></a:t>
            </a:r>
            <a:r>
              <a:rPr b="1" lang="fr-FR" sz="2000" spc="-1" strike="noStrike">
                <a:solidFill>
                  <a:srgbClr val="063de8"/>
                </a:solidFill>
                <a:latin typeface="Arial"/>
              </a:rPr>
              <a:t>i_toa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767560" y="1676520"/>
            <a:ext cx="3095280" cy="609480"/>
            <a:chOff x="5767560" y="1676520"/>
            <a:chExt cx="3095280" cy="609480"/>
          </a:xfrm>
        </p:grpSpPr>
        <p:sp>
          <p:nvSpPr>
            <p:cNvPr id="83" name=""/>
            <p:cNvSpPr/>
            <p:nvPr/>
          </p:nvSpPr>
          <p:spPr>
            <a:xfrm>
              <a:off x="6048720" y="1676520"/>
              <a:ext cx="2814120" cy="60948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MAC_molecular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7560" y="1981080"/>
              <a:ext cx="2811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969920" y="1676520"/>
            <a:ext cx="3797280" cy="533160"/>
            <a:chOff x="1969920" y="1676520"/>
            <a:chExt cx="3797280" cy="533160"/>
          </a:xfrm>
        </p:grpSpPr>
        <p:sp>
          <p:nvSpPr>
            <p:cNvPr id="86" name=""/>
            <p:cNvSpPr/>
            <p:nvPr/>
          </p:nvSpPr>
          <p:spPr>
            <a:xfrm>
              <a:off x="2250720" y="1676520"/>
              <a:ext cx="3516480" cy="533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If not cloudy and reliable CN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9920" y="1981080"/>
              <a:ext cx="2808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376440" y="2590920"/>
            <a:ext cx="4007880" cy="1143000"/>
            <a:chOff x="3376440" y="2590920"/>
            <a:chExt cx="4007880" cy="1143000"/>
          </a:xfrm>
        </p:grpSpPr>
        <p:sp>
          <p:nvSpPr>
            <p:cNvPr id="89" name=""/>
            <p:cNvSpPr/>
            <p:nvPr/>
          </p:nvSpPr>
          <p:spPr>
            <a:xfrm>
              <a:off x="3376440" y="2590920"/>
              <a:ext cx="3516120" cy="1143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If </a:t>
              </a: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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_swir_surfo&lt;threshold1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&amp;&amp;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NDVI_surfo&gt;threshold2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&amp;&amp; no snow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892200" y="2971800"/>
              <a:ext cx="49212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385040" y="2362320"/>
            <a:ext cx="1336680" cy="990360"/>
            <a:chOff x="7385040" y="2362320"/>
            <a:chExt cx="1336680" cy="990360"/>
          </a:xfrm>
        </p:grpSpPr>
        <p:sp>
          <p:nvSpPr>
            <p:cNvPr id="92" name=""/>
            <p:cNvSpPr/>
            <p:nvPr/>
          </p:nvSpPr>
          <p:spPr>
            <a:xfrm>
              <a:off x="7385040" y="2666880"/>
              <a:ext cx="1336680" cy="6858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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_</a:t>
              </a: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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i_surfo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47360" y="2362320"/>
              <a:ext cx="0" cy="22860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10960" y="3429000"/>
            <a:ext cx="4732560" cy="1219320"/>
            <a:chOff x="210960" y="3429000"/>
            <a:chExt cx="4732560" cy="1219320"/>
          </a:xfrm>
        </p:grpSpPr>
        <p:sp>
          <p:nvSpPr>
            <p:cNvPr id="95" name=""/>
            <p:cNvSpPr/>
            <p:nvPr/>
          </p:nvSpPr>
          <p:spPr>
            <a:xfrm>
              <a:off x="210960" y="4038480"/>
              <a:ext cx="4732560" cy="6098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</a:t>
              </a: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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blue_reference = </a:t>
              </a: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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_swir_surfo/RATIO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640" y="3429000"/>
              <a:ext cx="0" cy="533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2440" y="2743200"/>
            <a:ext cx="2952360" cy="685800"/>
            <a:chOff x="352440" y="2743200"/>
            <a:chExt cx="2952360" cy="685800"/>
          </a:xfrm>
        </p:grpSpPr>
        <p:sp>
          <p:nvSpPr>
            <p:cNvPr id="98" name=""/>
            <p:cNvSpPr/>
            <p:nvPr/>
          </p:nvSpPr>
          <p:spPr>
            <a:xfrm>
              <a:off x="2742840" y="3200400"/>
              <a:ext cx="561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19520"/>
              <a:ext cx="2236320" cy="60948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RATIO=Ae</a:t>
              </a:r>
              <a:r>
                <a:rPr b="1" lang="fr-FR" sz="2000" spc="-1" strike="noStrike" baseline="30000">
                  <a:solidFill>
                    <a:srgbClr val="ffff00"/>
                  </a:solidFill>
                  <a:latin typeface="Arial"/>
                </a:rPr>
                <a:t>B.NDVI_surfo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02080" y="2743200"/>
              <a:ext cx="6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41120" y="4648320"/>
            <a:ext cx="5697720" cy="838080"/>
            <a:chOff x="141120" y="4648320"/>
            <a:chExt cx="5697720" cy="838080"/>
          </a:xfrm>
        </p:grpSpPr>
        <p:sp>
          <p:nvSpPr>
            <p:cNvPr id="102" name=""/>
            <p:cNvSpPr/>
            <p:nvPr/>
          </p:nvSpPr>
          <p:spPr>
            <a:xfrm>
              <a:off x="141120" y="4876920"/>
              <a:ext cx="5697720" cy="60948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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 such as 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MAC_aero(</a:t>
              </a: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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blue_surfo, </a:t>
              </a: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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) = </a:t>
              </a:r>
              <a:r>
                <a:rPr b="1" lang="fr-FR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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blue_reference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7560" y="4648320"/>
              <a:ext cx="0" cy="3045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67560" y="4267080"/>
            <a:ext cx="1477800" cy="914400"/>
            <a:chOff x="5767560" y="4267080"/>
            <a:chExt cx="1477800" cy="914400"/>
          </a:xfrm>
        </p:grpSpPr>
        <p:sp>
          <p:nvSpPr>
            <p:cNvPr id="105" name=""/>
            <p:cNvSpPr/>
            <p:nvPr/>
          </p:nvSpPr>
          <p:spPr>
            <a:xfrm>
              <a:off x="5767560" y="4267080"/>
              <a:ext cx="1477800" cy="38124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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p_retrieved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837400" y="4724280"/>
              <a:ext cx="492480" cy="45720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470640" y="4648320"/>
            <a:ext cx="703440" cy="1066680"/>
          </a:xfrm>
          <a:prstGeom prst="line">
            <a:avLst/>
          </a:prstGeom>
          <a:ln w="25560">
            <a:solidFill>
              <a:srgbClr val="063de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838840" y="5257800"/>
            <a:ext cx="2813040" cy="1143000"/>
            <a:chOff x="5838840" y="5257800"/>
            <a:chExt cx="2813040" cy="1143000"/>
          </a:xfrm>
        </p:grpSpPr>
        <p:sp>
          <p:nvSpPr>
            <p:cNvPr id="109" name=""/>
            <p:cNvSpPr/>
            <p:nvPr/>
          </p:nvSpPr>
          <p:spPr>
            <a:xfrm>
              <a:off x="5838840" y="5791320"/>
              <a:ext cx="2813040" cy="60948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MAC_aerosols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878240" y="5257800"/>
              <a:ext cx="421920" cy="533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87760" y="5791320"/>
            <a:ext cx="2179080" cy="685800"/>
            <a:chOff x="3587760" y="5791320"/>
            <a:chExt cx="2179080" cy="685800"/>
          </a:xfrm>
        </p:grpSpPr>
        <p:sp>
          <p:nvSpPr>
            <p:cNvPr id="112" name=""/>
            <p:cNvSpPr/>
            <p:nvPr/>
          </p:nvSpPr>
          <p:spPr>
            <a:xfrm>
              <a:off x="3587760" y="5791320"/>
              <a:ext cx="1335960" cy="6858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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_</a:t>
              </a:r>
              <a:r>
                <a:rPr b="1" lang="fr-FR" sz="2000" spc="-1" strike="noStrike">
                  <a:solidFill>
                    <a:srgbClr val="063de8"/>
                  </a:solidFill>
                  <a:latin typeface="Symbol"/>
                  <a:ea typeface="Symbol"/>
                </a:rPr>
                <a:t></a:t>
              </a:r>
              <a:r>
                <a:rPr b="1" lang="fr-FR" sz="2000" spc="-1" strike="noStrike">
                  <a:solidFill>
                    <a:srgbClr val="063de8"/>
                  </a:solidFill>
                  <a:latin typeface="Arial"/>
                </a:rPr>
                <a:t>i_surf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93200" y="6095880"/>
              <a:ext cx="77364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92920" y="3733920"/>
            <a:ext cx="2109960" cy="1523880"/>
            <a:chOff x="6892920" y="3733920"/>
            <a:chExt cx="2109960" cy="1523880"/>
          </a:xfrm>
        </p:grpSpPr>
        <p:grpSp>
          <p:nvGrpSpPr>
            <p:cNvPr id="115" name=""/>
            <p:cNvGrpSpPr/>
            <p:nvPr/>
          </p:nvGrpSpPr>
          <p:grpSpPr>
            <a:xfrm>
              <a:off x="6892920" y="3733920"/>
              <a:ext cx="2109960" cy="1523880"/>
              <a:chOff x="6892920" y="3733920"/>
              <a:chExt cx="2109960" cy="152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7596360" y="4876920"/>
                <a:ext cx="1406520" cy="38088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2000" spc="-1" strike="noStrike">
                    <a:solidFill>
                      <a:srgbClr val="063de8"/>
                    </a:solidFill>
                    <a:latin typeface="Symbol"/>
                    <a:ea typeface="Symbol"/>
                  </a:rPr>
                  <a:t></a:t>
                </a:r>
                <a:r>
                  <a:rPr b="1" lang="fr-FR" sz="2000" spc="-1" strike="noStrike">
                    <a:solidFill>
                      <a:srgbClr val="063de8"/>
                    </a:solidFill>
                    <a:latin typeface="Arial"/>
                  </a:rPr>
                  <a:t>p_climato</a:t>
                </a:r>
                <a:endParaRPr b="0" lang="en-US" sz="20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92920" y="3733920"/>
                <a:ext cx="1336320" cy="106668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85040" y="380988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41:04Z</dcterms:created>
  <dc:creator>Gilbert Saint</dc:creator>
  <dc:description/>
  <dc:language>en-US</dc:language>
  <cp:lastModifiedBy>bartho e</cp:lastModifiedBy>
  <dcterms:modified xsi:type="dcterms:W3CDTF">2002-05-27T09:50:36Z</dcterms:modified>
  <cp:revision>5</cp:revision>
  <dc:subject/>
  <dc:title>STATUS OF SPOT VEGETATION</dc:title>
</cp:coreProperties>
</file>