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1A5-C6E9-4808-B02A-D1BD4309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76B-A371-476D-A2E4-92E482B6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99A-4331-4CB3-B4A2-F6555FEC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54F-53E3-4671-9D4E-0AA8042E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FE5-F6EA-4DB6-90D0-11AD5E1B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C47-6334-47AE-AFC9-4510AD70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8C3-7C29-4098-923F-4F787E37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1CB-A394-46FD-ABA4-07BFA97B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EB6-BD0C-4448-A9AD-E977501D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ABF-2700-4195-8EDD-402ECDE7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A95-5F92-480A-B121-D1A9A342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9C7-4234-41E2-B17A-422E816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41480" y="0"/>
            <a:ext cx="7202520" cy="675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52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31C9-A4AB-43CF-975E-A8241CEB0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41480" y="0"/>
            <a:ext cx="7202520" cy="675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9080" cy="683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15200" y="5867280"/>
            <a:ext cx="10666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13120" y="5791320"/>
            <a:ext cx="1521000" cy="101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8380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"Towards a European Research Area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ng an area where the best possible use is made of the scientific capabilities and material resources within the 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national and European policies are implemented in a coherent fash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knowledge and personnel are allowed to circulate without 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41480" y="0"/>
            <a:ext cx="7202520" cy="6757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9080" cy="6838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15200" y="5867280"/>
            <a:ext cx="10666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13120" y="5791320"/>
            <a:ext cx="1521000" cy="101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6094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RA – The international dim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1337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ing the ERA more attractive to the best scientists and making it a world class reference centr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ing EU programmes to participation by third country researchers and 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specific international S&amp;T activitie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INCO-DEV, INCO-MED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ful to the implementation of EU foreign policy and developmen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83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315200" y="5867280"/>
            <a:ext cx="10666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13120" y="5791320"/>
            <a:ext cx="1521000" cy="101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reement on budget for International S&amp;T co-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00 mio€ for INCO mainstreaming in the thematic priorities (solely for third country ent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00 mio€ for a specific INCO programme (bi-regional S&amp;T co-operation) of which 100-150 mio€ reserved for INCO-D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41480" y="0"/>
            <a:ext cx="7202520" cy="675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9080" cy="683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15200" y="5867280"/>
            <a:ext cx="10666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13120" y="5791320"/>
            <a:ext cx="15210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762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trume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new instruments for the thematic priorities, networks of excellence and integrated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old instruments (joint research, CA, TN) for the specific INCO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08:59:53Z</dcterms:created>
  <dc:creator>delloch</dc:creator>
  <dc:description/>
  <dc:language>en-US</dc:language>
  <cp:lastModifiedBy>bartho e</cp:lastModifiedBy>
  <cp:lastPrinted>2002-03-13T11:15:15Z</cp:lastPrinted>
  <dcterms:modified xsi:type="dcterms:W3CDTF">2002-04-30T14:55:17Z</dcterms:modified>
  <cp:revision>2</cp:revision>
  <dc:subject/>
  <dc:title>No Slide Title</dc:title>
</cp:coreProperties>
</file>