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047-4E45-49FE-9785-8E9F38CC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732-3983-4637-87A3-949A295F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2D9-323C-4A66-A346-A16B8C3C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86D-9889-4E7F-9D62-0634BD4C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AC1-C489-4FF6-8438-860C6C3D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05E-E0F0-4BAA-A5E4-DB12968C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581-CD2F-4553-BACB-94333454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10D-0171-4D1E-BE3C-94D215CF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116-6D8B-4C6A-B81F-D28D7E0D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C11-4B97-4257-BF90-A687F262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6FA-FA70-4868-B4A3-6C342829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1F2-035A-4223-AC85-FE015E55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546D-6068-4309-848C-A4A8BD3A6AA1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LC2000 - Baltic Sea Basin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Met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Indata: SPOT VGT 10-day  composites from 01-04-2000 to 21-10-2000 and several SPOT VGT S-1 composite data for June and Sept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Channels: 2 visible (blue/red), NIR, MIR, NDVI, Status Map, Viewing Zenith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Ancillary Data: CORINE LC, BALANS LC/LU, Sverigeklassning data, 1:250 000 Rasterdata for Norway, DCW vector data, 200m EuropeD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29840" y="621648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GLC 2000 – “FIRST RESULTS”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JRC – Ispra, 18-22 March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040" y="-44794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 of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apport01_f0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29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re-processing of In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Remove bad MI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Remove water ”ring” around co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Remove pixels with a VZA &gt; 50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Remove clou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Remove s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Remove urban areas (based on ancillary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d MIR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igure0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47242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Pixel/ Cloud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rapport01_f02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51055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d Composit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igure6a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44956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Unsupervised classification (40 cla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Majority 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Masking of clusters which correspond exactly to referenc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econd unsupervised classification (40 cla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Automatic and manual comparison od clusters with referenc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Labelling of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198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Times New Roman"/>
              </a:rPr>
              <a:t>22 Classes in final leg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Times New Roman"/>
              </a:rPr>
              <a:t>11 pure and 11 mixed clas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Countries include: Denmark, Estonia, Finland, Germany, Latvia, Lithuania, Norway, Poland, Swe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Additional coverage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: Austria, Belarus, Belgium, Czech, France, Hungary,  Luxembourg,  Moldova, Netherlands, Rumania, Russia, Slovakia, Switzerla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56386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1 Artificial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 Agricultural Cr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3 Closed Wo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4 Closed Needlelea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5 Closed Broadlea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6 Herbac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7 Mixed Op/Cl Wo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8 Waterlogged Herbac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9 Bar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10 Loose &amp; Shifting S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11 Ice (S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12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13 Mixed 1 &amp; Unconsoli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14 Mixed 4 &amp;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15 Mixed 6 &amp; Shr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16 Mixed 6 &amp; Unconsoli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17 Mixed 8 &amp; Lichen &amp;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18 Mixed 2 &amp;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19 Mixed 2 &amp;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0 Mixed 2 &amp; 4 &amp;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1 Mixed 4 &amp; 5 &amp;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2 Mixed 4 &amp; 5 &amp;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52:04Z</dcterms:created>
  <dc:creator>micled</dc:creator>
  <dc:description/>
  <dc:language>en-US</dc:language>
  <cp:lastModifiedBy>bartho e</cp:lastModifiedBy>
  <dcterms:modified xsi:type="dcterms:W3CDTF">2002-04-30T14:49:32Z</dcterms:modified>
  <cp:revision>5</cp:revision>
  <dc:subject/>
  <dc:title>GLC2000 - Baltic Sea Basin</dc:title>
</cp:coreProperties>
</file>