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666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995688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680" y="4353840"/>
            <a:ext cx="995688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796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5680" y="435384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7960" y="435384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040" y="152352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88760" y="152352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5680" y="435384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040" y="435384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88760" y="4353840"/>
            <a:ext cx="320580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5680" y="1523520"/>
            <a:ext cx="99568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995688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485892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7960" y="1523520"/>
            <a:ext cx="485892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69920"/>
            <a:ext cx="1057896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7960" y="1523520"/>
            <a:ext cx="485892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5680" y="435384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485892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796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7960" y="435384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7960" y="1523520"/>
            <a:ext cx="485892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5680" y="4353840"/>
            <a:ext cx="9956880" cy="258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10578960" cy="1100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1cabd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680" y="1523520"/>
            <a:ext cx="9956880" cy="5418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601"/>
              </a:spcBef>
              <a:buClr>
                <a:srgbClr val="ef9100"/>
              </a:buClr>
              <a:buFont typeface="Wingdings" charset="2"/>
              <a:buChar char="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1" marL="824040" indent="-316080">
              <a:spcBef>
                <a:spcPts val="601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2" marL="1268280" indent="-253800">
              <a:spcBef>
                <a:spcPts val="601"/>
              </a:spcBef>
              <a:buClr>
                <a:srgbClr val="063de8"/>
              </a:buClr>
              <a:buSzPct val="5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3" marL="1776240" indent="-253800">
              <a:spcBef>
                <a:spcPts val="601"/>
              </a:spcBef>
              <a:buClr>
                <a:srgbClr val="0535cb"/>
              </a:buClr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4" marL="22845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5" marL="22845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6" marL="22845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535c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1080" y="7367760"/>
            <a:ext cx="15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100" spc="-1" strike="noStrike">
                <a:solidFill>
                  <a:srgbClr val="1892bf"/>
                </a:solidFill>
                <a:latin typeface="Arial"/>
              </a:rPr>
              <a:t>DPI/EOT - HJ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08280" y="7077240"/>
            <a:ext cx="5744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GB" sz="1600" spc="-1" strike="noStrike">
                <a:solidFill>
                  <a:srgbClr val="1892bf"/>
                </a:solidFill>
                <a:latin typeface="Arial"/>
              </a:rPr>
              <a:t>GLC 2000 workshop – March 18-22, 2002, JRC, Ispra,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838720" y="716292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896E58D6-96B2-4D08-967A-6B42F359F594}" type="slidenum">
              <a:rPr b="0" lang="fr-FR" sz="1200" spc="-1" strike="noStrike">
                <a:solidFill>
                  <a:srgbClr val="0535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nes" descr=""/>
          <p:cNvPicPr/>
          <p:nvPr/>
        </p:nvPicPr>
        <p:blipFill>
          <a:blip r:embed="rId2"/>
          <a:stretch/>
        </p:blipFill>
        <p:spPr>
          <a:xfrm>
            <a:off x="9505800" y="6756480"/>
            <a:ext cx="116208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7037280"/>
            <a:ext cx="1981080" cy="5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.vgt.vito.be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515600" cy="129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1892bf"/>
                </a:solidFill>
                <a:latin typeface="Arial"/>
              </a:rPr>
              <a:t>DATA DISTRIBUTION POLICY </a:t>
            </a:r>
            <a:br>
              <a:rPr sz="3600"/>
            </a:br>
            <a:r>
              <a:rPr b="1" lang="en-US" sz="3600" spc="-1" strike="noStrike">
                <a:solidFill>
                  <a:srgbClr val="1892bf"/>
                </a:solidFill>
                <a:latin typeface="Arial"/>
              </a:rPr>
              <a:t>MODALITIES</a:t>
            </a: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10287000" cy="541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7520" indent="0" algn="ctr">
              <a:spcBef>
                <a:spcPts val="451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400" spc="-1" strike="noStrike">
                <a:solidFill>
                  <a:srgbClr val="ee6501"/>
                </a:solidFill>
                <a:latin typeface="Arial"/>
              </a:rPr>
              <a:t>FOR ARCHIVED PRODUCTS (&gt; 3 months), 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marL="317520" indent="0" algn="ctr">
              <a:spcBef>
                <a:spcPts val="451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400" spc="-1" strike="noStrike">
                <a:solidFill>
                  <a:srgbClr val="ee6501"/>
                </a:solidFill>
                <a:latin typeface="Arial"/>
              </a:rPr>
              <a:t>P, S10 MVC and S10 BDC (D10)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marL="317520" indent="0" algn="ctr">
              <a:spcBef>
                <a:spcPts val="451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marL="317520" indent="-317520">
              <a:spcBef>
                <a:spcPts val="451"/>
              </a:spcBef>
              <a:buClr>
                <a:srgbClr val="ef9100"/>
              </a:buClr>
              <a:buFont typeface="Wingdings" charset="2"/>
              <a:buChar char="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400" spc="-1" strike="noStrike">
                <a:solidFill>
                  <a:srgbClr val="0535cb"/>
                </a:solidFill>
                <a:latin typeface="Arial"/>
              </a:rPr>
              <a:t>Same access for </a:t>
            </a:r>
            <a:r>
              <a:rPr b="0" lang="en-GB" sz="2400" spc="-1" strike="noStrike" u="sng">
                <a:solidFill>
                  <a:srgbClr val="0535cb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535cb"/>
                </a:solidFill>
                <a:latin typeface="Arial"/>
              </a:rPr>
              <a:t> users (scientific and non-scientific users)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marL="317520" indent="-317520">
              <a:spcBef>
                <a:spcPts val="451"/>
              </a:spcBef>
              <a:buClr>
                <a:srgbClr val="ef9100"/>
              </a:buClr>
              <a:buFont typeface="Wingdings" charset="2"/>
              <a:buChar char="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400" spc="-1" strike="noStrike">
                <a:solidFill>
                  <a:srgbClr val="0535cb"/>
                </a:solidFill>
                <a:latin typeface="Arial"/>
              </a:rPr>
              <a:t>Two access systems</a:t>
            </a:r>
            <a:endParaRPr b="0" lang="en-US" sz="24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-254160">
              <a:spcBef>
                <a:spcPts val="374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 u="sng">
                <a:solidFill>
                  <a:srgbClr val="0535cb"/>
                </a:solidFill>
                <a:uFillTx/>
                <a:latin typeface="Arial"/>
              </a:rPr>
              <a:t>on-line access</a:t>
            </a:r>
            <a:r>
              <a:rPr b="0" lang="en-GB" sz="2000" spc="-1" strike="noStrike">
                <a:solidFill>
                  <a:srgbClr val="0535cb"/>
                </a:solidFill>
                <a:latin typeface="Arial"/>
              </a:rPr>
              <a:t> via </a:t>
            </a:r>
            <a:r>
              <a:rPr b="0" lang="en-GB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www.free.vgt.vito.be</a:t>
            </a:r>
            <a:r>
              <a:rPr b="0" lang="en-GB" sz="2000" spc="-1" strike="noStrike">
                <a:solidFill>
                  <a:srgbClr val="0535cb"/>
                </a:solidFill>
                <a:latin typeface="Arial"/>
              </a:rPr>
              <a:t>  for S10 MVC (and shortly D10): free of charge. 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lvl="2" marL="1268280" indent="0">
              <a:spcBef>
                <a:spcPts val="337"/>
              </a:spcBef>
              <a:buNone/>
              <a:tabLst>
                <a:tab algn="l" pos="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800" spc="-1" strike="noStrike">
                <a:solidFill>
                  <a:srgbClr val="0535cb"/>
                </a:solidFill>
                <a:latin typeface="Arial"/>
              </a:rPr>
              <a:t>Condition : as specified on the web.</a:t>
            </a:r>
            <a:endParaRPr b="1" lang="en-US" sz="18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-254160">
              <a:spcBef>
                <a:spcPts val="374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 u="sng">
                <a:solidFill>
                  <a:srgbClr val="0535cb"/>
                </a:solidFill>
                <a:uFillTx/>
                <a:latin typeface="Arial"/>
              </a:rPr>
              <a:t>nominal CTIV</a:t>
            </a:r>
            <a:r>
              <a:rPr b="0" lang="en-GB" sz="2000" spc="-1" strike="noStrike">
                <a:solidFill>
                  <a:srgbClr val="0535cb"/>
                </a:solidFill>
                <a:latin typeface="Arial"/>
              </a:rPr>
              <a:t> for P, S10 and D10 products: under COFUR principle (COst of Fulfilling User Request).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lvl="2" marL="1268280" indent="0">
              <a:spcBef>
                <a:spcPts val="337"/>
              </a:spcBef>
              <a:buNone/>
              <a:tabLst>
                <a:tab algn="l" pos="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800" spc="-1" strike="noStrike">
                <a:solidFill>
                  <a:srgbClr val="0535cb"/>
                </a:solidFill>
                <a:latin typeface="Arial"/>
              </a:rPr>
              <a:t>One condition: delivery time on the best effort basis</a:t>
            </a:r>
            <a:r>
              <a:rPr b="1" lang="en-GB" sz="1800" spc="-1" strike="noStrike">
                <a:solidFill>
                  <a:srgbClr val="0535cb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535cb"/>
                </a:solidFill>
                <a:latin typeface="Arial"/>
              </a:rPr>
              <a:t>and depending on the production capacity of the CTIV.</a:t>
            </a:r>
            <a:endParaRPr b="1" lang="en-US" sz="18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515600" cy="129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1892bf"/>
                </a:solidFill>
                <a:latin typeface="Arial"/>
              </a:rPr>
              <a:t>DATA DISTRIBUTION POLICY </a:t>
            </a:r>
            <a:br>
              <a:rPr sz="3600"/>
            </a:br>
            <a:r>
              <a:rPr b="1" lang="en-US" sz="3600" spc="-1" strike="noStrike">
                <a:solidFill>
                  <a:srgbClr val="1892bf"/>
                </a:solidFill>
                <a:latin typeface="Arial"/>
              </a:rPr>
              <a:t>MODALITIES</a:t>
            </a:r>
            <a:endParaRPr b="1" lang="en-US" sz="3600" spc="-1" strike="noStrike">
              <a:solidFill>
                <a:srgbClr val="1cabd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10287000" cy="480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7520" indent="0" algn="ctr">
              <a:spcBef>
                <a:spcPts val="374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>
                <a:solidFill>
                  <a:srgbClr val="ee6501"/>
                </a:solidFill>
                <a:latin typeface="Arial"/>
              </a:rPr>
              <a:t>FOR NEAR REAL TIME PRODUCTS (&lt; 3 months), 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marL="317520" indent="0" algn="ctr">
              <a:spcBef>
                <a:spcPts val="374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>
                <a:solidFill>
                  <a:srgbClr val="ee6501"/>
                </a:solidFill>
                <a:latin typeface="Arial"/>
              </a:rPr>
              <a:t>P, S1, S10 MVC and S10 BDC (D10)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marL="317520" indent="0" algn="ctr">
              <a:spcBef>
                <a:spcPts val="374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marL="317520" indent="-317520">
              <a:spcBef>
                <a:spcPts val="374"/>
              </a:spcBef>
              <a:buClr>
                <a:srgbClr val="ef9100"/>
              </a:buClr>
              <a:buFont typeface="Wingdings" charset="2"/>
              <a:buChar char="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>
                <a:solidFill>
                  <a:srgbClr val="0535cb"/>
                </a:solidFill>
                <a:latin typeface="Arial"/>
              </a:rPr>
              <a:t>Two categories of customers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marL="317520" indent="0">
              <a:spcBef>
                <a:spcPts val="374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-254160">
              <a:spcBef>
                <a:spcPts val="337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800" spc="-1" strike="noStrike" u="sng">
                <a:solidFill>
                  <a:srgbClr val="0535cb"/>
                </a:solidFill>
                <a:uFillTx/>
                <a:latin typeface="Arial"/>
              </a:rPr>
              <a:t>scientific users</a:t>
            </a:r>
            <a:r>
              <a:rPr b="0" lang="en-GB" sz="1800" spc="-1" strike="noStrike">
                <a:solidFill>
                  <a:srgbClr val="0535cb"/>
                </a:solidFill>
                <a:latin typeface="Arial"/>
              </a:rPr>
              <a:t> (including all projects carried out or funded by programme partners): access by nominal CTIV, under the COFUR scheme with two access conditions</a:t>
            </a:r>
            <a:endParaRPr b="0" lang="en-US" sz="1800" spc="-1" strike="noStrike">
              <a:solidFill>
                <a:srgbClr val="0535cb"/>
              </a:solidFill>
              <a:latin typeface="Arial"/>
            </a:endParaRPr>
          </a:p>
          <a:p>
            <a:pPr lvl="2" marL="1268280" indent="-253800">
              <a:spcBef>
                <a:spcPts val="300"/>
              </a:spcBef>
              <a:buClr>
                <a:srgbClr val="063de8"/>
              </a:buClr>
              <a:buSzPct val="5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600" spc="-1" strike="noStrike">
                <a:solidFill>
                  <a:srgbClr val="0535cb"/>
                </a:solidFill>
                <a:latin typeface="Arial"/>
              </a:rPr>
              <a:t>delivery time based on best effort basis depending on the production capacity of CTIV</a:t>
            </a:r>
            <a:endParaRPr b="1" lang="en-US" sz="1600" spc="-1" strike="noStrike">
              <a:solidFill>
                <a:srgbClr val="0535cb"/>
              </a:solidFill>
              <a:latin typeface="Arial"/>
            </a:endParaRPr>
          </a:p>
          <a:p>
            <a:pPr lvl="2" marL="1268280" indent="-253800">
              <a:spcBef>
                <a:spcPts val="300"/>
              </a:spcBef>
              <a:buClr>
                <a:srgbClr val="063de8"/>
              </a:buClr>
              <a:buSzPct val="5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600" spc="-1" strike="noStrike">
                <a:solidFill>
                  <a:srgbClr val="0535cb"/>
                </a:solidFill>
                <a:latin typeface="Arial"/>
              </a:rPr>
              <a:t>only after submission to and approval by the VEGETATION Scientist of a request form</a:t>
            </a:r>
            <a:endParaRPr b="1" lang="en-US" sz="16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-254160">
              <a:spcBef>
                <a:spcPts val="337"/>
              </a:spcBef>
              <a:buClr>
                <a:srgbClr val="ef9100"/>
              </a:buClr>
              <a:buSzPct val="55000"/>
              <a:buFont typeface="Wingdings" charset="2"/>
              <a:buChar char="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1800" spc="-1" strike="noStrike" u="sng">
                <a:solidFill>
                  <a:srgbClr val="0535cb"/>
                </a:solidFill>
                <a:uFillTx/>
                <a:latin typeface="Arial"/>
              </a:rPr>
              <a:t>other users</a:t>
            </a:r>
            <a:r>
              <a:rPr b="0" lang="en-GB" sz="1800" spc="-1" strike="noStrike">
                <a:solidFill>
                  <a:srgbClr val="0535cb"/>
                </a:solidFill>
                <a:latin typeface="Arial"/>
              </a:rPr>
              <a:t>: commercial access to the products through nominal CTIV using the official price list without condition.</a:t>
            </a:r>
            <a:endParaRPr b="0" lang="en-US" sz="1800" spc="-1" strike="noStrike">
              <a:solidFill>
                <a:srgbClr val="0535cb"/>
              </a:solidFill>
              <a:latin typeface="Arial"/>
            </a:endParaRPr>
          </a:p>
          <a:p>
            <a:pPr lvl="1" marL="762120" indent="0">
              <a:spcBef>
                <a:spcPts val="337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535cb"/>
              </a:solidFill>
              <a:latin typeface="Arial"/>
            </a:endParaRPr>
          </a:p>
          <a:p>
            <a:pPr marL="317520" indent="-317520">
              <a:spcBef>
                <a:spcPts val="374"/>
              </a:spcBef>
              <a:buClr>
                <a:srgbClr val="ef9100"/>
              </a:buClr>
              <a:buFont typeface="Wingdings" charset="2"/>
              <a:buChar char="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000" spc="-1" strike="noStrike">
                <a:solidFill>
                  <a:srgbClr val="0535cb"/>
                </a:solidFill>
                <a:latin typeface="Arial"/>
                <a:ea typeface="Times New Roman"/>
              </a:rPr>
              <a:t>all products can be delivered to any user, whatever its category, without conditions if the user is buying the product at the official price.</a:t>
            </a:r>
            <a:r>
              <a:rPr b="0" lang="fr-FR" sz="2000" spc="-1" strike="noStrike">
                <a:solidFill>
                  <a:srgbClr val="0535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535c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304920"/>
            <a:ext cx="9676800" cy="6324480"/>
            <a:chOff x="533520" y="304920"/>
            <a:chExt cx="9676800" cy="6324480"/>
          </a:xfrm>
        </p:grpSpPr>
        <p:grpSp>
          <p:nvGrpSpPr>
            <p:cNvPr id="48" name=""/>
            <p:cNvGrpSpPr/>
            <p:nvPr/>
          </p:nvGrpSpPr>
          <p:grpSpPr>
            <a:xfrm>
              <a:off x="540360" y="307440"/>
              <a:ext cx="9661680" cy="6318720"/>
              <a:chOff x="540360" y="307440"/>
              <a:chExt cx="9661680" cy="63187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540360" y="307440"/>
                <a:ext cx="1245960" cy="469800"/>
                <a:chOff x="540360" y="307440"/>
                <a:chExt cx="1245960" cy="46980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605880" y="307440"/>
                  <a:ext cx="11142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540360" y="307440"/>
                  <a:ext cx="124596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1786680" y="307440"/>
                <a:ext cx="1306800" cy="469800"/>
                <a:chOff x="1786680" y="307440"/>
                <a:chExt cx="1306800" cy="4698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852200" y="307440"/>
                  <a:ext cx="11754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786680" y="307440"/>
                  <a:ext cx="130680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094200" y="307440"/>
                <a:ext cx="7107840" cy="469800"/>
                <a:chOff x="3094200" y="307440"/>
                <a:chExt cx="7107840" cy="4698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160440" y="307440"/>
                  <a:ext cx="697572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6320" bIns="76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VEGETATION Produc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094200" y="307440"/>
                  <a:ext cx="71078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40360" y="777240"/>
                <a:ext cx="1245960" cy="469800"/>
                <a:chOff x="540360" y="777240"/>
                <a:chExt cx="1245960" cy="469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605880" y="777240"/>
                  <a:ext cx="11142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40360" y="777240"/>
                  <a:ext cx="124596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786680" y="777240"/>
                <a:ext cx="1306800" cy="469800"/>
                <a:chOff x="1786680" y="777240"/>
                <a:chExt cx="1306800" cy="4698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852200" y="777240"/>
                  <a:ext cx="11754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86680" y="777240"/>
                  <a:ext cx="130680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094200" y="777240"/>
                <a:ext cx="4016880" cy="469800"/>
                <a:chOff x="3094200" y="777240"/>
                <a:chExt cx="4016880" cy="4698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160440" y="777240"/>
                  <a:ext cx="38844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lder than 3 month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094200" y="777240"/>
                  <a:ext cx="401688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111440" y="777240"/>
                <a:ext cx="3090240" cy="469800"/>
                <a:chOff x="7111440" y="777240"/>
                <a:chExt cx="3090240" cy="4698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176960" y="777240"/>
                  <a:ext cx="295884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Younger than 3 month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111440" y="777240"/>
                  <a:ext cx="30902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40360" y="1247400"/>
                <a:ext cx="1245960" cy="470160"/>
                <a:chOff x="540360" y="1247400"/>
                <a:chExt cx="1245960" cy="47016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605880" y="1247400"/>
                  <a:ext cx="11142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360" y="1247400"/>
                  <a:ext cx="12459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786680" y="1247400"/>
                <a:ext cx="1306800" cy="470160"/>
                <a:chOff x="1786680" y="1247400"/>
                <a:chExt cx="1306800" cy="470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852200" y="1247400"/>
                  <a:ext cx="11754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86680" y="1247400"/>
                  <a:ext cx="13068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094200" y="1247400"/>
                <a:ext cx="925560" cy="470160"/>
                <a:chOff x="3094200" y="1247400"/>
                <a:chExt cx="925560" cy="4701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160080" y="1247400"/>
                  <a:ext cx="7938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94200" y="1247400"/>
                  <a:ext cx="9255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020120" y="1247400"/>
                <a:ext cx="772560" cy="470160"/>
                <a:chOff x="4020120" y="1247400"/>
                <a:chExt cx="772560" cy="4701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086000" y="1247400"/>
                  <a:ext cx="64008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020120" y="1247400"/>
                  <a:ext cx="7725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793040" y="1247400"/>
                <a:ext cx="772200" cy="470160"/>
                <a:chOff x="4793040" y="1247400"/>
                <a:chExt cx="772200" cy="470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58560" y="1247400"/>
                  <a:ext cx="64044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793040" y="1247400"/>
                  <a:ext cx="7722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565600" y="1247400"/>
                <a:ext cx="772200" cy="470160"/>
                <a:chOff x="5565600" y="1247400"/>
                <a:chExt cx="772200" cy="470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31120" y="1247400"/>
                  <a:ext cx="6408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565600" y="1247400"/>
                  <a:ext cx="7722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338520" y="1247400"/>
                <a:ext cx="772560" cy="470160"/>
                <a:chOff x="6338520" y="1247400"/>
                <a:chExt cx="772560" cy="470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404400" y="1247400"/>
                  <a:ext cx="64008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338520" y="1247400"/>
                  <a:ext cx="7725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111440" y="1247400"/>
                <a:ext cx="772200" cy="470160"/>
                <a:chOff x="7111440" y="1247400"/>
                <a:chExt cx="772200" cy="470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176960" y="1247400"/>
                  <a:ext cx="6408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11440" y="1247400"/>
                  <a:ext cx="7722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884000" y="1247400"/>
                <a:ext cx="772200" cy="470160"/>
                <a:chOff x="7884000" y="1247400"/>
                <a:chExt cx="772200" cy="470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949880" y="1247400"/>
                  <a:ext cx="64044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84000" y="1247400"/>
                  <a:ext cx="7722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8656560" y="1247400"/>
                <a:ext cx="772560" cy="470160"/>
                <a:chOff x="8656560" y="1247400"/>
                <a:chExt cx="772560" cy="470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722440" y="1247400"/>
                  <a:ext cx="64008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656560" y="1247400"/>
                  <a:ext cx="77256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9429840" y="1247400"/>
                <a:ext cx="772200" cy="470160"/>
                <a:chOff x="9429840" y="1247400"/>
                <a:chExt cx="772200" cy="470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9495360" y="1247400"/>
                  <a:ext cx="640800" cy="47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429840" y="1247400"/>
                  <a:ext cx="772200" cy="47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40360" y="1717920"/>
                <a:ext cx="1245960" cy="2662920"/>
                <a:chOff x="540360" y="1717920"/>
                <a:chExt cx="1245960" cy="26629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05880" y="1717920"/>
                  <a:ext cx="1114200" cy="266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cientist and Programme partn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40360" y="1717920"/>
                  <a:ext cx="1245960" cy="266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786680" y="1717920"/>
                <a:ext cx="1306800" cy="783000"/>
                <a:chOff x="1786680" y="1717920"/>
                <a:chExt cx="1306800" cy="783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852200" y="1717920"/>
                  <a:ext cx="11754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cess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786680" y="1717920"/>
                  <a:ext cx="1306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094200" y="1717920"/>
                <a:ext cx="2471040" cy="783000"/>
                <a:chOff x="3094200" y="1717920"/>
                <a:chExt cx="2471040" cy="783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160440" y="1717920"/>
                  <a:ext cx="23385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m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94200" y="1717920"/>
                  <a:ext cx="24710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65600" y="1717920"/>
                <a:ext cx="1545120" cy="783000"/>
                <a:chOff x="5565600" y="1717920"/>
                <a:chExt cx="1545120" cy="783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31120" y="1717920"/>
                  <a:ext cx="14133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n-line via http://free.vgt.vito.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65600" y="1717920"/>
                  <a:ext cx="154512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111440" y="1717920"/>
                <a:ext cx="3090240" cy="783000"/>
                <a:chOff x="7111440" y="1717920"/>
                <a:chExt cx="3090240" cy="783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176960" y="1717920"/>
                  <a:ext cx="295884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m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11440" y="1717920"/>
                  <a:ext cx="30902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786680" y="2500920"/>
                <a:ext cx="1306800" cy="1409400"/>
                <a:chOff x="1786680" y="2500920"/>
                <a:chExt cx="1306800" cy="1409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852200" y="2500920"/>
                  <a:ext cx="1175400" cy="14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ndi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86680" y="2500920"/>
                  <a:ext cx="1306800" cy="14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094200" y="2500920"/>
                <a:ext cx="2471040" cy="1409400"/>
                <a:chOff x="3094200" y="2500920"/>
                <a:chExt cx="2471040" cy="1409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60440" y="2500920"/>
                  <a:ext cx="2338560" cy="14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ivery time on best effort basis and depending on the production capacity of the CT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094200" y="2500920"/>
                  <a:ext cx="2471040" cy="14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65600" y="2500920"/>
                <a:ext cx="1545120" cy="1409400"/>
                <a:chOff x="5565600" y="2500920"/>
                <a:chExt cx="1545120" cy="1409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631120" y="2500920"/>
                  <a:ext cx="1413360" cy="14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s specified on the w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65600" y="2500920"/>
                  <a:ext cx="1545120" cy="14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111440" y="2500920"/>
                <a:ext cx="3090240" cy="1409400"/>
                <a:chOff x="7111440" y="2500920"/>
                <a:chExt cx="3090240" cy="14094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176960" y="2500920"/>
                  <a:ext cx="2958840" cy="14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ivery time on best effort basis and depending on the production capacity of the CT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nly after submission to and approval by the VEGETATION Programme Scientist of request for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11440" y="2500920"/>
                  <a:ext cx="3090240" cy="140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786680" y="3910680"/>
                <a:ext cx="1306800" cy="469800"/>
                <a:chOff x="1786680" y="3910680"/>
                <a:chExt cx="1306800" cy="469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852200" y="3910680"/>
                  <a:ext cx="11754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rice polic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786680" y="3910680"/>
                  <a:ext cx="130680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094200" y="3910680"/>
                <a:ext cx="2471040" cy="469800"/>
                <a:chOff x="3094200" y="3910680"/>
                <a:chExt cx="2471040" cy="469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160440" y="3910680"/>
                  <a:ext cx="23385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F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094200" y="3910680"/>
                  <a:ext cx="2471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65600" y="3910680"/>
                <a:ext cx="1545120" cy="469800"/>
                <a:chOff x="5565600" y="3910680"/>
                <a:chExt cx="1545120" cy="469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631120" y="3910680"/>
                  <a:ext cx="14133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ree of cha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65600" y="3910680"/>
                  <a:ext cx="154512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111440" y="3910680"/>
                <a:ext cx="3090240" cy="469800"/>
                <a:chOff x="7111440" y="3910680"/>
                <a:chExt cx="3090240" cy="4698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176960" y="3910680"/>
                  <a:ext cx="295884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F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11440" y="3910680"/>
                  <a:ext cx="30902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0360" y="4380840"/>
                <a:ext cx="1245960" cy="2245320"/>
                <a:chOff x="540360" y="4380840"/>
                <a:chExt cx="1245960" cy="2245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05880" y="4380840"/>
                  <a:ext cx="1114200" cy="22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ther us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0360" y="4380840"/>
                  <a:ext cx="1245960" cy="22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786680" y="4380840"/>
                <a:ext cx="1306800" cy="783000"/>
                <a:chOff x="1786680" y="4380840"/>
                <a:chExt cx="1306800" cy="783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852200" y="4380840"/>
                  <a:ext cx="11754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cess metho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86680" y="4380840"/>
                  <a:ext cx="1306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094200" y="4380840"/>
                <a:ext cx="2471040" cy="783000"/>
                <a:chOff x="3094200" y="4380840"/>
                <a:chExt cx="2471040" cy="7830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160440" y="4380840"/>
                  <a:ext cx="23385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m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094200" y="4380840"/>
                  <a:ext cx="24710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65600" y="4380840"/>
                <a:ext cx="1545120" cy="783000"/>
                <a:chOff x="5565600" y="4380840"/>
                <a:chExt cx="1545120" cy="783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631120" y="4380840"/>
                  <a:ext cx="14133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n-line via http://free.vgt.vito.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65600" y="4380840"/>
                  <a:ext cx="154512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111440" y="4380840"/>
                <a:ext cx="3090240" cy="783000"/>
                <a:chOff x="7111440" y="4380840"/>
                <a:chExt cx="3090240" cy="783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176960" y="4380840"/>
                  <a:ext cx="295884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m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11440" y="4380840"/>
                  <a:ext cx="30902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786680" y="5163840"/>
                <a:ext cx="1306800" cy="991800"/>
                <a:chOff x="1786680" y="5163840"/>
                <a:chExt cx="1306800" cy="991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852200" y="5163840"/>
                  <a:ext cx="1175400" cy="9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ndi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786680" y="5163840"/>
                  <a:ext cx="130680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094200" y="5163840"/>
                <a:ext cx="2471040" cy="991800"/>
                <a:chOff x="3094200" y="5163840"/>
                <a:chExt cx="2471040" cy="9918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160440" y="5163840"/>
                  <a:ext cx="2338560" cy="9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elivery time on best effort basis and depending on the production capacity of the CT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94200" y="5163840"/>
                  <a:ext cx="247104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65600" y="5163840"/>
                <a:ext cx="1545120" cy="991800"/>
                <a:chOff x="5565600" y="5163840"/>
                <a:chExt cx="1545120" cy="9918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631120" y="5163840"/>
                  <a:ext cx="1413360" cy="9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s specified on the w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65600" y="5163840"/>
                  <a:ext cx="154512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111440" y="5163840"/>
                <a:ext cx="3090240" cy="991800"/>
                <a:chOff x="7111440" y="5163840"/>
                <a:chExt cx="3090240" cy="9918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176960" y="5163840"/>
                  <a:ext cx="2958840" cy="9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 cond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111440" y="5163840"/>
                  <a:ext cx="3090240" cy="99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786680" y="6156000"/>
                <a:ext cx="1306800" cy="469800"/>
                <a:chOff x="1786680" y="6156000"/>
                <a:chExt cx="1306800" cy="4698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852200" y="6156000"/>
                  <a:ext cx="117540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rice polic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86680" y="6156000"/>
                  <a:ext cx="130680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94200" y="6156000"/>
                <a:ext cx="2471040" cy="469800"/>
                <a:chOff x="3094200" y="6156000"/>
                <a:chExt cx="2471040" cy="469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160440" y="6156000"/>
                  <a:ext cx="23385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OF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94200" y="6156000"/>
                  <a:ext cx="24710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565600" y="6156000"/>
                <a:ext cx="1545120" cy="469800"/>
                <a:chOff x="5565600" y="6156000"/>
                <a:chExt cx="1545120" cy="469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631120" y="6156000"/>
                  <a:ext cx="14133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ree of char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565600" y="6156000"/>
                  <a:ext cx="154512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111440" y="6156000"/>
                <a:ext cx="3090240" cy="469800"/>
                <a:chOff x="7111440" y="6156000"/>
                <a:chExt cx="3090240" cy="4698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176960" y="6156000"/>
                  <a:ext cx="295884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fficial price li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11440" y="6156000"/>
                  <a:ext cx="3090240" cy="4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533520" y="304920"/>
              <a:ext cx="9676800" cy="632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12:26:35Z</dcterms:created>
  <dc:creator>CNES</dc:creator>
  <dc:description/>
  <dc:language>en-US</dc:language>
  <cp:lastModifiedBy>bartho e</cp:lastModifiedBy>
  <dcterms:modified xsi:type="dcterms:W3CDTF">2002-04-30T14:47:07Z</dcterms:modified>
  <cp:revision>51</cp:revision>
  <dc:subject/>
  <dc:title>TITRE ARIAL GRAS OMBRÉ  CORPS 32 . BLEU CLAIR</dc:title>
</cp:coreProperties>
</file>