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wmf" ContentType="image/x-wmf"/>
  <Override PartName="/ppt/media/image13.jpeg" ContentType="image/jpeg"/>
  <Override PartName="/ppt/media/image30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840" y="3565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54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728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972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484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728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972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64840" y="111744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48276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4840" y="111744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54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4840" y="3565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54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5728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9720" y="1117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6484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5728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9720" y="3565440"/>
            <a:ext cx="256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482760"/>
            <a:ext cx="80769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5440" y="3565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48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5440" y="1117440"/>
            <a:ext cx="3885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4840" y="3565440"/>
            <a:ext cx="7962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64840" y="1117440"/>
            <a:ext cx="7962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6676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228600"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48276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TEMPnsmailUI" descr=""/>
          <p:cNvPicPr/>
          <p:nvPr/>
        </p:nvPicPr>
        <p:blipFill>
          <a:blip r:embed="rId2"/>
          <a:stretch/>
        </p:blipFill>
        <p:spPr>
          <a:xfrm>
            <a:off x="7853400" y="6181560"/>
            <a:ext cx="1290600" cy="676440"/>
          </a:xfrm>
          <a:prstGeom prst="rect">
            <a:avLst/>
          </a:prstGeom>
          <a:ln w="0">
            <a:noFill/>
          </a:ln>
        </p:spPr>
      </p:pic>
      <p:pic>
        <p:nvPicPr>
          <p:cNvPr id="5" name="IES-LOGO-05_05_01-V01-EN" descr=""/>
          <p:cNvPicPr/>
          <p:nvPr/>
        </p:nvPicPr>
        <p:blipFill>
          <a:blip r:embed="rId3"/>
          <a:stretch/>
        </p:blipFill>
        <p:spPr>
          <a:xfrm>
            <a:off x="0" y="6056280"/>
            <a:ext cx="1054080" cy="801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38400" y="6159600"/>
            <a:ext cx="6667200" cy="0"/>
          </a:xfrm>
          <a:prstGeom prst="line">
            <a:avLst/>
          </a:prstGeom>
          <a:ln w="19080">
            <a:solidFill>
              <a:srgbClr val="000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29840" y="621648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1060560" cy="62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056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915B-1B8E-430D-8F18-FA6E1150D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AI_Logo" descr=""/>
          <p:cNvPicPr/>
          <p:nvPr/>
        </p:nvPicPr>
        <p:blipFill>
          <a:blip r:embed="rId6"/>
          <a:stretch/>
        </p:blipFill>
        <p:spPr>
          <a:xfrm>
            <a:off x="0" y="0"/>
            <a:ext cx="1071720" cy="961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ftr" idx="1"/>
          </p:nvPr>
        </p:nvSpPr>
        <p:spPr>
          <a:xfrm>
            <a:off x="4889160" y="6375240"/>
            <a:ext cx="314964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TEMPnsmailUI" descr=""/>
          <p:cNvPicPr/>
          <p:nvPr/>
        </p:nvPicPr>
        <p:blipFill>
          <a:blip r:embed="rId7"/>
          <a:stretch/>
        </p:blipFill>
        <p:spPr>
          <a:xfrm>
            <a:off x="8143920" y="6334200"/>
            <a:ext cx="1000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3120" y="990720"/>
            <a:ext cx="66168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C 2000 – South America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ed by  H.E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E. de Miranda   C. di 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. Gond   O.Huber   S.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08240" y="58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92240" y="1486080"/>
            <a:ext cx="6489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 shadow in forest areas and An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sonal aspects not directly related to the land cover – snow / flooding / bu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pectral ambiguity – grasslands / agri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 areas not easy to descri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11280" y="241200"/>
            <a:ext cx="62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problem areas – V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treesforest" descr=""/>
          <p:cNvPicPr/>
          <p:nvPr/>
        </p:nvPicPr>
        <p:blipFill>
          <a:blip r:embed="rId1"/>
          <a:stretch/>
        </p:blipFill>
        <p:spPr>
          <a:xfrm>
            <a:off x="2432160" y="914400"/>
            <a:ext cx="3520800" cy="48751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5346720" y="1257480"/>
            <a:ext cx="2705040" cy="1346040"/>
            <a:chOff x="5346720" y="1257480"/>
            <a:chExt cx="2705040" cy="1346040"/>
          </a:xfrm>
        </p:grpSpPr>
        <p:sp>
          <p:nvSpPr>
            <p:cNvPr id="131" name=""/>
            <p:cNvSpPr/>
            <p:nvPr/>
          </p:nvSpPr>
          <p:spPr>
            <a:xfrm>
              <a:off x="5346720" y="2184480"/>
              <a:ext cx="444600" cy="41904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00800" y="1257480"/>
              <a:ext cx="165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 Brazil Caating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30600" y="2184480"/>
            <a:ext cx="5537160" cy="660240"/>
            <a:chOff x="2730600" y="2184480"/>
            <a:chExt cx="5537160" cy="660240"/>
          </a:xfrm>
        </p:grpSpPr>
        <p:sp>
          <p:nvSpPr>
            <p:cNvPr id="134" name=""/>
            <p:cNvSpPr/>
            <p:nvPr/>
          </p:nvSpPr>
          <p:spPr>
            <a:xfrm>
              <a:off x="2730600" y="2425680"/>
              <a:ext cx="444240" cy="41904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0040" y="2184480"/>
              <a:ext cx="191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es trans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81560" y="2781360"/>
            <a:ext cx="3873600" cy="990720"/>
            <a:chOff x="4381560" y="2781360"/>
            <a:chExt cx="3873600" cy="990720"/>
          </a:xfrm>
        </p:grpSpPr>
        <p:sp>
          <p:nvSpPr>
            <p:cNvPr id="137" name=""/>
            <p:cNvSpPr/>
            <p:nvPr/>
          </p:nvSpPr>
          <p:spPr>
            <a:xfrm>
              <a:off x="4381560" y="3352680"/>
              <a:ext cx="444600" cy="4194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040" y="27813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thern Braz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3390840"/>
            <a:ext cx="5460840" cy="1549440"/>
            <a:chOff x="3276720" y="3390840"/>
            <a:chExt cx="5460840" cy="1549440"/>
          </a:xfrm>
        </p:grpSpPr>
        <p:sp>
          <p:nvSpPr>
            <p:cNvPr id="140" name=""/>
            <p:cNvSpPr/>
            <p:nvPr/>
          </p:nvSpPr>
          <p:spPr>
            <a:xfrm>
              <a:off x="3276720" y="4521240"/>
              <a:ext cx="444240" cy="41904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50040" y="3390840"/>
              <a:ext cx="2387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gentina from Monte to Step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57680" y="4457880"/>
            <a:ext cx="5816520" cy="1117440"/>
            <a:chOff x="2857680" y="4457880"/>
            <a:chExt cx="5816520" cy="1117440"/>
          </a:xfrm>
        </p:grpSpPr>
        <p:sp>
          <p:nvSpPr>
            <p:cNvPr id="143" name=""/>
            <p:cNvSpPr/>
            <p:nvPr/>
          </p:nvSpPr>
          <p:spPr>
            <a:xfrm>
              <a:off x="2857680" y="5156280"/>
              <a:ext cx="444240" cy="41904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040" y="4457880"/>
              <a:ext cx="23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gellan grassla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full" descr=""/>
          <p:cNvPicPr/>
          <p:nvPr/>
        </p:nvPicPr>
        <p:blipFill>
          <a:blip r:embed="rId1"/>
          <a:stretch/>
        </p:blipFill>
        <p:spPr>
          <a:xfrm>
            <a:off x="833400" y="914400"/>
            <a:ext cx="3786120" cy="5361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876240" y="650880"/>
            <a:ext cx="8458200" cy="1292400"/>
            <a:chOff x="876240" y="650880"/>
            <a:chExt cx="8458200" cy="1292400"/>
          </a:xfrm>
        </p:grpSpPr>
        <p:sp>
          <p:nvSpPr>
            <p:cNvPr id="147" name=""/>
            <p:cNvSpPr/>
            <p:nvPr/>
          </p:nvSpPr>
          <p:spPr>
            <a:xfrm>
              <a:off x="876240" y="1067040"/>
              <a:ext cx="1714680" cy="876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corolab" descr=""/>
            <p:cNvPicPr/>
            <p:nvPr/>
          </p:nvPicPr>
          <p:blipFill>
            <a:blip r:embed="rId2"/>
            <a:stretch/>
          </p:blipFill>
          <p:spPr>
            <a:xfrm>
              <a:off x="4524480" y="650880"/>
              <a:ext cx="12128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095880" y="1143360"/>
              <a:ext cx="323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enezue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65360" y="1892160"/>
            <a:ext cx="5638680" cy="1739880"/>
            <a:chOff x="2565360" y="1892160"/>
            <a:chExt cx="5638680" cy="1739880"/>
          </a:xfrm>
        </p:grpSpPr>
        <p:sp>
          <p:nvSpPr>
            <p:cNvPr id="151" name=""/>
            <p:cNvSpPr/>
            <p:nvPr/>
          </p:nvSpPr>
          <p:spPr>
            <a:xfrm>
              <a:off x="2565360" y="1892160"/>
              <a:ext cx="1638360" cy="17398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ecofofca" descr=""/>
            <p:cNvPicPr/>
            <p:nvPr/>
          </p:nvPicPr>
          <p:blipFill>
            <a:blip r:embed="rId3"/>
            <a:stretch/>
          </p:blipFill>
          <p:spPr>
            <a:xfrm>
              <a:off x="5040360" y="2738160"/>
              <a:ext cx="121284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emb_nma" descr=""/>
            <p:cNvPicPr/>
            <p:nvPr/>
          </p:nvPicPr>
          <p:blipFill>
            <a:blip r:embed="rId4"/>
            <a:stretch/>
          </p:blipFill>
          <p:spPr>
            <a:xfrm>
              <a:off x="4309920" y="2028600"/>
              <a:ext cx="2479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83560" y="224784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raz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092240" y="2984400"/>
            <a:ext cx="7594560" cy="2717640"/>
            <a:chOff x="1092240" y="2984400"/>
            <a:chExt cx="7594560" cy="2717640"/>
          </a:xfrm>
        </p:grpSpPr>
        <p:sp>
          <p:nvSpPr>
            <p:cNvPr id="156" name=""/>
            <p:cNvSpPr/>
            <p:nvPr/>
          </p:nvSpPr>
          <p:spPr>
            <a:xfrm>
              <a:off x="1092240" y="2984400"/>
              <a:ext cx="1714320" cy="2717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INTALOGO1" descr=""/>
            <p:cNvPicPr/>
            <p:nvPr/>
          </p:nvPicPr>
          <p:blipFill>
            <a:blip r:embed="rId5"/>
            <a:stretch/>
          </p:blipFill>
          <p:spPr>
            <a:xfrm>
              <a:off x="4834080" y="4016160"/>
              <a:ext cx="84600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248520" y="41781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outhern C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79640" y="1587600"/>
            <a:ext cx="7493040" cy="4228920"/>
            <a:chOff x="1079640" y="1587600"/>
            <a:chExt cx="7493040" cy="4228920"/>
          </a:xfrm>
        </p:grpSpPr>
        <p:sp>
          <p:nvSpPr>
            <p:cNvPr id="160" name=""/>
            <p:cNvSpPr/>
            <p:nvPr/>
          </p:nvSpPr>
          <p:spPr>
            <a:xfrm>
              <a:off x="1079640" y="1587600"/>
              <a:ext cx="2120760" cy="13334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cirad-vert-icon" descr=""/>
            <p:cNvPicPr/>
            <p:nvPr/>
          </p:nvPicPr>
          <p:blipFill>
            <a:blip r:embed="rId6"/>
            <a:stretch/>
          </p:blipFill>
          <p:spPr>
            <a:xfrm>
              <a:off x="4991040" y="5249880"/>
              <a:ext cx="4572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969160" y="5295960"/>
              <a:ext cx="26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mazon fo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52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. Regional Experts working on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8200" y="528480"/>
            <a:ext cx="62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Experts helping with valid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full" descr=""/>
          <p:cNvPicPr/>
          <p:nvPr/>
        </p:nvPicPr>
        <p:blipFill>
          <a:blip r:embed="rId1"/>
          <a:stretch/>
        </p:blipFill>
        <p:spPr>
          <a:xfrm>
            <a:off x="1023840" y="1244520"/>
            <a:ext cx="3005280" cy="42562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130400" y="2108160"/>
            <a:ext cx="6369120" cy="1573200"/>
            <a:chOff x="1130400" y="2108160"/>
            <a:chExt cx="6369120" cy="1573200"/>
          </a:xfrm>
        </p:grpSpPr>
        <p:pic>
          <p:nvPicPr>
            <p:cNvPr id="167" name="grgbldg1a" descr=""/>
            <p:cNvPicPr/>
            <p:nvPr/>
          </p:nvPicPr>
          <p:blipFill>
            <a:blip r:embed="rId2"/>
            <a:stretch/>
          </p:blipFill>
          <p:spPr>
            <a:xfrm>
              <a:off x="5746680" y="2774880"/>
              <a:ext cx="175284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30400" y="2108160"/>
              <a:ext cx="355680" cy="596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65440" y="2755800"/>
            <a:ext cx="6783120" cy="1695600"/>
            <a:chOff x="1765440" y="2755800"/>
            <a:chExt cx="6783120" cy="1695600"/>
          </a:xfrm>
        </p:grpSpPr>
        <p:sp>
          <p:nvSpPr>
            <p:cNvPr id="170" name=""/>
            <p:cNvSpPr txBox="1"/>
            <p:nvPr/>
          </p:nvSpPr>
          <p:spPr>
            <a:xfrm>
              <a:off x="4836960" y="4146480"/>
              <a:ext cx="3711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iversidad Mayor de San André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5440" y="2755800"/>
              <a:ext cx="355320" cy="406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70080" y="1574640"/>
            <a:ext cx="6853320" cy="800280"/>
            <a:chOff x="1270080" y="1574640"/>
            <a:chExt cx="6853320" cy="800280"/>
          </a:xfrm>
        </p:grpSpPr>
        <p:pic>
          <p:nvPicPr>
            <p:cNvPr id="173" name="ciat" descr=""/>
            <p:cNvPicPr/>
            <p:nvPr/>
          </p:nvPicPr>
          <p:blipFill>
            <a:blip r:embed="rId3"/>
            <a:stretch/>
          </p:blipFill>
          <p:spPr>
            <a:xfrm>
              <a:off x="5618160" y="1689120"/>
              <a:ext cx="2505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270080" y="1574640"/>
              <a:ext cx="355680" cy="406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06440" y="67320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. Integration of specialist areas for regional pro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434960"/>
            <a:ext cx="6705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st all of South America is completed to the mimimum GLC 2000 legend – some areas/land cover types will have more detaile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wamp forests (JERS-1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amboo dominated forests (Acre / Pe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36560" y="59688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rationalisation with other tropic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safullpic" descr=""/>
          <p:cNvPicPr/>
          <p:nvPr/>
        </p:nvPicPr>
        <p:blipFill>
          <a:blip r:embed="rId1"/>
          <a:stretch/>
        </p:blipFill>
        <p:spPr>
          <a:xfrm>
            <a:off x="6184800" y="1657440"/>
            <a:ext cx="2603520" cy="3708360"/>
          </a:xfrm>
          <a:prstGeom prst="rect">
            <a:avLst/>
          </a:prstGeom>
          <a:ln w="0">
            <a:noFill/>
          </a:ln>
        </p:spPr>
      </p:pic>
      <p:pic>
        <p:nvPicPr>
          <p:cNvPr id="179" name="africa_glc" descr=""/>
          <p:cNvPicPr/>
          <p:nvPr/>
        </p:nvPicPr>
        <p:blipFill>
          <a:blip r:embed="rId2"/>
          <a:stretch/>
        </p:blipFill>
        <p:spPr>
          <a:xfrm>
            <a:off x="187200" y="1746360"/>
            <a:ext cx="3586320" cy="348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79840" y="2819520"/>
            <a:ext cx="4114800" cy="799920"/>
          </a:xfrm>
          <a:prstGeom prst="leftRightArrow">
            <a:avLst>
              <a:gd name="adj1" fmla="val 50000"/>
              <a:gd name="adj2" fmla="val 1024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mayaux2" descr=""/>
          <p:cNvPicPr/>
          <p:nvPr/>
        </p:nvPicPr>
        <p:blipFill>
          <a:blip r:embed="rId3"/>
          <a:stretch/>
        </p:blipFill>
        <p:spPr>
          <a:xfrm>
            <a:off x="476280" y="1482840"/>
            <a:ext cx="2901960" cy="3867120"/>
          </a:xfrm>
          <a:prstGeom prst="rect">
            <a:avLst/>
          </a:prstGeom>
          <a:ln w="0">
            <a:noFill/>
          </a:ln>
        </p:spPr>
      </p:pic>
      <p:pic>
        <p:nvPicPr>
          <p:cNvPr id="182" name="Hu7Br" descr=""/>
          <p:cNvPicPr/>
          <p:nvPr/>
        </p:nvPicPr>
        <p:blipFill>
          <a:blip r:embed="rId4"/>
          <a:stretch/>
        </p:blipFill>
        <p:spPr>
          <a:xfrm>
            <a:off x="6350040" y="1362240"/>
            <a:ext cx="22129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584280"/>
            <a:ext cx="727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ontinental comparisons of vegetation dynamic from NDVI- derived parameters for each map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4960" y="2400480"/>
            <a:ext cx="6223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aximum ND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djusted minimum ND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ange of ND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ates of change of ND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grated ND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arameters of seasonality (fit of seasonally adjusted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244520" y="533520"/>
            <a:ext cx="6985080" cy="5545080"/>
            <a:chOff x="1244520" y="533520"/>
            <a:chExt cx="6985080" cy="5545080"/>
          </a:xfrm>
        </p:grpSpPr>
        <p:sp>
          <p:nvSpPr>
            <p:cNvPr id="186" name=""/>
            <p:cNvSpPr/>
            <p:nvPr/>
          </p:nvSpPr>
          <p:spPr>
            <a:xfrm>
              <a:off x="1244520" y="533520"/>
              <a:ext cx="698508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DVI maximum monthly image – allowing intercontinental comparis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vgtndviprof" descr=""/>
            <p:cNvPicPr/>
            <p:nvPr/>
          </p:nvPicPr>
          <p:blipFill>
            <a:blip r:embed="rId1"/>
            <a:stretch/>
          </p:blipFill>
          <p:spPr>
            <a:xfrm>
              <a:off x="1570320" y="1555920"/>
              <a:ext cx="6378840" cy="452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36840" y="3594240"/>
            <a:ext cx="561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Brazil should be ratified with EMBRAPA by the end of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 final “draft” for July / Au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3120" y="1219320"/>
            <a:ext cx="6642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raft map has been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s due to spectral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adequate knowledge of certain cove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43280" y="546120"/>
            <a:ext cx="5067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73400" y="774720"/>
            <a:ext cx="51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Com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98680" y="187956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 Leg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09760" y="306072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onal Leg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partnerships with national experts world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NTALOGO1" descr=""/>
          <p:cNvPicPr/>
          <p:nvPr/>
        </p:nvPicPr>
        <p:blipFill>
          <a:blip r:embed="rId1"/>
          <a:stretch/>
        </p:blipFill>
        <p:spPr>
          <a:xfrm>
            <a:off x="439560" y="4371840"/>
            <a:ext cx="846360" cy="754200"/>
          </a:xfrm>
          <a:prstGeom prst="rect">
            <a:avLst/>
          </a:prstGeom>
          <a:ln w="0">
            <a:noFill/>
          </a:ln>
        </p:spPr>
      </p:pic>
      <p:pic>
        <p:nvPicPr>
          <p:cNvPr id="95" name="ecofofca" descr=""/>
          <p:cNvPicPr/>
          <p:nvPr/>
        </p:nvPicPr>
        <p:blipFill>
          <a:blip r:embed="rId2"/>
          <a:stretch/>
        </p:blipFill>
        <p:spPr>
          <a:xfrm>
            <a:off x="4886280" y="4338720"/>
            <a:ext cx="1806480" cy="949320"/>
          </a:xfrm>
          <a:prstGeom prst="rect">
            <a:avLst/>
          </a:prstGeom>
          <a:ln w="0">
            <a:noFill/>
          </a:ln>
        </p:spPr>
      </p:pic>
      <p:pic>
        <p:nvPicPr>
          <p:cNvPr id="96" name="emb_nma" descr=""/>
          <p:cNvPicPr/>
          <p:nvPr/>
        </p:nvPicPr>
        <p:blipFill>
          <a:blip r:embed="rId3"/>
          <a:stretch/>
        </p:blipFill>
        <p:spPr>
          <a:xfrm>
            <a:off x="3218040" y="2752560"/>
            <a:ext cx="2479320" cy="640080"/>
          </a:xfrm>
          <a:prstGeom prst="rect">
            <a:avLst/>
          </a:prstGeom>
          <a:ln w="0">
            <a:noFill/>
          </a:ln>
        </p:spPr>
      </p:pic>
      <p:pic>
        <p:nvPicPr>
          <p:cNvPr id="97" name="cirad-vert-icon" descr=""/>
          <p:cNvPicPr/>
          <p:nvPr/>
        </p:nvPicPr>
        <p:blipFill>
          <a:blip r:embed="rId4"/>
          <a:stretch/>
        </p:blipFill>
        <p:spPr>
          <a:xfrm>
            <a:off x="1574640" y="2671920"/>
            <a:ext cx="685800" cy="823680"/>
          </a:xfrm>
          <a:prstGeom prst="rect">
            <a:avLst/>
          </a:prstGeom>
          <a:ln w="0">
            <a:noFill/>
          </a:ln>
        </p:spPr>
      </p:pic>
      <p:pic>
        <p:nvPicPr>
          <p:cNvPr id="98" name="corolab" descr=""/>
          <p:cNvPicPr/>
          <p:nvPr/>
        </p:nvPicPr>
        <p:blipFill>
          <a:blip r:embed="rId5"/>
          <a:stretch/>
        </p:blipFill>
        <p:spPr>
          <a:xfrm>
            <a:off x="6334200" y="2556000"/>
            <a:ext cx="1346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086600" y="4457880"/>
          <a:ext cx="1650960" cy="68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86600" y="4457880"/>
                    <a:ext cx="1650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828800" y="72396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ng Instit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iat" descr=""/>
          <p:cNvPicPr/>
          <p:nvPr/>
        </p:nvPicPr>
        <p:blipFill>
          <a:blip r:embed="rId8"/>
          <a:stretch/>
        </p:blipFill>
        <p:spPr>
          <a:xfrm>
            <a:off x="1998720" y="4508640"/>
            <a:ext cx="2504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76520" y="546120"/>
            <a:ext cx="57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st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511280"/>
            <a:ext cx="57909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. Centralis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. First-pass class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. Regional expert assessment of classes – re-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. Class ration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. Integration of specialist areas for regional pro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5440" y="558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. Centralised processing –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8880" y="1486080"/>
            <a:ext cx="671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seasonal mosaics from S10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vgtwin" descr=""/>
          <p:cNvPicPr/>
          <p:nvPr/>
        </p:nvPicPr>
        <p:blipFill>
          <a:blip r:embed="rId1"/>
          <a:stretch/>
        </p:blipFill>
        <p:spPr>
          <a:xfrm>
            <a:off x="611280" y="2092320"/>
            <a:ext cx="2028600" cy="2513160"/>
          </a:xfrm>
          <a:prstGeom prst="rect">
            <a:avLst/>
          </a:prstGeom>
          <a:ln w="0">
            <a:noFill/>
          </a:ln>
        </p:spPr>
      </p:pic>
      <p:pic>
        <p:nvPicPr>
          <p:cNvPr id="108" name="vgtspr" descr=""/>
          <p:cNvPicPr/>
          <p:nvPr/>
        </p:nvPicPr>
        <p:blipFill>
          <a:blip r:embed="rId2"/>
          <a:stretch/>
        </p:blipFill>
        <p:spPr>
          <a:xfrm>
            <a:off x="2670120" y="2116080"/>
            <a:ext cx="2006640" cy="2487600"/>
          </a:xfrm>
          <a:prstGeom prst="rect">
            <a:avLst/>
          </a:prstGeom>
          <a:ln w="0">
            <a:noFill/>
          </a:ln>
        </p:spPr>
      </p:pic>
      <p:pic>
        <p:nvPicPr>
          <p:cNvPr id="109" name="vgtsum" descr=""/>
          <p:cNvPicPr/>
          <p:nvPr/>
        </p:nvPicPr>
        <p:blipFill>
          <a:blip r:embed="rId3"/>
          <a:stretch/>
        </p:blipFill>
        <p:spPr>
          <a:xfrm>
            <a:off x="4735440" y="2101680"/>
            <a:ext cx="2044800" cy="2527560"/>
          </a:xfrm>
          <a:prstGeom prst="rect">
            <a:avLst/>
          </a:prstGeom>
          <a:ln w="0">
            <a:noFill/>
          </a:ln>
        </p:spPr>
      </p:pic>
      <p:pic>
        <p:nvPicPr>
          <p:cNvPr id="110" name="vgtfall" descr=""/>
          <p:cNvPicPr/>
          <p:nvPr/>
        </p:nvPicPr>
        <p:blipFill>
          <a:blip r:embed="rId4"/>
          <a:stretch/>
        </p:blipFill>
        <p:spPr>
          <a:xfrm>
            <a:off x="6831000" y="2119320"/>
            <a:ext cx="2028960" cy="247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03320" y="4724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M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pr-J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uly-S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Oct-D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232240"/>
            <a:ext cx="180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38760" y="518148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selection on lowest SW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7760" y="66024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f VGT seasonal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reesforest" descr=""/>
          <p:cNvPicPr/>
          <p:nvPr/>
        </p:nvPicPr>
        <p:blipFill>
          <a:blip r:embed="rId1"/>
          <a:stretch/>
        </p:blipFill>
        <p:spPr>
          <a:xfrm>
            <a:off x="857160" y="2541600"/>
            <a:ext cx="2327400" cy="3222720"/>
          </a:xfrm>
          <a:prstGeom prst="rect">
            <a:avLst/>
          </a:prstGeom>
          <a:ln w="0">
            <a:noFill/>
          </a:ln>
        </p:spPr>
      </p:pic>
      <p:pic>
        <p:nvPicPr>
          <p:cNvPr id="116" name="vgtnonfor" descr=""/>
          <p:cNvPicPr/>
          <p:nvPr/>
        </p:nvPicPr>
        <p:blipFill>
          <a:blip r:embed="rId2"/>
          <a:stretch/>
        </p:blipFill>
        <p:spPr>
          <a:xfrm>
            <a:off x="3355920" y="2589120"/>
            <a:ext cx="2241720" cy="3154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49320" y="1146240"/>
            <a:ext cx="74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ing of evergreen forest (use of TREES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03320" y="1739880"/>
            <a:ext cx="726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upervised clustering to 50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vgtclass" descr=""/>
          <p:cNvPicPr/>
          <p:nvPr/>
        </p:nvPicPr>
        <p:blipFill>
          <a:blip r:embed="rId3"/>
          <a:stretch/>
        </p:blipFill>
        <p:spPr>
          <a:xfrm>
            <a:off x="5877000" y="2631960"/>
            <a:ext cx="24447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070000" y="330120"/>
            <a:ext cx="52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. First pass class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38360" y="1084320"/>
            <a:ext cx="6819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 evergreen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ubs (dense / spa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nnah with shr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gras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50960" y="393840"/>
            <a:ext cx="6083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al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 and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VI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land cover maps and ancill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zcut" descr=""/>
          <p:cNvPicPr/>
          <p:nvPr/>
        </p:nvPicPr>
        <p:blipFill>
          <a:blip r:embed="rId1"/>
          <a:stretch/>
        </p:blipFill>
        <p:spPr>
          <a:xfrm>
            <a:off x="485640" y="271440"/>
            <a:ext cx="81727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vzcut" descr=""/>
          <p:cNvPicPr/>
          <p:nvPr/>
        </p:nvPicPr>
        <p:blipFill>
          <a:blip r:embed="rId1"/>
          <a:stretch/>
        </p:blipFill>
        <p:spPr>
          <a:xfrm>
            <a:off x="1376280" y="270000"/>
            <a:ext cx="6421680" cy="5440320"/>
          </a:xfrm>
          <a:prstGeom prst="rect">
            <a:avLst/>
          </a:prstGeom>
          <a:ln w="0">
            <a:noFill/>
          </a:ln>
        </p:spPr>
      </p:pic>
      <p:pic>
        <p:nvPicPr>
          <p:cNvPr id="125" name="vzcutigbp" descr=""/>
          <p:cNvPicPr/>
          <p:nvPr/>
        </p:nvPicPr>
        <p:blipFill>
          <a:blip r:embed="rId2"/>
          <a:stretch/>
        </p:blipFill>
        <p:spPr>
          <a:xfrm>
            <a:off x="1359000" y="192240"/>
            <a:ext cx="66675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09:05:02Z</dcterms:created>
  <dc:creator>Tim Richards</dc:creator>
  <dc:description/>
  <dc:language>en-US</dc:language>
  <cp:lastModifiedBy>bartho e</cp:lastModifiedBy>
  <cp:lastPrinted>1999-04-13T08:46:29Z</cp:lastPrinted>
  <dcterms:modified xsi:type="dcterms:W3CDTF">2002-04-30T14:34:26Z</dcterms:modified>
  <cp:revision>284</cp:revision>
  <dc:subject/>
  <dc:title>No Slide Title</dc:title>
</cp:coreProperties>
</file>