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849-DFCE-4744-A9C3-DC0CE5DF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D17-F03B-49A0-80DE-7CF8531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05D-0072-44E2-91C7-4F574A7A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CA9-4335-4CCA-990F-476F32C1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D61-EE01-4266-BDAF-3BF70946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7C-0DCA-4661-A538-9D27BCD1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C54-BC0D-486A-A88A-9EF9B1A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FF5-4B79-4FA9-AA65-BB0E42EA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9CE-48C4-487A-997C-08D3B924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629-AB21-4CBF-9123-2EC7205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D2E-409C-4E81-864F-243D00E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E2F-BEE1-4A34-B5E3-DAE388EB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D82-86E3-48C3-BAB4-41F468656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640" y="3352680"/>
            <a:ext cx="5616720" cy="228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ND COVER MAPPING OVER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SING S1-S10 VEGETATION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J-L CHAMPEAUX, S. GARRI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TEO-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mf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406520" cy="40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23360" y="769608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Confusion matrix between LC classification</a:t>
            </a:r>
            <a:br>
              <a:rPr sz="2400"/>
            </a:b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nd Corine Land Cover used as reference</a:t>
            </a:r>
            <a:br>
              <a:rPr sz="2400"/>
            </a:b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                     for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0480" y="4343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0200" y="1828800"/>
            <a:ext cx="54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rban  Crops Pastu.  BLF  CF  MF  Shr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62320"/>
            <a:ext cx="1257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hr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28600" y="2327400"/>
            <a:ext cx="597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64.4     2.2     0.6       0.9   0.7  0.7      0.4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.4      81.3   20.2    17.9  3.8  8.7     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.4        9.0    71.0      8.8   2.9  11.2    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9        5.6    4.3       71.6  89.2 74.9   1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3         0       0.1       0      0.9   0.2    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.           0       0.8      0.3   2.0    3.2     4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ogomf" descr=""/>
          <p:cNvPicPr/>
          <p:nvPr/>
        </p:nvPicPr>
        <p:blipFill>
          <a:blip r:embed="rId1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6840" y="1981080"/>
            <a:ext cx="57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Unsatisfactory detection of permanent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146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Unsatisfactory discrimination of coniferous and broad-leave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33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Problem of detection of urban areas:           Use of an urban mask (not up to da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Detection of  water bodies                    Use of a water ma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Discontinuities of land cover classes at the frontier of 2 different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81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How to treat mixed classes in nomenclature: pastures-crops, forests-crops-pa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920"/>
            <a:ext cx="51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Problems …questions….ANSWERS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mf" descr=""/>
          <p:cNvPicPr/>
          <p:nvPr/>
        </p:nvPicPr>
        <p:blipFill>
          <a:blip r:embed="rId1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15080" y="2286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58291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Good accuracy with VEGETATION data </a:t>
            </a:r>
            <a:br>
              <a:rPr sz="2400"/>
            </a:b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some improvements were obtained </a:t>
            </a:r>
            <a:br>
              <a:rPr sz="2400"/>
            </a:b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with S1 channels (B2,B3,M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87692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IDATION: we have an updated Corin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ver file (Spot, Landsat 1999)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vence-Alpes-Cote d’Azur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880" y="3317760"/>
            <a:ext cx="61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Some problems must be solved before 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the operational algorithm over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omf" descr=""/>
          <p:cNvPicPr/>
          <p:nvPr/>
        </p:nvPicPr>
        <p:blipFill>
          <a:blip r:embed="rId1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9760" y="438120"/>
            <a:ext cx="5838480" cy="8267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90640" y="27000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matic stratification of France (FI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505320" y="4876920"/>
                <a:ext cx="2030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" name="logomf" descr=""/>
          <p:cNvPicPr/>
          <p:nvPr/>
        </p:nvPicPr>
        <p:blipFill>
          <a:blip r:embed="rId2"/>
          <a:stretch/>
        </p:blipFill>
        <p:spPr>
          <a:xfrm>
            <a:off x="545148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Classification methodology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080" y="879480"/>
            <a:ext cx="557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First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supervised classification (k-me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nnual temporal 10-days (MVC) NDVI pro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685800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Secon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ection of clear dates uniformly distributed during the y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ach pixel is def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B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B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B3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MI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… B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B2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B3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MI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J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ncipal Component Analysis and selection of principal components the more explic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supervised classification (kmeans) on princip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mf" descr=""/>
          <p:cNvPicPr/>
          <p:nvPr/>
        </p:nvPicPr>
        <p:blipFill>
          <a:blip r:embed="rId1"/>
          <a:stretch/>
        </p:blipFill>
        <p:spPr>
          <a:xfrm>
            <a:off x="545148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9760" y="438120"/>
            <a:ext cx="5838480" cy="8267760"/>
          </a:xfrm>
          <a:prstGeom prst="rect">
            <a:avLst/>
          </a:prstGeom>
          <a:ln w="0">
            <a:noFill/>
          </a:ln>
        </p:spPr>
      </p:pic>
      <p:pic>
        <p:nvPicPr>
          <p:cNvPr id="53" name="logomf" descr=""/>
          <p:cNvPicPr/>
          <p:nvPr/>
        </p:nvPicPr>
        <p:blipFill>
          <a:blip r:embed="rId2"/>
          <a:stretch/>
        </p:blipFill>
        <p:spPr>
          <a:xfrm>
            <a:off x="533520" y="830592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9760" y="438120"/>
            <a:ext cx="5838480" cy="8267760"/>
          </a:xfrm>
          <a:prstGeom prst="rect">
            <a:avLst/>
          </a:prstGeom>
          <a:ln w="0">
            <a:noFill/>
          </a:ln>
        </p:spPr>
      </p:pic>
      <p:pic>
        <p:nvPicPr>
          <p:cNvPr id="55" name="logomf" descr=""/>
          <p:cNvPicPr/>
          <p:nvPr/>
        </p:nvPicPr>
        <p:blipFill>
          <a:blip r:embed="rId2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9760" y="438120"/>
            <a:ext cx="5838480" cy="8267760"/>
          </a:xfrm>
          <a:prstGeom prst="rect">
            <a:avLst/>
          </a:prstGeom>
          <a:ln w="0">
            <a:noFill/>
          </a:ln>
        </p:spPr>
      </p:pic>
      <p:pic>
        <p:nvPicPr>
          <p:cNvPr id="57" name="logomf" descr=""/>
          <p:cNvPicPr/>
          <p:nvPr/>
        </p:nvPicPr>
        <p:blipFill>
          <a:blip r:embed="rId2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9760" y="438120"/>
            <a:ext cx="5838480" cy="8267760"/>
          </a:xfrm>
          <a:prstGeom prst="rect">
            <a:avLst/>
          </a:prstGeom>
          <a:ln w="0">
            <a:noFill/>
          </a:ln>
        </p:spPr>
      </p:pic>
      <p:pic>
        <p:nvPicPr>
          <p:cNvPr id="59" name="logomf" descr=""/>
          <p:cNvPicPr/>
          <p:nvPr/>
        </p:nvPicPr>
        <p:blipFill>
          <a:blip r:embed="rId2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rban  Crops Pastu.  BLFt  MF  Mix Urb+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9320" y="609480"/>
            <a:ext cx="557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Confusion matrix between LC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nd Corine Land Cover used as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92160" y="2860560"/>
            <a:ext cx="120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440" y="16416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Region « CENTR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76320" y="2860560"/>
            <a:ext cx="56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3.3      1.9      0.4     1.3     2.     2.1      3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        87.5   31.7   20.2   4.7   49.1     4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       4.3      63.2    7.5    2.8   23.3     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       5.2      4.5     70.4   87.7 24.5     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        0        0          0      1.9    0          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4680" y="6934320"/>
            <a:ext cx="65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liability: Urban 53%, Crops 74%, Pastures 70%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ests 7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mf" descr=""/>
          <p:cNvPicPr/>
          <p:nvPr/>
        </p:nvPicPr>
        <p:blipFill>
          <a:blip r:embed="rId1"/>
          <a:stretch/>
        </p:blipFill>
        <p:spPr>
          <a:xfrm>
            <a:off x="0" y="874404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7520" y="-347760"/>
            <a:ext cx="6953040" cy="9839520"/>
          </a:xfrm>
          <a:prstGeom prst="rect">
            <a:avLst/>
          </a:prstGeom>
          <a:ln w="0">
            <a:noFill/>
          </a:ln>
        </p:spPr>
      </p:pic>
      <p:pic>
        <p:nvPicPr>
          <p:cNvPr id="68" name="logomf" descr=""/>
          <p:cNvPicPr/>
          <p:nvPr/>
        </p:nvPicPr>
        <p:blipFill>
          <a:blip r:embed="rId2"/>
          <a:stretch/>
        </p:blipFill>
        <p:spPr>
          <a:xfrm>
            <a:off x="0" y="8943840"/>
            <a:ext cx="1406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03:14Z</dcterms:created>
  <dc:creator>champjl</dc:creator>
  <dc:description/>
  <dc:language>en-US</dc:language>
  <cp:lastModifiedBy>bartho e</cp:lastModifiedBy>
  <dcterms:modified xsi:type="dcterms:W3CDTF">2002-04-30T14:42:56Z</dcterms:modified>
  <cp:revision>29</cp:revision>
  <dc:subject/>
  <dc:title>Présentation PowerPoint</dc:title>
</cp:coreProperties>
</file>