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FD2-04FB-40E5-89DE-5F53841C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A6E-4D80-4E60-AAD3-D9D208F7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055-F5ED-41FD-9742-05D81C29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B17-1554-4DC8-A110-7278408B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E1A-AAFF-4058-BDA5-3BD8F7B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F2C1-642B-4CCB-A7E3-D26813B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C7F-28CC-46FC-9795-8888556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646-5F84-4D90-B2B3-66A6853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79F-DCCA-431E-9B79-EC88D898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2F7-514D-4BDC-936B-FE2C6F1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128-F224-4F13-BB65-CB5060D3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005-D60E-45A1-BD40-050AD1C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3CCB-2789-4BA2-A4CF-ED6D54ABE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rrection of bidirectionnal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d impact on land cover class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720" y="4114800"/>
            <a:ext cx="61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J-L. CHAMPEAUX   METEO-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S. GARRIGUES        METEO-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C. GOUVE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ICAT, Universidade de Lisboa, Lisbon, Port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EST, Instituto Politécnico de Setubal, Portu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P. BICH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SCOT, Toulouse,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mf" descr=""/>
          <p:cNvPicPr/>
          <p:nvPr/>
        </p:nvPicPr>
        <p:blipFill>
          <a:blip r:embed="rId1"/>
          <a:stretch/>
        </p:blipFill>
        <p:spPr>
          <a:xfrm>
            <a:off x="228600" y="9220320"/>
            <a:ext cx="1406520" cy="39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6840" y="8153280"/>
            <a:ext cx="46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GLC 2000 – “FIRST RESULTS”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CopprplGoth Bd BT"/>
              </a:rPr>
              <a:t>JRC – Ispra, 18-22 March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53400" cy="9872640"/>
          </a:xfrm>
          <a:prstGeom prst="rect">
            <a:avLst/>
          </a:prstGeom>
          <a:ln w="0">
            <a:noFill/>
          </a:ln>
        </p:spPr>
      </p:pic>
      <p:pic>
        <p:nvPicPr>
          <p:cNvPr id="111" name="logomf" descr=""/>
          <p:cNvPicPr/>
          <p:nvPr/>
        </p:nvPicPr>
        <p:blipFill>
          <a:blip r:embed="rId2"/>
          <a:stretch/>
        </p:blipFill>
        <p:spPr>
          <a:xfrm>
            <a:off x="5451480" y="22860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47520" y="0"/>
            <a:ext cx="6953040" cy="9872640"/>
          </a:xfrm>
          <a:prstGeom prst="rect">
            <a:avLst/>
          </a:prstGeom>
          <a:ln w="0">
            <a:noFill/>
          </a:ln>
        </p:spPr>
      </p:pic>
      <p:pic>
        <p:nvPicPr>
          <p:cNvPr id="113" name="logomf" descr=""/>
          <p:cNvPicPr/>
          <p:nvPr/>
        </p:nvPicPr>
        <p:blipFill>
          <a:blip r:embed="rId2"/>
          <a:stretch/>
        </p:blipFill>
        <p:spPr>
          <a:xfrm>
            <a:off x="0" y="22860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53400" cy="9906120"/>
          </a:xfrm>
          <a:prstGeom prst="rect">
            <a:avLst/>
          </a:prstGeom>
          <a:ln w="0">
            <a:noFill/>
          </a:ln>
        </p:spPr>
      </p:pic>
      <p:pic>
        <p:nvPicPr>
          <p:cNvPr id="115" name="logomf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84240" y="28260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828800"/>
            <a:ext cx="60278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he cloud mask is cru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r use in kernel-driven BRDF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corrupted data distort the adjustmen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he regre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fter bidirectional correc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DVI profiles are noisy mainly in cloudy reg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due to the  too small number of points used for the regre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t this stage of the study, the landcover classifications made with data corrected from the bidirectionnal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o not improve the final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mf" descr=""/>
          <p:cNvPicPr/>
          <p:nvPr/>
        </p:nvPicPr>
        <p:blipFill>
          <a:blip r:embed="rId1"/>
          <a:stretch/>
        </p:blipFill>
        <p:spPr>
          <a:xfrm>
            <a:off x="0" y="0"/>
            <a:ext cx="14065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0"/>
            <a:ext cx="6781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Times New Roman"/>
              </a:rPr>
              <a:t>The usual strategy for directional correction: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100" spc="-1" strike="noStrike" u="sng">
                <a:solidFill>
                  <a:srgbClr val="ffffff"/>
                </a:solidFill>
                <a:uFillTx/>
                <a:latin typeface="Times New Roman"/>
              </a:rPr>
              <a:t>A 3 STEPS APPROACH</a:t>
            </a:r>
            <a:r>
              <a:rPr b="0" lang="en-GB" sz="41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1981080"/>
            <a:ext cx="3395160" cy="1447560"/>
            <a:chOff x="0" y="1981080"/>
            <a:chExt cx="3395160" cy="1447560"/>
          </a:xfrm>
        </p:grpSpPr>
        <p:sp>
          <p:nvSpPr>
            <p:cNvPr id="47" name=""/>
            <p:cNvSpPr/>
            <p:nvPr/>
          </p:nvSpPr>
          <p:spPr>
            <a:xfrm>
              <a:off x="0" y="1981080"/>
              <a:ext cx="3395160" cy="1447560"/>
            </a:xfrm>
            <a:prstGeom prst="rightArrowCallout">
              <a:avLst>
                <a:gd name="adj1" fmla="val 25002"/>
                <a:gd name="adj2" fmla="val 25000"/>
                <a:gd name="adj3" fmla="val 39091"/>
                <a:gd name="adj4" fmla="val 66667"/>
              </a:avLst>
            </a:prstGeom>
            <a:solidFill>
              <a:srgbClr val="b2b2b2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2160" y="2071440"/>
              <a:ext cx="20786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COLLECT RELIABLE CLOUD-FRE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505320" y="4191120"/>
            <a:ext cx="3352680" cy="4192560"/>
            <a:chOff x="3505320" y="4191120"/>
            <a:chExt cx="3352680" cy="4192560"/>
          </a:xfrm>
        </p:grpSpPr>
        <p:sp>
          <p:nvSpPr>
            <p:cNvPr id="50" name=""/>
            <p:cNvSpPr/>
            <p:nvPr/>
          </p:nvSpPr>
          <p:spPr>
            <a:xfrm>
              <a:off x="3505320" y="4191120"/>
              <a:ext cx="3313080" cy="116460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NORMALISE th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s</a:t>
              </a:r>
              <a:r>
                <a:rPr b="1" lang="en-GB" sz="2000" spc="-1" strike="noStrike" baseline="-25000">
                  <a:solidFill>
                    <a:srgbClr val="000099"/>
                  </a:solidFill>
                  <a:latin typeface="Garamond"/>
                </a:rPr>
                <a:t>o</a:t>
              </a: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;   </a:t>
              </a:r>
              <a:r>
                <a:rPr b="1" lang="en-GB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</a:t>
              </a: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v</a:t>
              </a:r>
              <a:r>
                <a:rPr b="1" lang="en-GB" sz="2000" spc="-1" strike="noStrike" baseline="-25000">
                  <a:solidFill>
                    <a:srgbClr val="000099"/>
                  </a:solidFill>
                  <a:latin typeface="Garamond"/>
                </a:rPr>
                <a:t>o</a:t>
              </a: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=NA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733920" y="5486400"/>
              <a:ext cx="3124080" cy="289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4191120"/>
            <a:ext cx="3581280" cy="4141080"/>
            <a:chOff x="0" y="4191120"/>
            <a:chExt cx="3581280" cy="4141080"/>
          </a:xfrm>
        </p:grpSpPr>
        <p:grpSp>
          <p:nvGrpSpPr>
            <p:cNvPr id="53" name=""/>
            <p:cNvGrpSpPr/>
            <p:nvPr/>
          </p:nvGrpSpPr>
          <p:grpSpPr>
            <a:xfrm>
              <a:off x="728280" y="4191120"/>
              <a:ext cx="2815560" cy="1424880"/>
              <a:chOff x="728280" y="4191120"/>
              <a:chExt cx="2815560" cy="1424880"/>
            </a:xfrm>
          </p:grpSpPr>
          <p:sp>
            <p:nvSpPr>
              <p:cNvPr id="54" name=""/>
              <p:cNvSpPr/>
              <p:nvPr/>
            </p:nvSpPr>
            <p:spPr>
              <a:xfrm>
                <a:off x="728280" y="4191120"/>
                <a:ext cx="2815560" cy="1424880"/>
              </a:xfrm>
              <a:prstGeom prst="rightArrowCallout">
                <a:avLst>
                  <a:gd name="adj1" fmla="val 25002"/>
                  <a:gd name="adj2" fmla="val 25000"/>
                  <a:gd name="adj3" fmla="val 32933"/>
                  <a:gd name="adj4" fmla="val 66667"/>
                </a:avLst>
              </a:prstGeom>
              <a:solidFill>
                <a:srgbClr val="b2b2b2"/>
              </a:solidFill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06040" y="4280040"/>
                <a:ext cx="1719360" cy="119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2000" spc="-1" strike="noStrike">
                    <a:solidFill>
                      <a:srgbClr val="000099"/>
                    </a:solidFill>
                    <a:latin typeface="Garamond"/>
                  </a:rPr>
                  <a:t>FIT THE BRDF 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6172200"/>
              <a:ext cx="3581280" cy="216000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Garamond"/>
                </a:rPr>
                <a:t>Roujean et al. (1992)</a:t>
              </a:r>
              <a:r>
                <a:rPr b="1" lang="en-GB" sz="2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Garamond"/>
                </a:rPr>
                <a:t>MOD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(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s, 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v, 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) =</a:t>
              </a:r>
              <a:r>
                <a:rPr b="0" lang="en-GB" sz="2400" spc="-1" strike="noStrike">
                  <a:solidFill>
                    <a:srgbClr val="00ffff"/>
                  </a:solidFill>
                  <a:latin typeface="Garamond"/>
                </a:rPr>
                <a:t> </a:t>
              </a:r>
              <a:r>
                <a:rPr b="1" lang="en-GB" sz="2400" spc="-1" strike="noStrike">
                  <a:solidFill>
                    <a:srgbClr val="00ffff"/>
                  </a:solidFill>
                  <a:latin typeface="Garamond"/>
                </a:rPr>
                <a:t>k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+</a:t>
              </a:r>
              <a:r>
                <a:rPr b="1" lang="en-GB" sz="2400" spc="-1" strike="noStrike">
                  <a:solidFill>
                    <a:srgbClr val="00ffff"/>
                  </a:solidFill>
                  <a:latin typeface="Garamond"/>
                </a:rPr>
                <a:t>k1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 f1 (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s, 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v, 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+ </a:t>
              </a:r>
              <a:r>
                <a:rPr b="1" lang="en-GB" sz="2400" spc="-1" strike="noStrike">
                  <a:solidFill>
                    <a:srgbClr val="00ffff"/>
                  </a:solidFill>
                  <a:latin typeface="Garamond"/>
                </a:rPr>
                <a:t>k2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 f2 (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s, 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v, </a:t>
              </a:r>
              <a:r>
                <a:rPr b="0" lang="en-GB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GB" sz="2400" spc="-1" strike="noStrike">
                  <a:solidFill>
                    <a:srgbClr val="ffffff"/>
                  </a:solidFill>
                  <a:latin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581280" y="2133720"/>
            <a:ext cx="27432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oud m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 S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80880" y="3962520"/>
            <a:ext cx="3124080" cy="1393200"/>
            <a:chOff x="380880" y="3962520"/>
            <a:chExt cx="3124080" cy="1393200"/>
          </a:xfrm>
        </p:grpSpPr>
        <p:sp>
          <p:nvSpPr>
            <p:cNvPr id="59" name=""/>
            <p:cNvSpPr/>
            <p:nvPr/>
          </p:nvSpPr>
          <p:spPr>
            <a:xfrm>
              <a:off x="380880" y="3962520"/>
              <a:ext cx="3124080" cy="1393200"/>
            </a:xfrm>
            <a:prstGeom prst="rightArrowCallout">
              <a:avLst>
                <a:gd name="adj1" fmla="val 25002"/>
                <a:gd name="adj2" fmla="val 25000"/>
                <a:gd name="adj3" fmla="val 37373"/>
                <a:gd name="adj4" fmla="val 66667"/>
              </a:avLst>
            </a:prstGeom>
            <a:solidFill>
              <a:srgbClr val="b2b2b2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280" y="4049640"/>
              <a:ext cx="19094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COLLECT </a:t>
              </a:r>
              <a:r>
                <a:rPr b="1" lang="en-GB" sz="2000" spc="-1" strike="noStrike">
                  <a:solidFill>
                    <a:srgbClr val="00cc99"/>
                  </a:solidFill>
                  <a:latin typeface="Garamond"/>
                </a:rPr>
                <a:t>THE N  LAST</a:t>
              </a: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 CLOUD-FREE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505320" y="3962520"/>
            <a:ext cx="2590560" cy="1371240"/>
            <a:chOff x="3505320" y="3962520"/>
            <a:chExt cx="2590560" cy="1371240"/>
          </a:xfrm>
        </p:grpSpPr>
        <p:sp>
          <p:nvSpPr>
            <p:cNvPr id="62" name=""/>
            <p:cNvSpPr/>
            <p:nvPr/>
          </p:nvSpPr>
          <p:spPr>
            <a:xfrm>
              <a:off x="3505320" y="3962520"/>
              <a:ext cx="2590560" cy="1371240"/>
            </a:xfrm>
            <a:prstGeom prst="rightArrowCallout">
              <a:avLst>
                <a:gd name="adj1" fmla="val 25002"/>
                <a:gd name="adj2" fmla="val 25000"/>
                <a:gd name="adj3" fmla="val 31487"/>
                <a:gd name="adj4" fmla="val 66667"/>
              </a:avLst>
            </a:prstGeom>
            <a:solidFill>
              <a:srgbClr val="b2b2b2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76960" y="4048200"/>
              <a:ext cx="158292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FIT THE BRDF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6320" y="380880"/>
            <a:ext cx="6781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Times New Roman"/>
              </a:rPr>
              <a:t>THE BIDIRECTIONAL COMPOSITING (BDC)</a:t>
            </a:r>
            <a:br>
              <a:rPr sz="42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. MAISONGRANDE, B. DUCHEMIN, CES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638360"/>
            <a:ext cx="685800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IDEA : COL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A CONSTANT NUMBER OF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FIT THE BRDF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REGARDLESS TO THE DATE OF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4080" y="8839080"/>
            <a:ext cx="2850840" cy="642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VERAGE OF THE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FLEC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133720" y="6248520"/>
            <a:ext cx="3047760" cy="2590200"/>
            <a:chOff x="2133720" y="6248520"/>
            <a:chExt cx="3047760" cy="2590200"/>
          </a:xfrm>
        </p:grpSpPr>
        <p:sp>
          <p:nvSpPr>
            <p:cNvPr id="68" name=""/>
            <p:cNvSpPr/>
            <p:nvPr/>
          </p:nvSpPr>
          <p:spPr>
            <a:xfrm>
              <a:off x="2133720" y="6248520"/>
              <a:ext cx="3047760" cy="2590200"/>
            </a:xfrm>
            <a:prstGeom prst="downArrowCallout">
              <a:avLst>
                <a:gd name="adj1" fmla="val 14709"/>
                <a:gd name="adj2" fmla="val 15198"/>
                <a:gd name="adj3" fmla="val 19644"/>
                <a:gd name="adj4" fmla="val 64880"/>
              </a:avLst>
            </a:prstGeom>
            <a:solidFill>
              <a:srgbClr val="b2b2b2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6248520"/>
              <a:ext cx="28954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USE THE ADJUSTED </a:t>
              </a:r>
              <a:r>
                <a:rPr b="1" lang="en-GB" sz="2000" spc="-1" strike="noStrike">
                  <a:solidFill>
                    <a:srgbClr val="3333cc"/>
                  </a:solidFill>
                  <a:latin typeface="Garamond"/>
                </a:rPr>
                <a:t>BRDF </a:t>
              </a:r>
              <a:r>
                <a:rPr b="1" lang="en-GB" sz="2000" spc="-1" strike="noStrike">
                  <a:solidFill>
                    <a:srgbClr val="000099"/>
                  </a:solidFill>
                  <a:latin typeface="Garamond"/>
                </a:rPr>
                <a:t>TO NORMALISE THE CLEAR REFLECTANCES OF THE LAST 10 DAY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6800" y="3200400"/>
            <a:ext cx="363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SCOT CLOUD MA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 pixel is cloudy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0(j) &gt; 0.2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0(j) &gt; 6* B0 Clim (mon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d B0(j) &gt; B2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3280" y="5562720"/>
            <a:ext cx="447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METEO-France   CLOUD MA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 pixel is cloudy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0(j) &gt; 0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WIR(j) &gt; 0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mf" descr=""/>
          <p:cNvPicPr/>
          <p:nvPr/>
        </p:nvPicPr>
        <p:blipFill>
          <a:blip r:embed="rId1"/>
          <a:stretch/>
        </p:blipFill>
        <p:spPr>
          <a:xfrm>
            <a:off x="304920" y="9144000"/>
            <a:ext cx="14065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0"/>
            <a:ext cx="6477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he BDC approach was applied here 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1 products are not optim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reduced data number and angular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no possibility to track aerosol 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loud mask is not 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47360" y="-34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876920"/>
            <a:ext cx="3352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DC  NDVI (SCOT m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9448920"/>
            <a:ext cx="4267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DC NDVI (Meteo-France ma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0400" y="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CLOUD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56000" y="0"/>
            <a:ext cx="525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lot of 10-days NDVI pro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VC (red) , BDC (gree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newbdc_br_12a" descr=""/>
          <p:cNvPicPr/>
          <p:nvPr/>
        </p:nvPicPr>
        <p:blipFill>
          <a:blip r:embed="rId1"/>
          <a:stretch/>
        </p:blipFill>
        <p:spPr>
          <a:xfrm>
            <a:off x="0" y="12952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ewbdc_br_18" descr=""/>
          <p:cNvPicPr/>
          <p:nvPr/>
        </p:nvPicPr>
        <p:blipFill>
          <a:blip r:embed="rId2"/>
          <a:stretch/>
        </p:blipFill>
        <p:spPr>
          <a:xfrm>
            <a:off x="0" y="579132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newbdc_sw_15" descr=""/>
          <p:cNvPicPr/>
          <p:nvPr/>
        </p:nvPicPr>
        <p:blipFill>
          <a:blip r:embed="rId1"/>
          <a:stretch/>
        </p:blipFill>
        <p:spPr>
          <a:xfrm>
            <a:off x="685800" y="6324480"/>
            <a:ext cx="5715000" cy="1771920"/>
          </a:xfrm>
          <a:prstGeom prst="rect">
            <a:avLst/>
          </a:prstGeom>
          <a:ln w="0">
            <a:noFill/>
          </a:ln>
        </p:spPr>
      </p:pic>
      <p:pic>
        <p:nvPicPr>
          <p:cNvPr id="86" name="newbdc_sw_18" descr=""/>
          <p:cNvPicPr/>
          <p:nvPr/>
        </p:nvPicPr>
        <p:blipFill>
          <a:blip r:embed="rId2"/>
          <a:stretch/>
        </p:blipFill>
        <p:spPr>
          <a:xfrm>
            <a:off x="685800" y="8134200"/>
            <a:ext cx="5715000" cy="1771920"/>
          </a:xfrm>
          <a:prstGeom prst="rect">
            <a:avLst/>
          </a:prstGeom>
          <a:ln w="0">
            <a:noFill/>
          </a:ln>
        </p:spPr>
      </p:pic>
      <p:pic>
        <p:nvPicPr>
          <p:cNvPr id="87" name="newbdc_sw_23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571500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newbdc_sw_24" descr=""/>
          <p:cNvPicPr/>
          <p:nvPr/>
        </p:nvPicPr>
        <p:blipFill>
          <a:blip r:embed="rId4"/>
          <a:stretch/>
        </p:blipFill>
        <p:spPr>
          <a:xfrm>
            <a:off x="685800" y="685800"/>
            <a:ext cx="5715000" cy="1771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newbdc_ce_12a" descr=""/>
          <p:cNvPicPr/>
          <p:nvPr/>
        </p:nvPicPr>
        <p:blipFill>
          <a:blip r:embed="rId5"/>
          <a:stretch/>
        </p:blipFill>
        <p:spPr>
          <a:xfrm>
            <a:off x="685800" y="4419720"/>
            <a:ext cx="5715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2b3_sw_12a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715000" cy="1771920"/>
          </a:xfrm>
          <a:prstGeom prst="rect">
            <a:avLst/>
          </a:prstGeom>
          <a:ln w="0">
            <a:noFill/>
          </a:ln>
        </p:spPr>
      </p:pic>
      <p:pic>
        <p:nvPicPr>
          <p:cNvPr id="94" name="b2b3_sw_12b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5715000" cy="1771560"/>
          </a:xfrm>
          <a:prstGeom prst="rect">
            <a:avLst/>
          </a:prstGeom>
          <a:ln w="0">
            <a:noFill/>
          </a:ln>
        </p:spPr>
      </p:pic>
      <p:pic>
        <p:nvPicPr>
          <p:cNvPr id="95" name="b2b3_sw_15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5715000" cy="1771920"/>
          </a:xfrm>
          <a:prstGeom prst="rect">
            <a:avLst/>
          </a:prstGeom>
          <a:ln w="0">
            <a:noFill/>
          </a:ln>
        </p:spPr>
      </p:pic>
      <p:pic>
        <p:nvPicPr>
          <p:cNvPr id="96" name="b2b3_sw_18" descr=""/>
          <p:cNvPicPr/>
          <p:nvPr/>
        </p:nvPicPr>
        <p:blipFill>
          <a:blip r:embed="rId4"/>
          <a:stretch/>
        </p:blipFill>
        <p:spPr>
          <a:xfrm>
            <a:off x="457200" y="7848720"/>
            <a:ext cx="5715000" cy="1771560"/>
          </a:xfrm>
          <a:prstGeom prst="rect">
            <a:avLst/>
          </a:prstGeom>
          <a:ln w="0">
            <a:noFill/>
          </a:ln>
        </p:spPr>
      </p:pic>
      <p:pic>
        <p:nvPicPr>
          <p:cNvPr id="97" name="b2b3_sw_24" descr=""/>
          <p:cNvPicPr/>
          <p:nvPr/>
        </p:nvPicPr>
        <p:blipFill>
          <a:blip r:embed="rId5"/>
          <a:stretch/>
        </p:blipFill>
        <p:spPr>
          <a:xfrm>
            <a:off x="457200" y="0"/>
            <a:ext cx="57150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1680" y="4067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newbdc_sw_new_12b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5715000" cy="1771560"/>
          </a:xfrm>
          <a:prstGeom prst="rect">
            <a:avLst/>
          </a:prstGeom>
          <a:ln w="0">
            <a:noFill/>
          </a:ln>
        </p:spPr>
      </p:pic>
      <p:pic>
        <p:nvPicPr>
          <p:cNvPr id="100" name="newbdc_sw_new_15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571500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newbdc_sw_new_18" descr=""/>
          <p:cNvPicPr/>
          <p:nvPr/>
        </p:nvPicPr>
        <p:blipFill>
          <a:blip r:embed="rId3"/>
          <a:stretch/>
        </p:blipFill>
        <p:spPr>
          <a:xfrm>
            <a:off x="533520" y="2514600"/>
            <a:ext cx="5715000" cy="1771560"/>
          </a:xfrm>
          <a:prstGeom prst="rect">
            <a:avLst/>
          </a:prstGeom>
          <a:ln w="0">
            <a:noFill/>
          </a:ln>
        </p:spPr>
      </p:pic>
      <p:pic>
        <p:nvPicPr>
          <p:cNvPr id="102" name="newbdc_sw_new_24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5715000" cy="1771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43400" y="-34920"/>
            <a:ext cx="547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-days NDVI profiles for severa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VC, BDC, Roujean model, dail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82296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lue: Rouj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reen:Rouj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d: M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lack: B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733920" y="7848720"/>
                <a:ext cx="950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7870680"/>
                <a:ext cx="866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3920" y="8229600"/>
                <a:ext cx="950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72000" y="8229600"/>
                <a:ext cx="1906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9" name="logomf" descr=""/>
          <p:cNvPicPr/>
          <p:nvPr/>
        </p:nvPicPr>
        <p:blipFill>
          <a:blip r:embed="rId5"/>
          <a:stretch/>
        </p:blipFill>
        <p:spPr>
          <a:xfrm>
            <a:off x="5181480" y="9296280"/>
            <a:ext cx="14065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07:58:20Z</dcterms:created>
  <dc:creator>champjl</dc:creator>
  <dc:description/>
  <dc:language>en-US</dc:language>
  <cp:lastModifiedBy>bartho e</cp:lastModifiedBy>
  <dcterms:modified xsi:type="dcterms:W3CDTF">2002-04-30T14:45:45Z</dcterms:modified>
  <cp:revision>17</cp:revision>
  <dc:subject/>
  <dc:title>Présentation PowerPoint</dc:title>
</cp:coreProperties>
</file>