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643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3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056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3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2056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972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286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3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7972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286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0663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056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a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56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3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a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056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2056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3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056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3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0663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056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0663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2056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7972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5286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0663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7972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5286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3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56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a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056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3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056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2056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056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3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066680" y="6324480"/>
            <a:ext cx="8077320" cy="533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0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663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a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  <a:p>
            <a:pPr lvl="1" marL="876240" indent="-419040">
              <a:spcBef>
                <a:spcPts val="700"/>
              </a:spcBef>
              <a:buClr>
                <a:srgbClr val="00008a"/>
              </a:buClr>
              <a:buSzPct val="8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a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  <a:p>
            <a:pPr lvl="2" marL="1257480" indent="-266760">
              <a:spcBef>
                <a:spcPts val="700"/>
              </a:spcBef>
              <a:buClr>
                <a:srgbClr val="00008a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a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8a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a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  <a:p>
            <a:pPr lvl="4" marL="1943280" indent="-228600">
              <a:spcBef>
                <a:spcPts val="700"/>
              </a:spcBef>
              <a:buClr>
                <a:srgbClr val="00008a"/>
              </a:buClr>
              <a:buSzPct val="8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a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  <a:p>
            <a:pPr lvl="5" marL="194328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a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  <a:p>
            <a:pPr lvl="6" marL="194328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a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610480" y="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558C8-3C4E-4F10-B263-DE80D908FC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0" y="6400800"/>
          <a:ext cx="1066680" cy="45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400800"/>
                    <a:ext cx="10666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"/>
          <p:cNvSpPr/>
          <p:nvPr/>
        </p:nvSpPr>
        <p:spPr>
          <a:xfrm rot="10800000">
            <a:off x="225000" y="1141560"/>
            <a:ext cx="4726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00"/>
                </a:solidFill>
                <a:latin typeface="Arial Narrow"/>
              </a:rPr>
              <a:t>Has EO found its custome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0" y="1066680"/>
            <a:ext cx="1066680" cy="52578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 rot="10800000">
            <a:off x="379440" y="1371240"/>
            <a:ext cx="549360" cy="47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3720960" y="64612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G</a:t>
            </a: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lobal </a:t>
            </a: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V</a:t>
            </a: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egetation </a:t>
            </a: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M</a:t>
            </a: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onitoring 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IES-LOGO-05_01-V01-EN" descr=""/>
          <p:cNvPicPr/>
          <p:nvPr/>
        </p:nvPicPr>
        <p:blipFill>
          <a:blip r:embed="rId5"/>
          <a:stretch/>
        </p:blipFill>
        <p:spPr>
          <a:xfrm>
            <a:off x="0" y="0"/>
            <a:ext cx="1073160" cy="831960"/>
          </a:xfrm>
          <a:prstGeom prst="rect">
            <a:avLst/>
          </a:prstGeom>
          <a:ln w="0">
            <a:noFill/>
          </a:ln>
        </p:spPr>
      </p:pic>
      <p:pic>
        <p:nvPicPr>
          <p:cNvPr id="11" name="Logo_GVM_546" descr=""/>
          <p:cNvPicPr/>
          <p:nvPr/>
        </p:nvPicPr>
        <p:blipFill>
          <a:blip r:embed="rId6"/>
          <a:stretch/>
        </p:blipFill>
        <p:spPr>
          <a:xfrm>
            <a:off x="8350200" y="6318360"/>
            <a:ext cx="793800" cy="539640"/>
          </a:xfrm>
          <a:prstGeom prst="rect">
            <a:avLst/>
          </a:prstGeom>
          <a:ln w="0">
            <a:noFill/>
          </a:ln>
        </p:spPr>
      </p:pic>
      <p:sp>
        <p:nvSpPr>
          <p:cNvPr id="12" name=""/>
          <p:cNvSpPr/>
          <p:nvPr/>
        </p:nvSpPr>
        <p:spPr>
          <a:xfrm>
            <a:off x="1092240" y="0"/>
            <a:ext cx="805176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a"/>
                </a:solidFill>
                <a:latin typeface="Arial"/>
              </a:rPr>
              <a:t>GLC – 2000</a:t>
            </a:r>
            <a:r>
              <a:rPr b="1" lang="en-US" sz="3400" spc="-1" strike="noStrike">
                <a:solidFill>
                  <a:srgbClr val="00009a"/>
                </a:solidFill>
                <a:latin typeface="Arial"/>
              </a:rPr>
              <a:t> </a:t>
            </a:r>
            <a:br>
              <a:rPr sz="3400"/>
            </a:br>
            <a:r>
              <a:rPr b="1" lang="en-US" sz="3400" spc="-1" strike="noStrike">
                <a:solidFill>
                  <a:srgbClr val="00009a"/>
                </a:solidFill>
                <a:latin typeface="Arial"/>
              </a:rPr>
              <a:t>Product and Data Managemen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9a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9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0" y="6400800"/>
          <a:ext cx="1066680" cy="45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400800"/>
                    <a:ext cx="10666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 rot="10800000">
            <a:off x="225000" y="1141560"/>
            <a:ext cx="4726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00"/>
                </a:solidFill>
                <a:latin typeface="Arial Narrow"/>
              </a:rPr>
              <a:t>Has EO found its custome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0" y="1066680"/>
            <a:ext cx="1066680" cy="52578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066680" y="6324480"/>
            <a:ext cx="8077320" cy="533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0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610480" y="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E564B-5181-4770-AD20-2524F124B8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IES-LOGO-05_01-V01-EN" descr=""/>
          <p:cNvPicPr/>
          <p:nvPr/>
        </p:nvPicPr>
        <p:blipFill>
          <a:blip r:embed="rId5"/>
          <a:stretch/>
        </p:blipFill>
        <p:spPr>
          <a:xfrm>
            <a:off x="0" y="0"/>
            <a:ext cx="1073160" cy="831960"/>
          </a:xfrm>
          <a:prstGeom prst="rect">
            <a:avLst/>
          </a:prstGeom>
          <a:ln w="0">
            <a:noFill/>
          </a:ln>
        </p:spPr>
      </p:pic>
      <p:pic>
        <p:nvPicPr>
          <p:cNvPr id="58" name="Logo_GVM_546" descr=""/>
          <p:cNvPicPr/>
          <p:nvPr/>
        </p:nvPicPr>
        <p:blipFill>
          <a:blip r:embed="rId6"/>
          <a:stretch/>
        </p:blipFill>
        <p:spPr>
          <a:xfrm>
            <a:off x="8350200" y="6318360"/>
            <a:ext cx="793800" cy="5396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720960" y="64612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G</a:t>
            </a: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lobal </a:t>
            </a: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V</a:t>
            </a: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egetation </a:t>
            </a: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M</a:t>
            </a: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onitoring 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9a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a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9a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8a"/>
              </a:solidFill>
              <a:latin typeface="Arial"/>
            </a:endParaRPr>
          </a:p>
          <a:p>
            <a:pPr lvl="2" marL="914400" indent="76320" algn="ctr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a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8a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a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8a"/>
              </a:solidFill>
              <a:latin typeface="Arial"/>
            </a:endParaRPr>
          </a:p>
          <a:p>
            <a:pPr lvl="4" marL="1714680" algn="ctr">
              <a:spcBef>
                <a:spcPts val="400"/>
              </a:spcBef>
              <a:buClr>
                <a:srgbClr val="00008a"/>
              </a:buClr>
              <a:buSzPct val="80000"/>
              <a:buFont typeface="Wingdings" charset="2"/>
              <a:buChar char="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a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8a"/>
              </a:solidFill>
              <a:latin typeface="Arial"/>
            </a:endParaRPr>
          </a:p>
          <a:p>
            <a:pPr lvl="5" marL="171468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a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8a"/>
              </a:solidFill>
              <a:latin typeface="Arial"/>
            </a:endParaRPr>
          </a:p>
          <a:p>
            <a:pPr lvl="6" marL="171468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a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8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756880" y="2019240"/>
            <a:ext cx="476172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GLC – 2000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Product Format an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Data manag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07880" y="4740120"/>
            <a:ext cx="39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sar CARMONA-MOR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0663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a"/>
                </a:solidFill>
                <a:latin typeface="Arial"/>
              </a:rPr>
              <a:t>Information structure is two fold:</a:t>
            </a: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  <a:p>
            <a:pPr lvl="1" marL="876240" indent="-41904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GLC-2000 Metadata: 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Answering user questions</a:t>
            </a:r>
            <a:endParaRPr b="1" lang="en-US" sz="2400" spc="-1" strike="noStrike">
              <a:solidFill>
                <a:srgbClr val="00008a"/>
              </a:solidFill>
              <a:latin typeface="Arial"/>
            </a:endParaRPr>
          </a:p>
          <a:p>
            <a:pPr lvl="2" marL="1257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a"/>
              </a:solidFill>
              <a:latin typeface="Arial"/>
            </a:endParaRPr>
          </a:p>
          <a:p>
            <a:pPr lvl="2" marL="1257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a"/>
              </a:solidFill>
              <a:latin typeface="Arial"/>
            </a:endParaRPr>
          </a:p>
          <a:p>
            <a:pPr lvl="2" marL="1257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a"/>
              </a:solidFill>
              <a:latin typeface="Arial"/>
            </a:endParaRPr>
          </a:p>
          <a:p>
            <a:pPr lvl="2" marL="1257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a"/>
              </a:solidFill>
              <a:latin typeface="Arial"/>
            </a:endParaRPr>
          </a:p>
          <a:p>
            <a:pPr lvl="1" marL="8762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8a"/>
              </a:solidFill>
              <a:latin typeface="Arial"/>
            </a:endParaRPr>
          </a:p>
          <a:p>
            <a:pPr lvl="1" marL="876240" indent="-4190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GLC-2000 Product: 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The Structure Simplicity in two ways.</a:t>
            </a:r>
            <a:endParaRPr b="1" lang="en-US" sz="2400" spc="-1" strike="noStrike">
              <a:solidFill>
                <a:srgbClr val="00008a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8a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57400" y="2487600"/>
            <a:ext cx="6906960" cy="21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8a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8a"/>
                </a:solidFill>
                <a:latin typeface="Arial"/>
              </a:rPr>
              <a:t>Developed in Access - Compatible ISO Metadata Standard ISO/DIS 191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8a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8a"/>
                </a:solidFill>
                <a:latin typeface="Arial"/>
              </a:rPr>
              <a:t>What is the GLC-2000 product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8a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8a"/>
                </a:solidFill>
                <a:latin typeface="Arial"/>
              </a:rPr>
              <a:t>How it was generated and/or obtain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8a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8a"/>
                </a:solidFill>
                <a:latin typeface="Arial"/>
              </a:rPr>
              <a:t>Where is the product availabl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90520" y="4784760"/>
            <a:ext cx="7953480" cy="16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8a"/>
                </a:solidFill>
                <a:latin typeface="Arial"/>
              </a:rPr>
              <a:t> </a:t>
            </a:r>
            <a:r>
              <a:rPr b="0" lang="en-GB" sz="2000" spc="-1" strike="noStrike" u="sng">
                <a:solidFill>
                  <a:srgbClr val="00008a"/>
                </a:solidFill>
                <a:uFillTx/>
                <a:latin typeface="Arial"/>
              </a:rPr>
              <a:t>Data format</a:t>
            </a:r>
            <a:r>
              <a:rPr b="0" lang="en-GB" sz="2000" spc="-1" strike="noStrike">
                <a:solidFill>
                  <a:srgbClr val="00008a"/>
                </a:solidFill>
                <a:latin typeface="Arial"/>
              </a:rPr>
              <a:t>: Simple format to be compatible with a wide spectrum of Processing Software and GIS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8a"/>
                </a:solidFill>
                <a:latin typeface="Arial"/>
              </a:rPr>
              <a:t> </a:t>
            </a:r>
            <a:r>
              <a:rPr b="0" lang="en-GB" sz="2000" spc="-1" strike="noStrike" u="sng">
                <a:solidFill>
                  <a:srgbClr val="00008a"/>
                </a:solidFill>
                <a:uFillTx/>
                <a:latin typeface="Arial"/>
              </a:rPr>
              <a:t>Data structure</a:t>
            </a:r>
            <a:r>
              <a:rPr b="0" lang="en-GB" sz="2000" spc="-1" strike="noStrike">
                <a:solidFill>
                  <a:srgbClr val="00008a"/>
                </a:solidFill>
                <a:latin typeface="Arial"/>
              </a:rPr>
              <a:t>: Simple structure to optimise the access to the data for 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0663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a"/>
                </a:solidFill>
                <a:latin typeface="Arial"/>
              </a:rPr>
              <a:t>METADATA</a:t>
            </a:r>
            <a:r>
              <a:rPr b="1" lang="en-US" sz="2800" spc="-1" strike="noStrike">
                <a:solidFill>
                  <a:srgbClr val="00009a"/>
                </a:solidFill>
                <a:latin typeface="Arial"/>
              </a:rPr>
              <a:t>: Used for informing user about the product and Documenting the product generation process.</a:t>
            </a: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22560" y="2505240"/>
            <a:ext cx="603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erarchical Description by Fo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73240" y="3059280"/>
            <a:ext cx="7970760" cy="33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Global Product Form: To be fulfilled by GVM. </a:t>
            </a:r>
            <a:br>
              <a:rPr sz="2000"/>
            </a:b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    1 Form – ~1 H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a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8a"/>
                </a:solidFill>
                <a:latin typeface="Arial"/>
              </a:rPr>
              <a:t>General Product Description, Product Format 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50000"/>
              </a:lnSpc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a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8a"/>
                </a:solidFill>
                <a:latin typeface="Arial"/>
              </a:rPr>
              <a:t>Minimum Mapping Unit, Pixel Re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50000"/>
              </a:lnSpc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a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8a"/>
                </a:solidFill>
                <a:latin typeface="Arial"/>
              </a:rPr>
              <a:t>How Do you Obtain the Product and Copyright 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50000"/>
              </a:lnSpc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a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8a"/>
                </a:solidFill>
                <a:latin typeface="Arial"/>
              </a:rPr>
              <a:t>Regional Components used for generating the Global 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50000"/>
              </a:lnSpc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a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8a"/>
                </a:solidFill>
                <a:latin typeface="Arial"/>
              </a:rPr>
              <a:t>Author, Contact Poin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50000"/>
              </a:lnSpc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a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8a"/>
                </a:solidFill>
                <a:latin typeface="Arial"/>
              </a:rPr>
              <a:t>Version Description: Quality, Projection and Leg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glc-2000generaldescriptio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0663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257480" indent="-266760">
              <a:spcBef>
                <a:spcPts val="499"/>
              </a:spcBef>
              <a:buClr>
                <a:srgbClr val="ff6600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Regional Product Forms: To be fulfilled by GLC-2000 regional partners – Only 3 forms (~2 or 3 hours as a presentation preparation)</a:t>
            </a:r>
            <a:endParaRPr b="0" lang="en-US" sz="2000" spc="-1" strike="noStrike">
              <a:solidFill>
                <a:srgbClr val="00008a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70840" y="1676520"/>
            <a:ext cx="826704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8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8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General Description For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80000"/>
              <a:buFont typeface="Wingdings" charset="2"/>
              <a:buChar char="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Region Name, Resolution and Minimum Mapping 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80000"/>
              <a:buFont typeface="Wingdings" charset="2"/>
              <a:buChar char="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Geographic Coordinates of the Re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80000"/>
              <a:buFont typeface="Wingdings" charset="2"/>
              <a:buChar char="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uthor and Cont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80000"/>
              <a:buFont typeface="Wingdings" charset="2"/>
              <a:buChar char="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Version Description: Version, Quality, Projection and Leg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57520" y="3870360"/>
            <a:ext cx="7773120" cy="23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8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Preprocessing Description For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80000"/>
              <a:buFont typeface="Wingdings" charset="2"/>
              <a:buChar char="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rief Methodology Descriptio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80000"/>
              <a:buFont typeface="Wingdings" charset="2"/>
              <a:buChar char="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Input Image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80000"/>
              <a:buFont typeface="Wingdings" charset="2"/>
              <a:buChar char="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Reference Documents, Images and Maps (if applicab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80000"/>
              <a:buFont typeface="Wingdings" charset="2"/>
              <a:buChar char="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Test Ar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80000"/>
              <a:buFont typeface="Wingdings" charset="2"/>
              <a:buChar char="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8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Processing Description Form: 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(as preced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glc-2000RegionalDescriptio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glc-2000preprocessingdescriptio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0663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a"/>
                </a:solidFill>
                <a:latin typeface="Arial"/>
              </a:rPr>
              <a:t>GLC-2000 Product:</a:t>
            </a:r>
            <a:endParaRPr b="1" lang="en-US" sz="2800" spc="-1" strike="noStrike">
              <a:solidFill>
                <a:srgbClr val="00009a"/>
              </a:solidFill>
              <a:latin typeface="Arial"/>
            </a:endParaRPr>
          </a:p>
          <a:p>
            <a:pPr lvl="1" marL="876240" indent="-41904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duct Structure</a:t>
            </a:r>
            <a:r>
              <a:rPr b="1" lang="en-US" sz="2400" spc="-1" strike="noStrike">
                <a:solidFill>
                  <a:srgbClr val="00008a"/>
                </a:solidFill>
                <a:latin typeface="Arial"/>
              </a:rPr>
              <a:t>: Easy to export/import by Processing Software and GIS tools</a:t>
            </a:r>
            <a:endParaRPr b="1" lang="en-US" sz="2400" spc="-1" strike="noStrike">
              <a:solidFill>
                <a:srgbClr val="00008a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71520" y="2392200"/>
            <a:ext cx="787248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Product Format - BIL data format in 8 bi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20000"/>
              </a:lnSpc>
              <a:spcBef>
                <a:spcPts val="601"/>
              </a:spcBef>
              <a:buClr>
                <a:srgbClr val="ff6600"/>
              </a:buClr>
              <a:buSzPct val="8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Product Data Structure - Three Layers (TB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44600" y="3259080"/>
            <a:ext cx="7799400" cy="29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70000"/>
              </a:lnSpc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a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8a"/>
                </a:solidFill>
                <a:latin typeface="Arial"/>
              </a:rPr>
              <a:t>GLC-2000 Classifica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70000"/>
              </a:lnSpc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70000"/>
              </a:lnSpc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a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8a"/>
                </a:solidFill>
                <a:latin typeface="Arial"/>
              </a:rPr>
              <a:t>Surface Equivalen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70000"/>
              </a:lnSpc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70000"/>
              </a:lnSpc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a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8a"/>
                </a:solidFill>
                <a:latin typeface="Arial"/>
              </a:rPr>
              <a:t>Spatialized Metadata in BIL forma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20000"/>
              </a:lnSpc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10000"/>
              </a:lnSpc>
              <a:spcBef>
                <a:spcPts val="400"/>
              </a:spcBef>
              <a:buClr>
                <a:srgbClr val="00008a"/>
              </a:buClr>
              <a:buSzPct val="80000"/>
              <a:buFont typeface="Wingdings" charset="2"/>
              <a:buChar char="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8a"/>
                </a:solidFill>
                <a:latin typeface="Arial"/>
              </a:rPr>
              <a:t>Name format will code the Product Name, Version, Projection and Production Date (Ex. GLC2000_V1_PC_Dec02.</a:t>
            </a:r>
            <a:r>
              <a:rPr b="0" i="1" lang="en-US" sz="1600" spc="-1" strike="noStrike">
                <a:solidFill>
                  <a:srgbClr val="00008a"/>
                </a:solidFill>
                <a:latin typeface="Arial"/>
              </a:rPr>
              <a:t>Ext</a:t>
            </a:r>
            <a:r>
              <a:rPr b="0" lang="en-US" sz="1600" spc="-1" strike="noStrike">
                <a:solidFill>
                  <a:srgbClr val="00008a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10000"/>
              </a:lnSpc>
              <a:spcBef>
                <a:spcPts val="400"/>
              </a:spcBef>
              <a:buClr>
                <a:srgbClr val="00008a"/>
              </a:buClr>
              <a:buSzPct val="80000"/>
              <a:buFont typeface="Wingdings" charset="2"/>
              <a:buChar char="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8a"/>
                </a:solidFill>
                <a:latin typeface="Arial"/>
              </a:rPr>
              <a:t>Spatialized Information (TBC) : Quality Indicator, LCCS, Methodology, Validation, Regional Component codes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10000"/>
              </a:lnSpc>
              <a:spcBef>
                <a:spcPts val="400"/>
              </a:spcBef>
              <a:buClr>
                <a:srgbClr val="00008a"/>
              </a:buClr>
              <a:buSzPct val="80000"/>
              <a:buFont typeface="Wingdings" charset="2"/>
              <a:buChar char="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8a"/>
                </a:solidFill>
                <a:latin typeface="Arial"/>
              </a:rPr>
              <a:t>CSV File containing metadata details (ASCII document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5T09:47:25Z</dcterms:created>
  <dc:creator>camo</dc:creator>
  <dc:description/>
  <dc:language>en-US</dc:language>
  <cp:lastModifiedBy>bartho e</cp:lastModifiedBy>
  <cp:lastPrinted>1999-12-01T16:19:14Z</cp:lastPrinted>
  <dcterms:modified xsi:type="dcterms:W3CDTF">2002-05-27T12:59:54Z</dcterms:modified>
  <cp:revision>160</cp:revision>
  <dc:subject/>
  <dc:title>No Slide Title</dc:title>
</cp:coreProperties>
</file>