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902825" cy="6858000"/>
  <p:notesSz cx="67183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838188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240" y="3956760"/>
            <a:ext cx="838188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409032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666400" y="1523880"/>
            <a:ext cx="409032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240" y="3956760"/>
            <a:ext cx="409032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66400" y="3956760"/>
            <a:ext cx="409032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26985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05160" y="1523880"/>
            <a:ext cx="26985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7039080" y="1523880"/>
            <a:ext cx="26985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240" y="3956760"/>
            <a:ext cx="26985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05160" y="3956760"/>
            <a:ext cx="26985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7039080" y="3956760"/>
            <a:ext cx="26985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240" y="1523880"/>
            <a:ext cx="8381880" cy="46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838188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409032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66400" y="1523880"/>
            <a:ext cx="409032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447920" y="30492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409032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66400" y="1523880"/>
            <a:ext cx="409032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3956760"/>
            <a:ext cx="409032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409032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6400" y="1523880"/>
            <a:ext cx="409032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666400" y="3956760"/>
            <a:ext cx="409032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409032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66400" y="1523880"/>
            <a:ext cx="409032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240" y="3956760"/>
            <a:ext cx="838188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816200" y="1676520"/>
            <a:ext cx="6931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858000"/>
            <a:ext cx="990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0" y="6400800"/>
          <a:ext cx="106668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400800"/>
                    <a:ext cx="10666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1066680" y="6324480"/>
            <a:ext cx="7772400" cy="533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78200" y="6296040"/>
            <a:ext cx="6043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371240" y="1523880"/>
            <a:ext cx="838188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6b61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676767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51"/>
              </a:spcBef>
              <a:buClr>
                <a:srgbClr val="919191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19191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9360" y="1133640"/>
          <a:ext cx="533520" cy="4400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360" y="1133640"/>
                    <a:ext cx="533520" cy="44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" name=""/>
          <p:cNvGraphicFramePr/>
          <p:nvPr/>
        </p:nvGraphicFramePr>
        <p:xfrm>
          <a:off x="0" y="30240"/>
          <a:ext cx="1050840" cy="814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30240"/>
                    <a:ext cx="105084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" name=""/>
          <p:cNvSpPr/>
          <p:nvPr/>
        </p:nvSpPr>
        <p:spPr>
          <a:xfrm>
            <a:off x="5559480" y="6410160"/>
            <a:ext cx="30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Global Vegetation Monitoring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" name="CTEMPnsmailUI" descr=""/>
          <p:cNvPicPr/>
          <p:nvPr/>
        </p:nvPicPr>
        <p:blipFill>
          <a:blip r:embed="rId8"/>
          <a:stretch/>
        </p:blipFill>
        <p:spPr>
          <a:xfrm>
            <a:off x="8724960" y="6296040"/>
            <a:ext cx="1000080" cy="52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0788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Comic Sans MS"/>
              </a:rPr>
              <a:t>The Global Burnt Area 2000 initiative: GBA-2000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0128"/>
                </a:solidFill>
                <a:latin typeface="Comic Sans MS"/>
              </a:rPr>
              <a:t>Mapping, from SPOT-VEGETATION S1 imagery, of the areas burnt globally during the year 2000</a:t>
            </a: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Status on March 2002</a:t>
            </a: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régoire J-M., K. Tansey, I. Marengo and J.M.N. Silva</a:t>
            </a:r>
            <a:endParaRPr b="1" lang="en-US" sz="1400" spc="-1" strike="noStrike">
              <a:solidFill>
                <a:srgbClr val="00279f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279f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279f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2720" y="5187960"/>
            <a:ext cx="46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6"/>
                </a:solidFill>
                <a:latin typeface="CopprplGoth Bd BT"/>
              </a:rPr>
              <a:t>GLC 2000 – “FIRST RESULTS” WORKSH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6"/>
                </a:solidFill>
                <a:latin typeface="CopprplGoth Bd BT"/>
              </a:rPr>
              <a:t>JRC – Ispra, 18-22 March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fig7" descr=""/>
          <p:cNvPicPr/>
          <p:nvPr/>
        </p:nvPicPr>
        <p:blipFill>
          <a:blip r:embed="rId1"/>
          <a:stretch/>
        </p:blipFill>
        <p:spPr>
          <a:xfrm>
            <a:off x="1512720" y="804960"/>
            <a:ext cx="7596360" cy="4098960"/>
          </a:xfrm>
          <a:prstGeom prst="rect">
            <a:avLst/>
          </a:prstGeom>
          <a:ln w="0">
            <a:noFill/>
          </a:ln>
        </p:spPr>
      </p:pic>
      <p:pic>
        <p:nvPicPr>
          <p:cNvPr id="82" name="fig8" descr=""/>
          <p:cNvPicPr/>
          <p:nvPr/>
        </p:nvPicPr>
        <p:blipFill>
          <a:blip r:embed="rId2"/>
          <a:stretch/>
        </p:blipFill>
        <p:spPr>
          <a:xfrm>
            <a:off x="7056360" y="3257640"/>
            <a:ext cx="1644840" cy="2701800"/>
          </a:xfrm>
          <a:prstGeom prst="rect">
            <a:avLst/>
          </a:prstGeom>
          <a:ln w="0">
            <a:noFill/>
          </a:ln>
        </p:spPr>
      </p:pic>
      <p:pic>
        <p:nvPicPr>
          <p:cNvPr id="83" name="tab7" descr=""/>
          <p:cNvPicPr/>
          <p:nvPr/>
        </p:nvPicPr>
        <p:blipFill>
          <a:blip r:embed="rId3"/>
          <a:stretch/>
        </p:blipFill>
        <p:spPr>
          <a:xfrm>
            <a:off x="2556000" y="3867120"/>
            <a:ext cx="4470120" cy="21826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213280" y="312840"/>
            <a:ext cx="610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Comic Sans MS"/>
              </a:rPr>
              <a:t>Areas burnt in tropical forest sample sites (TRE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115360" y="312840"/>
            <a:ext cx="67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Statistics for modelling of emissions of GHG &amp; aeros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584280" y="979560"/>
            <a:ext cx="9123120" cy="3298680"/>
            <a:chOff x="584280" y="979560"/>
            <a:chExt cx="9123120" cy="3298680"/>
          </a:xfrm>
        </p:grpSpPr>
        <p:pic>
          <p:nvPicPr>
            <p:cNvPr id="87" name="fig5" descr=""/>
            <p:cNvPicPr/>
            <p:nvPr/>
          </p:nvPicPr>
          <p:blipFill>
            <a:blip r:embed="rId1"/>
            <a:stretch/>
          </p:blipFill>
          <p:spPr>
            <a:xfrm>
              <a:off x="584280" y="1300320"/>
              <a:ext cx="9123120" cy="297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4161240" y="979560"/>
              <a:ext cx="237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lobal grid 1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cel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" name="tab6" descr=""/>
          <p:cNvPicPr/>
          <p:nvPr/>
        </p:nvPicPr>
        <p:blipFill>
          <a:blip r:embed="rId2"/>
          <a:stretch/>
        </p:blipFill>
        <p:spPr>
          <a:xfrm>
            <a:off x="2546280" y="3533760"/>
            <a:ext cx="610560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1360" y="157320"/>
            <a:ext cx="494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GBA-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Data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37560" y="1936800"/>
            <a:ext cx="6043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Comic Sans MS"/>
              </a:rPr>
              <a:t>Map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f burnt areas and </a:t>
            </a:r>
            <a:r>
              <a:rPr b="0" lang="en-US" sz="1800" spc="-1" strike="noStrike">
                <a:solidFill>
                  <a:srgbClr val="fc0128"/>
                </a:solidFill>
                <a:latin typeface="Comic Sans MS"/>
              </a:rPr>
              <a:t>statistical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de acce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ia an </a:t>
            </a:r>
            <a:r>
              <a:rPr b="0" lang="en-US" sz="1800" spc="-1" strike="noStrike">
                <a:solidFill>
                  <a:srgbClr val="fc0128"/>
                </a:solidFill>
                <a:latin typeface="Comic Sans MS"/>
              </a:rPr>
              <a:t>Internet Map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mplemented in collaboration with </a:t>
            </a:r>
            <a:r>
              <a:rPr b="0" lang="en-US" sz="1800" spc="-1" strike="noStrike">
                <a:solidFill>
                  <a:srgbClr val="fc0128"/>
                </a:solidFill>
                <a:latin typeface="Comic Sans MS"/>
              </a:rPr>
              <a:t>UNEP-GRID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s_window" descr=""/>
          <p:cNvPicPr/>
          <p:nvPr/>
        </p:nvPicPr>
        <p:blipFill>
          <a:blip r:embed="rId1"/>
          <a:stretch/>
        </p:blipFill>
        <p:spPr>
          <a:xfrm>
            <a:off x="1455840" y="933480"/>
            <a:ext cx="7429320" cy="49719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404520" y="351000"/>
            <a:ext cx="38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BA 2000 Internet Map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333440" y="1046160"/>
            <a:ext cx="746460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c0128"/>
                </a:solidFill>
                <a:latin typeface="Comic Sans MS"/>
              </a:rPr>
              <a:t>a binary map (burnt-unbur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thly non-accumulative global burn scar map, a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km re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c0128"/>
                </a:solidFill>
                <a:latin typeface="Comic Sans MS"/>
              </a:rPr>
              <a:t>statistics of burnt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burnt in 2000 per country, per month,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 main types of vegetation cover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MD &amp; GLC2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49280" y="490680"/>
            <a:ext cx="44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Comic Sans MS"/>
              </a:rPr>
              <a:t>GBA-2000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4880" y="603360"/>
            <a:ext cx="440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Comic Sans MS"/>
              </a:rPr>
              <a:t>GBA-2000 General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63320" y="1681200"/>
            <a:ext cx="7660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7 co-investigat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IRO, CCRS, IFI, CNR, UTL, GVM, N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regional algorith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processing VGT S1 to burnt area ma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on into a </a:t>
            </a: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global processing chai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JR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proces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complete global time seri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t JR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of </a:t>
            </a: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monthly global maps &amp; statist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t JR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BA2000 </a:t>
            </a: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products publicly avail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MS at UNEP-GRI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11440" y="757080"/>
            <a:ext cx="726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GBA-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Regional algorithms &amp; Global processing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14520" y="3227400"/>
            <a:ext cx="63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93840" y="4189320"/>
            <a:ext cx="626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for more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vin Tansey at GVM/JR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kevin.tansey@jrc.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égoire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et a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,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74600" y="2522520"/>
            <a:ext cx="6770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 regional algorithms have been sel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moist tropical forest remains a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global processing chain is complete and ru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55320" y="2309760"/>
            <a:ext cx="407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GBA-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Monthly burnt area m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71760" y="503280"/>
            <a:ext cx="383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Availability of burnt area ma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status_June" descr=""/>
          <p:cNvPicPr/>
          <p:nvPr/>
        </p:nvPicPr>
        <p:blipFill>
          <a:blip r:embed="rId1"/>
          <a:stretch/>
        </p:blipFill>
        <p:spPr>
          <a:xfrm>
            <a:off x="603360" y="1428840"/>
            <a:ext cx="9186840" cy="3225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97440" y="4737240"/>
            <a:ext cx="39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Februar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April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Ma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1800" spc="-1" strike="noStrike">
                <a:solidFill>
                  <a:srgbClr val="ff99cc"/>
                </a:solidFill>
                <a:latin typeface="Comic Sans MS"/>
              </a:rPr>
              <a:t>Ju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629080" y="2166840"/>
            <a:ext cx="4949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GBA-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Statistical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946080" y="1432080"/>
            <a:ext cx="8694360" cy="3441600"/>
            <a:chOff x="946080" y="1432080"/>
            <a:chExt cx="8694360" cy="3441600"/>
          </a:xfrm>
        </p:grpSpPr>
        <p:pic>
          <p:nvPicPr>
            <p:cNvPr id="67" name="fig1" descr=""/>
            <p:cNvPicPr/>
            <p:nvPr/>
          </p:nvPicPr>
          <p:blipFill>
            <a:blip r:embed="rId1"/>
            <a:stretch/>
          </p:blipFill>
          <p:spPr>
            <a:xfrm>
              <a:off x="946080" y="1486080"/>
              <a:ext cx="4324320" cy="33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5096520" y="1432080"/>
              <a:ext cx="454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eporting of areas burnt at country 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427040" y="2085840"/>
            <a:ext cx="7206840" cy="3097080"/>
            <a:chOff x="1427040" y="2085840"/>
            <a:chExt cx="7206840" cy="3097080"/>
          </a:xfrm>
        </p:grpSpPr>
        <p:pic>
          <p:nvPicPr>
            <p:cNvPr id="70" name="fig2" descr=""/>
            <p:cNvPicPr/>
            <p:nvPr/>
          </p:nvPicPr>
          <p:blipFill>
            <a:blip r:embed="rId2"/>
            <a:stretch/>
          </p:blipFill>
          <p:spPr>
            <a:xfrm>
              <a:off x="1427040" y="2085840"/>
              <a:ext cx="4324320" cy="30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5619960" y="2108160"/>
              <a:ext cx="301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nalysis of fire seasona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1727280" y="484200"/>
            <a:ext cx="74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Comic Sans MS"/>
              </a:rPr>
              <a:t>Statistics for reporting on fire activity at the countr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532240" y="2822400"/>
            <a:ext cx="6850800" cy="3052800"/>
            <a:chOff x="2532240" y="2822400"/>
            <a:chExt cx="6850800" cy="3052800"/>
          </a:xfrm>
        </p:grpSpPr>
        <p:pic>
          <p:nvPicPr>
            <p:cNvPr id="74" name="fig4" descr=""/>
            <p:cNvPicPr/>
            <p:nvPr/>
          </p:nvPicPr>
          <p:blipFill>
            <a:blip r:embed="rId3"/>
            <a:stretch/>
          </p:blipFill>
          <p:spPr>
            <a:xfrm>
              <a:off x="2532240" y="2881080"/>
              <a:ext cx="4287600" cy="299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6704640" y="2822400"/>
              <a:ext cx="267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reas burnt per type 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vegetation co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fig9" descr=""/>
          <p:cNvPicPr/>
          <p:nvPr/>
        </p:nvPicPr>
        <p:blipFill>
          <a:blip r:embed="rId1"/>
          <a:stretch/>
        </p:blipFill>
        <p:spPr>
          <a:xfrm>
            <a:off x="1022400" y="961920"/>
            <a:ext cx="6014880" cy="5121360"/>
          </a:xfrm>
          <a:prstGeom prst="rect">
            <a:avLst/>
          </a:prstGeom>
          <a:ln w="0">
            <a:noFill/>
          </a:ln>
        </p:spPr>
      </p:pic>
      <p:pic>
        <p:nvPicPr>
          <p:cNvPr id="77" name="fig10" descr=""/>
          <p:cNvPicPr/>
          <p:nvPr/>
        </p:nvPicPr>
        <p:blipFill>
          <a:blip r:embed="rId2"/>
          <a:stretch/>
        </p:blipFill>
        <p:spPr>
          <a:xfrm>
            <a:off x="4784760" y="766800"/>
            <a:ext cx="4726080" cy="2995560"/>
          </a:xfrm>
          <a:prstGeom prst="rect">
            <a:avLst/>
          </a:prstGeom>
          <a:ln w="0">
            <a:noFill/>
          </a:ln>
        </p:spPr>
      </p:pic>
      <p:pic>
        <p:nvPicPr>
          <p:cNvPr id="78" name="fig11a" descr=""/>
          <p:cNvPicPr/>
          <p:nvPr/>
        </p:nvPicPr>
        <p:blipFill>
          <a:blip r:embed="rId3"/>
          <a:stretch/>
        </p:blipFill>
        <p:spPr>
          <a:xfrm>
            <a:off x="3375000" y="4048200"/>
            <a:ext cx="3089160" cy="2154240"/>
          </a:xfrm>
          <a:prstGeom prst="rect">
            <a:avLst/>
          </a:prstGeom>
          <a:ln w="0">
            <a:noFill/>
          </a:ln>
        </p:spPr>
      </p:pic>
      <p:pic>
        <p:nvPicPr>
          <p:cNvPr id="79" name="fig11b" descr=""/>
          <p:cNvPicPr/>
          <p:nvPr/>
        </p:nvPicPr>
        <p:blipFill>
          <a:blip r:embed="rId4"/>
          <a:stretch/>
        </p:blipFill>
        <p:spPr>
          <a:xfrm>
            <a:off x="6480000" y="3738600"/>
            <a:ext cx="3089520" cy="2405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104560" y="312840"/>
            <a:ext cx="73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Statistics for management of protected areas (Mozambiq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2T16:55:41Z</dcterms:created>
  <dc:creator>Apostolia Karamali</dc:creator>
  <dc:description/>
  <dc:language>en-US</dc:language>
  <cp:lastModifiedBy>bartho e</cp:lastModifiedBy>
  <cp:lastPrinted>2001-01-15T15:29:32Z</cp:lastPrinted>
  <dcterms:modified xsi:type="dcterms:W3CDTF">2002-04-30T14:46:23Z</dcterms:modified>
  <cp:revision>325</cp:revision>
  <dc:subject/>
  <dc:title>No Slide Title</dc:title>
</cp:coreProperties>
</file>