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4840" y="3743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4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728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972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484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728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972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48276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54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4840" y="3743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54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28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9720" y="1295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484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28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9720" y="374328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48276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440" y="3743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440" y="129528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4840" y="374328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6676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22860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TEMPnsmailUI" descr=""/>
          <p:cNvPicPr/>
          <p:nvPr/>
        </p:nvPicPr>
        <p:blipFill>
          <a:blip r:embed="rId2"/>
          <a:stretch/>
        </p:blipFill>
        <p:spPr>
          <a:xfrm>
            <a:off x="7853400" y="6181560"/>
            <a:ext cx="1290600" cy="676440"/>
          </a:xfrm>
          <a:prstGeom prst="rect">
            <a:avLst/>
          </a:prstGeom>
          <a:ln w="0">
            <a:noFill/>
          </a:ln>
        </p:spPr>
      </p:pic>
      <p:pic>
        <p:nvPicPr>
          <p:cNvPr id="5" name="IES-LOGO-05_05_01-V01-EN" descr=""/>
          <p:cNvPicPr/>
          <p:nvPr/>
        </p:nvPicPr>
        <p:blipFill>
          <a:blip r:embed="rId3"/>
          <a:stretch/>
        </p:blipFill>
        <p:spPr>
          <a:xfrm>
            <a:off x="0" y="6056280"/>
            <a:ext cx="1054080" cy="801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38400" y="6159600"/>
            <a:ext cx="6667200" cy="0"/>
          </a:xfrm>
          <a:prstGeom prst="line">
            <a:avLst/>
          </a:prstGeom>
          <a:ln w="19080">
            <a:solidFill>
              <a:srgbClr val="000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1060560" cy="62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056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FB2-D146-441D-A742-1761D3784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I_Logo" descr=""/>
          <p:cNvPicPr/>
          <p:nvPr/>
        </p:nvPicPr>
        <p:blipFill>
          <a:blip r:embed="rId6"/>
          <a:stretch/>
        </p:blipFill>
        <p:spPr>
          <a:xfrm>
            <a:off x="0" y="0"/>
            <a:ext cx="1071720" cy="961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ftr" idx="1"/>
          </p:nvPr>
        </p:nvSpPr>
        <p:spPr>
          <a:xfrm>
            <a:off x="4889160" y="6375240"/>
            <a:ext cx="314964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TEMPnsmailUI" descr=""/>
          <p:cNvPicPr/>
          <p:nvPr/>
        </p:nvPicPr>
        <p:blipFill>
          <a:blip r:embed="rId7"/>
          <a:stretch/>
        </p:blipFill>
        <p:spPr>
          <a:xfrm>
            <a:off x="8143920" y="6334200"/>
            <a:ext cx="1000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914560" y="1892160"/>
          <a:ext cx="354168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1892160"/>
                    <a:ext cx="35416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793520" y="3429000"/>
            <a:ext cx="58104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Research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GLC2000 First Result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spra 18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to 22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rch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58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ES-LOGO-05_05_01-V01-EN" descr=""/>
          <p:cNvPicPr/>
          <p:nvPr/>
        </p:nvPicPr>
        <p:blipFill>
          <a:blip r:embed="rId3"/>
          <a:stretch/>
        </p:blipFill>
        <p:spPr>
          <a:xfrm>
            <a:off x="90360" y="90360"/>
            <a:ext cx="1689120" cy="128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918040"/>
            <a:ext cx="149868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931000"/>
            <a:ext cx="6578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shop regional group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monize reg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mpare map outputs within regions (Class boundaries, area cover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inalise regional map legen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inalise regional aggregations to the global product legen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 product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tructured validation process to be tested at the worksho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ment on regional leg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ment on a final QA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ment on Global Valid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all remaining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 on a product and public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 on data format and meta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ise the remainder of the project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 of GLC 2000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Global Land Cover fo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 a broad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cience programmes (IGBP,…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Global Observing Systems (GOFC – GOL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nvironmental Conventions (MA, IPC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UN Organisations (UNEP, FAO, UN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gional development assistance program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ational  nee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GA 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VEGETATION data are a sound base for land cover mapp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entralised processing ensures consistency of basic data across reg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provides observations throughout year 200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aleable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gionally detailed &amp; globally applicable through aggreg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LCCS ensures traceability between the tw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ation strategy co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tion by regional expe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ptimises image classification metho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upports regionally appropriate map legend defini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validation by regional exper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nternational ownershi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preads the workload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C 2000 Project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EGA 2000 S1 data set covers the period 1st November 1999 to 31st Decembe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5 regional windows have been extracted and distributed by GVM to 30 GLC 2000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lobal legend has been agreed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nge of methods have been used to generate first-draft data classifications for regions including Eurasia, Africa, South America, North America, SE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shop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GLC2000 produc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image classific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global and regional leg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database design &amp;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product valid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product distribution / public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idation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 responsibility for reg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veryone can go as far as they wa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 “uniform” systematic QA adopted by al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ingle approach to give statistically valid measures of global product’s performa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nternational involvement and consens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pecial side session on Wednesday mor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distribution / publication poli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4840" y="129528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 maps should be published by the lead scientists and their t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 databases (maps, supporting metadata) will be collected by GVM, aggregated to give the global product and made available to all partners + the wider community via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ll partners fully acknowledg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Mirror sites established within the Partnershi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77840"/>
            <a:ext cx="87375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91440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shed workshop report based on a written version of the presentations. All submissions by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VM to co-ordinate production of GLC GBA 2000 At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Project summ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List of partn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Region by region description of map legen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classification method summar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the regional map (at reduced scal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full scale sub-sets to illustrate the thematic / spatial detail of the product and to illustrate applications…focus is on processes with high regional relevan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 ROM Version of the At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09:05:02Z</dcterms:created>
  <dc:creator>Tim Richards</dc:creator>
  <dc:description/>
  <dc:language>en-US</dc:language>
  <cp:lastModifiedBy>bartho e</cp:lastModifiedBy>
  <cp:lastPrinted>1999-04-13T08:46:29Z</cp:lastPrinted>
  <dcterms:modified xsi:type="dcterms:W3CDTF">2002-04-30T14:36:20Z</dcterms:modified>
  <cp:revision>385</cp:revision>
  <dc:subject/>
  <dc:title>No Slide Title</dc:title>
</cp:coreProperties>
</file>