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64A4-162E-47A2-AFB5-0F016BB9E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lbertus Extra Bol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lbertus Extra Bol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lbertus Extra Bol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lbertus Extra Bol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lbertus Extra Bol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lbertus Extra Bol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lbertus Extra Bol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lbertus Extra Bol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lbertus Extra Bol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lbertus Extra Bol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lbertus Extra Bol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AF5-BDD2-4372-971A-12DA812A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0B4-DBA5-459A-BBBB-C97837A4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44E-119F-4804-8E9D-1F609F8D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251-CB32-4AA3-870F-C91BDB2E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1EC-91CE-463C-AE7B-35059A89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FB2-BE39-4D6F-81C8-4E211280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A5B-F716-4A35-AA2F-A49807F3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0DA-E59D-49C2-8172-3499ECBF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A7C-F107-4002-840F-69D275B4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47E-61AF-4AE6-B924-2CFF190B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62C-4787-44CC-8035-054A33E6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D8E-3069-496E-B9B2-85FCED73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152B-7E56-4BF4-8C42-D4A740406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566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23920" y="1366920"/>
            <a:ext cx="679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initial </a:t>
            </a: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Dichotomous Phas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L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0"/>
            <a:ext cx="9144000" cy="2057400"/>
            <a:chOff x="0" y="0"/>
            <a:chExt cx="9144000" cy="2057400"/>
          </a:xfrm>
        </p:grpSpPr>
        <p:sp>
          <p:nvSpPr>
            <p:cNvPr id="52" name=""/>
            <p:cNvSpPr/>
            <p:nvPr/>
          </p:nvSpPr>
          <p:spPr>
            <a:xfrm>
              <a:off x="0" y="914400"/>
              <a:ext cx="9144000" cy="380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94320" y="223920"/>
              <a:ext cx="3342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Narrow"/>
                </a:rPr>
                <a:t>Classification Modu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915400" y="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915400" y="45720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12952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524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762120" y="2308320"/>
          <a:ext cx="7772400" cy="429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08320"/>
                    <a:ext cx="777240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029200" y="1752480"/>
            <a:ext cx="3505320" cy="33732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Click one option of each pair of butt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43360" y="4535640"/>
            <a:ext cx="3448080" cy="82404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Or immediately identify to which major land cover type the class will belong by clicking directly on a button with the arr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97280" y="1222200"/>
            <a:ext cx="4737240" cy="106740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If the level of information needed or available to determine a land cover class is very limited, the user can select the appropriate choice(s) and a land cover class will be formed that can be stored by clicking the 2nd upper right but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0" y="0"/>
          <a:ext cx="91566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23920" y="1366920"/>
            <a:ext cx="860904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ndard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Standard Descripti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for each land cover class gives the user a better insight into the classifiers used and structure of the class than can be inferred from the standard name al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lasses are hierarchically ordered according to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Structural Domains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of the main land cover typ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0"/>
            <a:ext cx="9144000" cy="2057400"/>
            <a:chOff x="0" y="0"/>
            <a:chExt cx="9144000" cy="2057400"/>
          </a:xfrm>
        </p:grpSpPr>
        <p:sp>
          <p:nvSpPr>
            <p:cNvPr id="241" name=""/>
            <p:cNvSpPr/>
            <p:nvPr/>
          </p:nvSpPr>
          <p:spPr>
            <a:xfrm>
              <a:off x="0" y="914400"/>
              <a:ext cx="9144000" cy="380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48600" y="223920"/>
              <a:ext cx="2485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Narrow"/>
                </a:rPr>
                <a:t>Legend Modu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915400" y="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915400" y="45720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12952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17524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1040" y="3921120"/>
            <a:ext cx="7981920" cy="2936880"/>
            <a:chOff x="581040" y="3921120"/>
            <a:chExt cx="7981920" cy="2936880"/>
          </a:xfrm>
        </p:grpSpPr>
        <p:graphicFrame>
          <p:nvGraphicFramePr>
            <p:cNvPr id="248" name=""/>
            <p:cNvGraphicFramePr/>
            <p:nvPr/>
          </p:nvGraphicFramePr>
          <p:xfrm>
            <a:off x="581040" y="3930480"/>
            <a:ext cx="5427360" cy="292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1040" y="3930480"/>
                      <a:ext cx="5427360" cy="292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"/>
            <p:cNvGraphicFramePr/>
            <p:nvPr/>
          </p:nvGraphicFramePr>
          <p:xfrm>
            <a:off x="6008400" y="3921120"/>
            <a:ext cx="2554560" cy="293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08400" y="3921120"/>
                      <a:ext cx="2554560" cy="293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2" name=""/>
          <p:cNvSpPr/>
          <p:nvPr/>
        </p:nvSpPr>
        <p:spPr>
          <a:xfrm>
            <a:off x="3570120" y="4975200"/>
            <a:ext cx="2438640" cy="33732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main land cover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35440" y="6234120"/>
            <a:ext cx="1600200" cy="33732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User’s Lab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62040" y="5537160"/>
            <a:ext cx="1067040" cy="82404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Structural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008760" y="4432320"/>
            <a:ext cx="2554200" cy="2176560"/>
            <a:chOff x="6008760" y="4432320"/>
            <a:chExt cx="2554200" cy="2176560"/>
          </a:xfrm>
        </p:grpSpPr>
        <p:sp>
          <p:nvSpPr>
            <p:cNvPr id="256" name=""/>
            <p:cNvSpPr/>
            <p:nvPr/>
          </p:nvSpPr>
          <p:spPr>
            <a:xfrm>
              <a:off x="6008760" y="4432320"/>
              <a:ext cx="1433520" cy="279360"/>
            </a:xfrm>
            <a:prstGeom prst="rect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08760" y="5537160"/>
              <a:ext cx="2554200" cy="1071720"/>
            </a:xfrm>
            <a:prstGeom prst="rect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08760" y="4711680"/>
              <a:ext cx="341280" cy="825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0" y="0"/>
          <a:ext cx="91566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3920" y="1366920"/>
            <a:ext cx="4417920" cy="31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assifier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is option gives the user the possibility to interpret what the codes of the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Boolean Formula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of the land cover classes me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ombination of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umerical codes and Boolean Formulae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will allow GIS users to re-select LCCS da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0"/>
            <a:ext cx="9144000" cy="2057400"/>
            <a:chOff x="0" y="0"/>
            <a:chExt cx="9144000" cy="2057400"/>
          </a:xfrm>
        </p:grpSpPr>
        <p:sp>
          <p:nvSpPr>
            <p:cNvPr id="263" name=""/>
            <p:cNvSpPr/>
            <p:nvPr/>
          </p:nvSpPr>
          <p:spPr>
            <a:xfrm>
              <a:off x="0" y="914400"/>
              <a:ext cx="9144000" cy="380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48600" y="223920"/>
              <a:ext cx="2485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Narrow"/>
                </a:rPr>
                <a:t>Legend Modu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915400" y="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915400" y="45720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2952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17524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889520" y="1295280"/>
            <a:ext cx="3943440" cy="5562360"/>
            <a:chOff x="4889520" y="1295280"/>
            <a:chExt cx="3943440" cy="5562360"/>
          </a:xfrm>
        </p:grpSpPr>
        <p:graphicFrame>
          <p:nvGraphicFramePr>
            <p:cNvPr id="270" name=""/>
            <p:cNvGraphicFramePr/>
            <p:nvPr/>
          </p:nvGraphicFramePr>
          <p:xfrm>
            <a:off x="4889520" y="1295280"/>
            <a:ext cx="3943440" cy="360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89520" y="1295280"/>
                      <a:ext cx="3943440" cy="360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"/>
            <p:cNvGraphicFramePr/>
            <p:nvPr/>
          </p:nvGraphicFramePr>
          <p:xfrm>
            <a:off x="4889520" y="4901760"/>
            <a:ext cx="3943440" cy="1955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89520" y="4901760"/>
                      <a:ext cx="394344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4" name=""/>
          <p:cNvSpPr/>
          <p:nvPr/>
        </p:nvSpPr>
        <p:spPr>
          <a:xfrm>
            <a:off x="762120" y="5153040"/>
            <a:ext cx="3981240" cy="149328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Classifier Code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and its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Label 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are displayed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339966"/>
                </a:solidFill>
                <a:latin typeface="Arial Narrow"/>
              </a:rPr>
              <a:t>Please note that codes can appear more than once with a different meaning ! Therefore the code should always be combined with the numerical code of the class to form a unique comb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448240" y="2733840"/>
            <a:ext cx="2838600" cy="2990520"/>
            <a:chOff x="5448240" y="2733840"/>
            <a:chExt cx="2838600" cy="2990520"/>
          </a:xfrm>
        </p:grpSpPr>
        <p:sp>
          <p:nvSpPr>
            <p:cNvPr id="276" name=""/>
            <p:cNvSpPr/>
            <p:nvPr/>
          </p:nvSpPr>
          <p:spPr>
            <a:xfrm>
              <a:off x="5448240" y="2733840"/>
              <a:ext cx="2838600" cy="16164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48240" y="5562720"/>
              <a:ext cx="2838600" cy="16164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448240" y="3457440"/>
            <a:ext cx="2838600" cy="2452680"/>
            <a:chOff x="5448240" y="3457440"/>
            <a:chExt cx="2838600" cy="2452680"/>
          </a:xfrm>
        </p:grpSpPr>
        <p:sp>
          <p:nvSpPr>
            <p:cNvPr id="279" name=""/>
            <p:cNvSpPr/>
            <p:nvPr/>
          </p:nvSpPr>
          <p:spPr>
            <a:xfrm>
              <a:off x="5448240" y="3457440"/>
              <a:ext cx="2838600" cy="162000"/>
            </a:xfrm>
            <a:prstGeom prst="rect">
              <a:avLst/>
            </a:prstGeom>
            <a:noFill/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48240" y="5748480"/>
              <a:ext cx="2838600" cy="161640"/>
            </a:xfrm>
            <a:prstGeom prst="rect">
              <a:avLst/>
            </a:prstGeom>
            <a:noFill/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448240" y="3649680"/>
            <a:ext cx="2838600" cy="2455920"/>
            <a:chOff x="5448240" y="3649680"/>
            <a:chExt cx="2838600" cy="2455920"/>
          </a:xfrm>
        </p:grpSpPr>
        <p:sp>
          <p:nvSpPr>
            <p:cNvPr id="282" name=""/>
            <p:cNvSpPr/>
            <p:nvPr/>
          </p:nvSpPr>
          <p:spPr>
            <a:xfrm>
              <a:off x="5448240" y="3649680"/>
              <a:ext cx="2838600" cy="162000"/>
            </a:xfrm>
            <a:prstGeom prst="rect">
              <a:avLst/>
            </a:prstGeom>
            <a:noFill/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48240" y="5943600"/>
              <a:ext cx="2838600" cy="162000"/>
            </a:xfrm>
            <a:prstGeom prst="rect">
              <a:avLst/>
            </a:prstGeom>
            <a:noFill/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448240" y="3833640"/>
            <a:ext cx="2838600" cy="2457720"/>
            <a:chOff x="5448240" y="3833640"/>
            <a:chExt cx="2838600" cy="2457720"/>
          </a:xfrm>
        </p:grpSpPr>
        <p:sp>
          <p:nvSpPr>
            <p:cNvPr id="285" name=""/>
            <p:cNvSpPr/>
            <p:nvPr/>
          </p:nvSpPr>
          <p:spPr>
            <a:xfrm>
              <a:off x="5448240" y="3833640"/>
              <a:ext cx="2838600" cy="1620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48240" y="6129360"/>
              <a:ext cx="2838600" cy="1620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91566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23920" y="1366920"/>
            <a:ext cx="853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subsequent </a:t>
            </a: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Modular-Hierarchical Pha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L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44000" cy="2057400"/>
            <a:chOff x="0" y="0"/>
            <a:chExt cx="9144000" cy="2057400"/>
          </a:xfrm>
        </p:grpSpPr>
        <p:sp>
          <p:nvSpPr>
            <p:cNvPr id="67" name=""/>
            <p:cNvSpPr/>
            <p:nvPr/>
          </p:nvSpPr>
          <p:spPr>
            <a:xfrm>
              <a:off x="0" y="914400"/>
              <a:ext cx="9144000" cy="380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4320" y="223920"/>
              <a:ext cx="3342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Narrow"/>
                </a:rPr>
                <a:t>Classification Modu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15400" y="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915400" y="45720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2952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7524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3" name=""/>
          <p:cNvGraphicFramePr/>
          <p:nvPr/>
        </p:nvGraphicFramePr>
        <p:xfrm>
          <a:off x="762120" y="1828800"/>
          <a:ext cx="7974000" cy="7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828800"/>
                    <a:ext cx="79740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"/>
          <p:cNvGrpSpPr/>
          <p:nvPr/>
        </p:nvGrpSpPr>
        <p:grpSpPr>
          <a:xfrm>
            <a:off x="228600" y="2590920"/>
            <a:ext cx="8610480" cy="4267080"/>
            <a:chOff x="228600" y="2590920"/>
            <a:chExt cx="8610480" cy="4267080"/>
          </a:xfrm>
        </p:grpSpPr>
        <p:sp>
          <p:nvSpPr>
            <p:cNvPr id="76" name=""/>
            <p:cNvSpPr/>
            <p:nvPr/>
          </p:nvSpPr>
          <p:spPr>
            <a:xfrm>
              <a:off x="2133720" y="2590920"/>
              <a:ext cx="0" cy="220968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19320" y="2590920"/>
              <a:ext cx="0" cy="15228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0400" y="2590920"/>
              <a:ext cx="0" cy="15228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7080" y="2590920"/>
              <a:ext cx="0" cy="220968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34120" y="2590920"/>
              <a:ext cx="0" cy="15228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8520" y="2590920"/>
              <a:ext cx="0" cy="175248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38880" y="2590920"/>
              <a:ext cx="0" cy="15228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28600" y="2743200"/>
              <a:ext cx="8610480" cy="4114800"/>
              <a:chOff x="228600" y="2743200"/>
              <a:chExt cx="8610480" cy="4114800"/>
            </a:xfrm>
          </p:grpSpPr>
          <p:sp>
            <p:nvSpPr>
              <p:cNvPr id="84" name=""/>
              <p:cNvSpPr/>
              <p:nvPr/>
            </p:nvSpPr>
            <p:spPr>
              <a:xfrm>
                <a:off x="685800" y="6248520"/>
                <a:ext cx="1905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24080" y="6248520"/>
                <a:ext cx="289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6" name=""/>
              <p:cNvGraphicFramePr/>
              <p:nvPr/>
            </p:nvGraphicFramePr>
            <p:xfrm>
              <a:off x="228600" y="2743200"/>
              <a:ext cx="1752480" cy="1714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28600" y="2743200"/>
                        <a:ext cx="175248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" name=""/>
              <p:cNvGraphicFramePr/>
              <p:nvPr/>
            </p:nvGraphicFramePr>
            <p:xfrm>
              <a:off x="609480" y="4800600"/>
              <a:ext cx="2017800" cy="20574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9480" y="4800600"/>
                        <a:ext cx="2017800" cy="205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" name=""/>
              <p:cNvGraphicFramePr/>
              <p:nvPr/>
            </p:nvGraphicFramePr>
            <p:xfrm>
              <a:off x="2363760" y="2743200"/>
              <a:ext cx="1781280" cy="1828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363760" y="2743200"/>
                        <a:ext cx="1781280" cy="182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" name=""/>
              <p:cNvGraphicFramePr/>
              <p:nvPr/>
            </p:nvGraphicFramePr>
            <p:xfrm>
              <a:off x="2895480" y="4724280"/>
              <a:ext cx="1835280" cy="2133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895480" y="4724280"/>
                        <a:ext cx="1835280" cy="213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4" name=""/>
              <p:cNvGraphicFramePr/>
              <p:nvPr/>
            </p:nvGraphicFramePr>
            <p:xfrm>
              <a:off x="4419720" y="2743200"/>
              <a:ext cx="1752480" cy="8510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419720" y="2743200"/>
                        <a:ext cx="1752480" cy="851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6" name=""/>
              <p:cNvGraphicFramePr/>
              <p:nvPr/>
            </p:nvGraphicFramePr>
            <p:xfrm>
              <a:off x="5257800" y="4343400"/>
              <a:ext cx="1590840" cy="13842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7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5257800" y="4343400"/>
                        <a:ext cx="1590840" cy="138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8" name=""/>
              <p:cNvGraphicFramePr/>
              <p:nvPr/>
            </p:nvGraphicFramePr>
            <p:xfrm>
              <a:off x="6553080" y="2743200"/>
              <a:ext cx="1814760" cy="125424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553080" y="2743200"/>
                        <a:ext cx="1814760" cy="125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0" name=""/>
              <p:cNvGraphicFramePr/>
              <p:nvPr/>
            </p:nvGraphicFramePr>
            <p:xfrm>
              <a:off x="7010280" y="4343400"/>
              <a:ext cx="1828800" cy="12826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1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7010280" y="4343400"/>
                        <a:ext cx="1828800" cy="128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2" name=""/>
            <p:cNvSpPr/>
            <p:nvPr/>
          </p:nvSpPr>
          <p:spPr>
            <a:xfrm>
              <a:off x="8458200" y="2590920"/>
              <a:ext cx="0" cy="175248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029200" y="5791320"/>
            <a:ext cx="3828960" cy="82404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sets of classifiers tailored to the major land cover and hierarchically arranged according to 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mapability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(classifiers presented in dark blue)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04920"/>
            <a:ext cx="3524400" cy="106740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so-called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Environmental Attributes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are presented in purple and are not hierarchically arranged; the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Specific Technical Attribute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is presented in gre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566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23920" y="1366920"/>
            <a:ext cx="8539200" cy="25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Modular-Hierarchical Pha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assifiers and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Land Cover Classifiers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re hierarchically arranged according to </a:t>
            </a:r>
            <a:r>
              <a:rPr b="0" i="1" lang="en-GB" sz="2200" spc="-1" strike="noStrike">
                <a:solidFill>
                  <a:srgbClr val="339966"/>
                </a:solidFill>
                <a:latin typeface="Comic Sans MS"/>
              </a:rPr>
              <a:t>mapability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 i.e. geographical accuracy, at the top leve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Environmental Attributes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re not hierarchically arranged and are shown at the intermediate leve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Specific Technical Attribute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is shown at the bott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2057400"/>
            <a:chOff x="0" y="0"/>
            <a:chExt cx="9144000" cy="2057400"/>
          </a:xfrm>
        </p:grpSpPr>
        <p:sp>
          <p:nvSpPr>
            <p:cNvPr id="109" name=""/>
            <p:cNvSpPr/>
            <p:nvPr/>
          </p:nvSpPr>
          <p:spPr>
            <a:xfrm>
              <a:off x="0" y="914400"/>
              <a:ext cx="9144000" cy="380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94320" y="223920"/>
              <a:ext cx="3342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Narrow"/>
                </a:rPr>
                <a:t>Classification Modu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915400" y="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15400" y="45720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12952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17524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143160" y="4264200"/>
            <a:ext cx="2933640" cy="228420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hierarchically arranged land cover classifiers over different levels at the top (in dark blu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Followed by a set of Environmental Attributes (in purp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Specific Technical Attribute at the bottom (in gree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2720" y="4151160"/>
            <a:ext cx="2765880" cy="2716200"/>
            <a:chOff x="72720" y="4151160"/>
            <a:chExt cx="2765880" cy="2716200"/>
          </a:xfrm>
        </p:grpSpPr>
        <p:graphicFrame>
          <p:nvGraphicFramePr>
            <p:cNvPr id="117" name=""/>
            <p:cNvGraphicFramePr/>
            <p:nvPr/>
          </p:nvGraphicFramePr>
          <p:xfrm>
            <a:off x="297000" y="4160880"/>
            <a:ext cx="2328840" cy="270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000" y="4160880"/>
                      <a:ext cx="2328840" cy="270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2625840" y="4151160"/>
              <a:ext cx="212760" cy="1487520"/>
            </a:xfrm>
            <a:custGeom>
              <a:avLst/>
              <a:gdLst>
                <a:gd name="textAreaLeft" fmla="*/ 0 w 212760"/>
                <a:gd name="textAreaRight" fmla="*/ 76680 w 212760"/>
                <a:gd name="textAreaTop" fmla="*/ 38520 h 1487520"/>
                <a:gd name="textAreaBottom" fmla="*/ 1449000 h 148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5840" y="5638680"/>
              <a:ext cx="212760" cy="819360"/>
            </a:xfrm>
            <a:custGeom>
              <a:avLst/>
              <a:gdLst>
                <a:gd name="textAreaLeft" fmla="*/ 0 w 212760"/>
                <a:gd name="textAreaRight" fmla="*/ 76680 w 212760"/>
                <a:gd name="textAreaTop" fmla="*/ 21240 h 819360"/>
                <a:gd name="textAreaBottom" fmla="*/ 7981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25840" y="6458040"/>
              <a:ext cx="212760" cy="399960"/>
            </a:xfrm>
            <a:custGeom>
              <a:avLst/>
              <a:gdLst>
                <a:gd name="textAreaLeft" fmla="*/ 0 w 212760"/>
                <a:gd name="textAreaRight" fmla="*/ 76680 w 212760"/>
                <a:gd name="textAreaTop" fmla="*/ 10440 h 399960"/>
                <a:gd name="textAreaBottom" fmla="*/ 389520 h 39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20" y="4219560"/>
              <a:ext cx="319320" cy="14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45280" y="4438800"/>
            <a:ext cx="2782800" cy="2019240"/>
            <a:chOff x="6245280" y="4438800"/>
            <a:chExt cx="2782800" cy="2019240"/>
          </a:xfrm>
        </p:grpSpPr>
        <p:graphicFrame>
          <p:nvGraphicFramePr>
            <p:cNvPr id="124" name=""/>
            <p:cNvGraphicFramePr/>
            <p:nvPr/>
          </p:nvGraphicFramePr>
          <p:xfrm>
            <a:off x="6442200" y="4438800"/>
            <a:ext cx="2320920" cy="201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42200" y="4438800"/>
                      <a:ext cx="2320920" cy="20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6245280" y="4438800"/>
              <a:ext cx="98280" cy="819000"/>
            </a:xfrm>
            <a:custGeom>
              <a:avLst/>
              <a:gdLst>
                <a:gd name="textAreaLeft" fmla="*/ 63000 w 98280"/>
                <a:gd name="textAreaRight" fmla="*/ 98640 w 98280"/>
                <a:gd name="textAreaTop" fmla="*/ 21240 h 819000"/>
                <a:gd name="textAreaBottom" fmla="*/ 7977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5280" y="5257800"/>
              <a:ext cx="98280" cy="800280"/>
            </a:xfrm>
            <a:custGeom>
              <a:avLst/>
              <a:gdLst>
                <a:gd name="textAreaLeft" fmla="*/ 63000 w 98280"/>
                <a:gd name="textAreaRight" fmla="*/ 98640 w 98280"/>
                <a:gd name="textAreaTop" fmla="*/ 20880 h 800280"/>
                <a:gd name="textAreaBottom" fmla="*/ 77940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45280" y="6058080"/>
              <a:ext cx="98280" cy="399960"/>
            </a:xfrm>
            <a:custGeom>
              <a:avLst/>
              <a:gdLst>
                <a:gd name="textAreaLeft" fmla="*/ 63000 w 98280"/>
                <a:gd name="textAreaRight" fmla="*/ 98640 w 98280"/>
                <a:gd name="textAreaTop" fmla="*/ 10440 h 399960"/>
                <a:gd name="textAreaBottom" fmla="*/ 389520 h 39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4920" y="4579920"/>
              <a:ext cx="26316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566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3920" y="1366920"/>
            <a:ext cx="85392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Modular-Hierarchical Pha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assifiers in de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o proceed click the upper left button (in the example below “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Life Form and Cover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”. A new window will open with a set of op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0"/>
            <a:ext cx="9144000" cy="2057400"/>
            <a:chOff x="0" y="0"/>
            <a:chExt cx="9144000" cy="2057400"/>
          </a:xfrm>
        </p:grpSpPr>
        <p:sp>
          <p:nvSpPr>
            <p:cNvPr id="134" name=""/>
            <p:cNvSpPr/>
            <p:nvPr/>
          </p:nvSpPr>
          <p:spPr>
            <a:xfrm>
              <a:off x="0" y="914400"/>
              <a:ext cx="9144000" cy="380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94320" y="223920"/>
              <a:ext cx="3342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Narrow"/>
                </a:rPr>
                <a:t>Classification Modu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915400" y="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915400" y="45720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2952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17524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720" y="3322800"/>
            <a:ext cx="2765880" cy="2716200"/>
            <a:chOff x="72720" y="3322800"/>
            <a:chExt cx="2765880" cy="2716200"/>
          </a:xfrm>
        </p:grpSpPr>
        <p:graphicFrame>
          <p:nvGraphicFramePr>
            <p:cNvPr id="141" name=""/>
            <p:cNvGraphicFramePr/>
            <p:nvPr/>
          </p:nvGraphicFramePr>
          <p:xfrm>
            <a:off x="297000" y="3332520"/>
            <a:ext cx="2328840" cy="270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000" y="3332520"/>
                      <a:ext cx="2328840" cy="270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625840" y="3322800"/>
              <a:ext cx="212760" cy="1487520"/>
            </a:xfrm>
            <a:custGeom>
              <a:avLst/>
              <a:gdLst>
                <a:gd name="textAreaLeft" fmla="*/ 0 w 212760"/>
                <a:gd name="textAreaRight" fmla="*/ 76680 w 212760"/>
                <a:gd name="textAreaTop" fmla="*/ 38520 h 1487520"/>
                <a:gd name="textAreaBottom" fmla="*/ 1449000 h 148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25840" y="4810320"/>
              <a:ext cx="212760" cy="819360"/>
            </a:xfrm>
            <a:custGeom>
              <a:avLst/>
              <a:gdLst>
                <a:gd name="textAreaLeft" fmla="*/ 0 w 212760"/>
                <a:gd name="textAreaRight" fmla="*/ 76680 w 212760"/>
                <a:gd name="textAreaTop" fmla="*/ 21240 h 819360"/>
                <a:gd name="textAreaBottom" fmla="*/ 7981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25840" y="5629680"/>
              <a:ext cx="212760" cy="399960"/>
            </a:xfrm>
            <a:custGeom>
              <a:avLst/>
              <a:gdLst>
                <a:gd name="textAreaLeft" fmla="*/ 0 w 212760"/>
                <a:gd name="textAreaRight" fmla="*/ 76680 w 212760"/>
                <a:gd name="textAreaTop" fmla="*/ 10440 h 399960"/>
                <a:gd name="textAreaBottom" fmla="*/ 389520 h 39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720" y="3391200"/>
              <a:ext cx="319320" cy="14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3638520" y="2754360"/>
          <a:ext cx="5276880" cy="377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8520" y="2754360"/>
                    <a:ext cx="52768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9" name=""/>
          <p:cNvCxnSpPr/>
          <p:nvPr/>
        </p:nvCxnSpPr>
        <p:spPr>
          <a:xfrm flipH="1" rot="16200000">
            <a:off x="1896120" y="2897640"/>
            <a:ext cx="1308960" cy="2177280"/>
          </a:xfrm>
          <a:prstGeom prst="bentConnector4">
            <a:avLst>
              <a:gd name="adj1" fmla="val -17469"/>
              <a:gd name="adj2" fmla="val 76715"/>
            </a:avLst>
          </a:prstGeom>
          <a:ln w="3816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210360" y="4195800"/>
            <a:ext cx="2552760" cy="58068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classifier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Life Form is the first one to be determin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566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23920" y="1366920"/>
            <a:ext cx="853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Modular-Hierarchical Pha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assifiers in de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0"/>
            <a:ext cx="9144000" cy="2057400"/>
            <a:chOff x="0" y="0"/>
            <a:chExt cx="9144000" cy="2057400"/>
          </a:xfrm>
        </p:grpSpPr>
        <p:sp>
          <p:nvSpPr>
            <p:cNvPr id="155" name=""/>
            <p:cNvSpPr/>
            <p:nvPr/>
          </p:nvSpPr>
          <p:spPr>
            <a:xfrm>
              <a:off x="0" y="914400"/>
              <a:ext cx="9144000" cy="380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94320" y="223920"/>
              <a:ext cx="3342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Narrow"/>
                </a:rPr>
                <a:t>Classification Modu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15400" y="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915400" y="45720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12952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17524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68440" y="1820880"/>
          <a:ext cx="6465600" cy="46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8440" y="1820880"/>
                    <a:ext cx="64656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873000" y="2057400"/>
          <a:ext cx="6465960" cy="461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3000" y="2057400"/>
                    <a:ext cx="64659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120680" y="2239920"/>
          <a:ext cx="6465960" cy="461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20680" y="2239920"/>
                    <a:ext cx="64659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315200" y="2629080"/>
            <a:ext cx="1600200" cy="155412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Selection of an option of the classifier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Life Form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is made by clicking the appropriate but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82000" y="3092400"/>
            <a:ext cx="1447560" cy="131076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From the classifier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Life Form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, the option 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Trees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has been sel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34040" y="4162320"/>
            <a:ext cx="1371600" cy="131076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From the classifier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Cover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the option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Closed 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has been sel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62680" y="5535720"/>
            <a:ext cx="1970280" cy="106740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From the classifier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Height 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several options have become automatically disabl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566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23920" y="1366920"/>
            <a:ext cx="853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Modular-Hierarchical Pha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assifiers in de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0"/>
            <a:ext cx="9144000" cy="2057400"/>
            <a:chOff x="0" y="0"/>
            <a:chExt cx="9144000" cy="2057400"/>
          </a:xfrm>
        </p:grpSpPr>
        <p:sp>
          <p:nvSpPr>
            <p:cNvPr id="175" name=""/>
            <p:cNvSpPr/>
            <p:nvPr/>
          </p:nvSpPr>
          <p:spPr>
            <a:xfrm>
              <a:off x="0" y="914400"/>
              <a:ext cx="9144000" cy="380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94320" y="223920"/>
              <a:ext cx="3342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Narrow"/>
                </a:rPr>
                <a:t>Classification Modu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15400" y="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915400" y="45720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12952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7524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095880" y="2057400"/>
            <a:ext cx="1962360" cy="82404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classifier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Life Form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is used to illustrate some feat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85640" y="1820880"/>
          <a:ext cx="533880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40" y="1820880"/>
                    <a:ext cx="533880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223920" y="3363840"/>
            <a:ext cx="869148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options of the classifier are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mutually exclusive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 i.e. the user can select only one op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Furthermore, this particular classifier has a more general level comprising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Woody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Herbaceous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 Lichens/Mosses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 followed by a more specific level comprising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Trees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Shrubs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Forbs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Graminoids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Lichens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Mosses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re are also options that further modify a classifier option, the so-called </a:t>
            </a:r>
            <a:r>
              <a:rPr b="0" i="1" lang="en-GB" sz="2200" spc="-1" strike="noStrike">
                <a:solidFill>
                  <a:srgbClr val="339966"/>
                </a:solidFill>
                <a:latin typeface="Comic Sans MS"/>
              </a:rPr>
              <a:t>Modifiers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nd they immediately follow a classifier option (e.g. for Forbs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Rooted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Free-floating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in bright blu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566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23920" y="1366920"/>
            <a:ext cx="853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Modular-Hierarchical Pha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i="1" lang="en-GB" sz="2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difiers in de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0"/>
            <a:ext cx="9144000" cy="2057400"/>
            <a:chOff x="0" y="0"/>
            <a:chExt cx="9144000" cy="2057400"/>
          </a:xfrm>
        </p:grpSpPr>
        <p:sp>
          <p:nvSpPr>
            <p:cNvPr id="189" name=""/>
            <p:cNvSpPr/>
            <p:nvPr/>
          </p:nvSpPr>
          <p:spPr>
            <a:xfrm>
              <a:off x="0" y="914400"/>
              <a:ext cx="9144000" cy="380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94320" y="223920"/>
              <a:ext cx="3342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Narrow"/>
                </a:rPr>
                <a:t>Classification Modu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15400" y="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915400" y="45720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12952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17524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28600" y="2057400"/>
            <a:ext cx="86868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200" spc="-1" strike="noStrike">
                <a:solidFill>
                  <a:srgbClr val="339966"/>
                </a:solidFill>
                <a:latin typeface="Comic Sans MS"/>
              </a:rPr>
              <a:t>Modifiers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further modify a classifier option and they immediately follow a classifier op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selection of Modifiers is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optional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use of Modifiers will gener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separate Boolean Formula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distinct numerical code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that follows the classifier code and is separated from it by a hyph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change to the standard name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726080" y="4781520"/>
          <a:ext cx="4194000" cy="20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4781520"/>
                    <a:ext cx="419400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5497560" y="2890800"/>
            <a:ext cx="3265560" cy="131076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classifier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Leaf Phenology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is used to illustrate some feat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Selection of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Evergreen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in combination with the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Leaf Type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option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Broadleaved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disables the modifier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Mixed 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(lower lef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3920" y="2890800"/>
          <a:ext cx="4200480" cy="361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920" y="2890800"/>
                    <a:ext cx="420048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85840" y="4300560"/>
            <a:ext cx="3967200" cy="155412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selection of “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Semi-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” in the example generates a distinct Map Code separated by a hyphen from the classifier code (e.g. 4987); the modifier code is displayed separately (e.g. E3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n the standard name the term “Semi-” appears attached to the classifier option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Evergreen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rot="10800000">
            <a:off x="2323440" y="2972520"/>
            <a:ext cx="2402640" cy="2929680"/>
          </a:xfrm>
          <a:prstGeom prst="bentConnector4">
            <a:avLst>
              <a:gd name="adj1" fmla="val 6264"/>
              <a:gd name="adj2" fmla="val 108393"/>
            </a:avLst>
          </a:prstGeom>
          <a:ln w="38160">
            <a:solidFill>
              <a:srgbClr val="339966"/>
            </a:solidFill>
            <a:miter/>
            <a:tailEnd len="med" type="triangle" w="med"/>
          </a:ln>
        </p:spPr>
      </p:cxnSp>
      <p:graphicFrame>
        <p:nvGraphicFramePr>
          <p:cNvPr id="203" name=""/>
          <p:cNvGraphicFramePr/>
          <p:nvPr/>
        </p:nvGraphicFramePr>
        <p:xfrm>
          <a:off x="4726080" y="4781520"/>
          <a:ext cx="4189320" cy="20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6080" y="4781520"/>
                    <a:ext cx="41893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0" y="0"/>
          <a:ext cx="91566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23920" y="1366920"/>
            <a:ext cx="860904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to add User-defined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and cover classes can be “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cloned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” in order to add specific user-defined attributes to the standard class. A user may want to further define a classifier and/or attribute already used, or add a new attribute. A standard set of clone options is provid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0"/>
            <a:ext cx="9144000" cy="2057400"/>
            <a:chOff x="0" y="0"/>
            <a:chExt cx="9144000" cy="2057400"/>
          </a:xfrm>
        </p:grpSpPr>
        <p:sp>
          <p:nvSpPr>
            <p:cNvPr id="209" name=""/>
            <p:cNvSpPr/>
            <p:nvPr/>
          </p:nvSpPr>
          <p:spPr>
            <a:xfrm>
              <a:off x="0" y="914400"/>
              <a:ext cx="9144000" cy="380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48600" y="223920"/>
              <a:ext cx="2485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Narrow"/>
                </a:rPr>
                <a:t>Legend Modu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15400" y="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15400" y="45720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12952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17524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228600" y="3328920"/>
          <a:ext cx="3543480" cy="18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28920"/>
                    <a:ext cx="354348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248440" y="3638520"/>
          <a:ext cx="3666960" cy="27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48440" y="3638520"/>
                    <a:ext cx="36669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28600" y="5425920"/>
            <a:ext cx="3117960" cy="106740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Type of Clone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to be made is selected in this window. The result is a code added to the Boolean code (e.g. (1) in the example ab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81400" y="3959280"/>
            <a:ext cx="914400" cy="228420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user-defined 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ode is specified in this window as well as its mean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0" y="0"/>
          <a:ext cx="91566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23920" y="1366920"/>
            <a:ext cx="86090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dit and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Display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of a created Legend shows a standardized hierarchical order with the classes under their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Structural Domai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within the main land cover typ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0"/>
            <a:ext cx="9144000" cy="2057400"/>
            <a:chOff x="0" y="0"/>
            <a:chExt cx="9144000" cy="2057400"/>
          </a:xfrm>
        </p:grpSpPr>
        <p:sp>
          <p:nvSpPr>
            <p:cNvPr id="225" name=""/>
            <p:cNvSpPr/>
            <p:nvPr/>
          </p:nvSpPr>
          <p:spPr>
            <a:xfrm>
              <a:off x="0" y="914400"/>
              <a:ext cx="9144000" cy="380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48600" y="223920"/>
              <a:ext cx="2485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Narrow"/>
                </a:rPr>
                <a:t>Legend Modu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915400" y="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15400" y="45720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12952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1752480"/>
              <a:ext cx="228600" cy="30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3962520" y="2798640"/>
          <a:ext cx="4952880" cy="354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2798640"/>
                    <a:ext cx="4952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191120" y="3062160"/>
          <a:ext cx="4952880" cy="353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062160"/>
                    <a:ext cx="495288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28600" y="3494160"/>
            <a:ext cx="3733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Edit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llows the user to add a </a:t>
            </a:r>
            <a:r>
              <a:rPr b="0" i="1" lang="en-GB" sz="2200" spc="-1" strike="noStrike">
                <a:solidFill>
                  <a:srgbClr val="339966"/>
                </a:solidFill>
                <a:latin typeface="Comic Sans MS"/>
              </a:rPr>
              <a:t>User’s Label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that may be a common name or a name derived from an existing legen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Furthermore, </a:t>
            </a:r>
            <a:r>
              <a:rPr b="0" i="1" lang="en-GB" sz="2200" spc="-1" strike="noStrike">
                <a:solidFill>
                  <a:srgbClr val="339966"/>
                </a:solidFill>
                <a:latin typeface="Comic Sans MS"/>
              </a:rPr>
              <a:t>Description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an be used to add more information on the cla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18240" y="4521240"/>
            <a:ext cx="1397160" cy="1554120"/>
          </a:xfrm>
          <a:prstGeom prst="borderCallout3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n this example each class has a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User’s Label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that will also be shown in </a:t>
            </a: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08:15:22Z</dcterms:created>
  <dc:creator>Cherlet Michael</dc:creator>
  <dc:description/>
  <dc:language>en-US</dc:language>
  <cp:lastModifiedBy>etienne</cp:lastModifiedBy>
  <dcterms:modified xsi:type="dcterms:W3CDTF">2001-02-07T10:22:05Z</dcterms:modified>
  <cp:revision>1</cp:revision>
  <dc:subject/>
  <dc:title>No Slide Title</dc:title>
</cp:coreProperties>
</file>