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2825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28400" y="153828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28400" y="36878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28400" y="15382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23560" y="15382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28400" y="36878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23560" y="36878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28400" y="15382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62320" y="15382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96240" y="15382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28400" y="36878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162320" y="36878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996240" y="36878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28400" y="1538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28400" y="1538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28400" y="15382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23560" y="15382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47920" y="30492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8400" y="15382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23560" y="15382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28400" y="36878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8400" y="15382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23560" y="15382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23560" y="36878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8400" y="15382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23560" y="15382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28400" y="36878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1066680" cy="52578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816200" y="1676520"/>
            <a:ext cx="6931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858000"/>
            <a:ext cx="990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6400800"/>
          <a:ext cx="106668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400800"/>
                    <a:ext cx="10666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066680" y="6324480"/>
            <a:ext cx="7772400" cy="533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38680" y="6308640"/>
            <a:ext cx="3276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b61"/>
                </a:solidFill>
                <a:latin typeface="Arial"/>
              </a:rPr>
              <a:t>Space Applications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1b61"/>
                </a:solidFill>
                <a:latin typeface="Arial"/>
              </a:rPr>
              <a:t>Global Vegetation Monitoring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SAI_Logo" descr=""/>
          <p:cNvPicPr/>
          <p:nvPr/>
        </p:nvPicPr>
        <p:blipFill>
          <a:blip r:embed="rId5"/>
          <a:stretch/>
        </p:blipFill>
        <p:spPr>
          <a:xfrm>
            <a:off x="0" y="0"/>
            <a:ext cx="1109520" cy="998640"/>
          </a:xfrm>
          <a:prstGeom prst="rect">
            <a:avLst/>
          </a:prstGeom>
          <a:ln w="0">
            <a:noFill/>
          </a:ln>
        </p:spPr>
      </p:pic>
      <p:pic>
        <p:nvPicPr>
          <p:cNvPr id="8" name="CTEMPnsmailUI" descr=""/>
          <p:cNvPicPr/>
          <p:nvPr/>
        </p:nvPicPr>
        <p:blipFill>
          <a:blip r:embed="rId6"/>
          <a:stretch/>
        </p:blipFill>
        <p:spPr>
          <a:xfrm>
            <a:off x="8902800" y="6334200"/>
            <a:ext cx="1000080" cy="5238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328400" y="1538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cc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cc33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3" marL="1542960" indent="-17136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4" marL="2000160" indent="-17136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5" marL="2000160" indent="-17136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6" marL="2000160" indent="-17136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Lucida Sans"/>
              </a:rPr>
              <a:t>GLC 2000 Legend Workshop: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Lucida Sans"/>
              </a:rPr>
              <a:t>General conclusions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Lucida Sans"/>
              </a:rPr>
              <a:t>Alan S. Belward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WG Legends recommendations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28400" y="1538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cc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GLC partners use the FAO LCCS as a common means with which to establish the legend for their region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cc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the minimum set of classifiers agreed during the workshop be adopted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cc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these be developed into a minimum “target” legend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cc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this should be forwarded to the users for comment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Recommendations cont.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28400" y="1538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cc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comments from the users will be communicated to the WG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cc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the environmental attributes in LCCS should be checked by the WG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cc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a common set of environmental attributes should be agreed upon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cc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the WG Chair will ensure communication link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WG Methods and WG Validation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28400" y="1538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cc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Partners should confirm participation and nominate WG members (by end January 2001)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cc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WG methods will meet in Ispra before end March 2001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664920" indent="-2214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WG mandate will be to recommend a set of methods or at least a minimum set of guidelines and for ancillary dat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cc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WG validation will meet in Ispra before end 2001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GLC 2000 plenary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28400" y="1538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cc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Plenary should meet in Autumn 2001 in Antwerp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cc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resolve remaining partnership issue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cc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decide on level of use of high resolution data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Validation onl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nd Cover area estimates on a regional / national level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cc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formalise involvement of interpretation and validation partners (in country)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274320"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16:55:41Z</dcterms:created>
  <dc:creator>Apostolia Karamali</dc:creator>
  <dc:description/>
  <dc:language>en-US</dc:language>
  <cp:lastModifiedBy>etienne</cp:lastModifiedBy>
  <cp:lastPrinted>2000-01-17T10:06:36Z</cp:lastPrinted>
  <dcterms:modified xsi:type="dcterms:W3CDTF">2001-02-05T14:06:50Z</dcterms:modified>
  <cp:revision>241</cp:revision>
  <dc:subject/>
  <dc:title>No Slide Title</dc:title>
</cp:coreProperties>
</file>